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8E3-5BEB-43C3-A87D-A17915A3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E6E-CFFF-4A81-AE64-F106219D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9B3-A983-4B52-ABE7-0BCD4CF4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320-F5CF-4BE9-B4E4-AF15AA16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ED5-044D-4E17-85B8-5CCEE4FC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A75-DFF0-48C0-A38E-DB94B40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1B3-DB69-44D8-AF21-1DA752F5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9FA-B9CF-4079-8067-AD4570F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C13-8515-49DC-BC22-22D4DA21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968-ADD6-4C11-A64C-3FEEF61A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0E0-CD96-4738-AECC-D504420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96B-5618-46AE-B12C-0339296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B4BD-49AC-4449-A814-433CFB19D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C:/WINDOWS/Desktop/2%20A-B%202000-01/animazione%20storie%20cl.%201/presentaz.%20storie%20internet/home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hyperlink" Target="file:///C:/WINDOWS/Desktop/2%20A-B%202000-01/animazione%20storie%20cl.%201/presentaz.%20storie%20internet/home.ppt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hyperlink" Target="file:///C:/WINDOWS/Desktop/2%20A-B%202000-01/animazione%20storie%20cl.%201/presentaz.%20storie%20internet/home.ppt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hyperlink" Target="file:///C:/WINDOWS/Desktop/2%20A-B%202000-01/animazione%20storie%20cl.%201/presentaz.%20storie%20internet/home.ppt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endshow"/>
          </p:cNvPr>
          <p:cNvSpPr/>
          <p:nvPr/>
        </p:nvSpPr>
        <p:spPr>
          <a:xfrm>
            <a:off x="54864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28600" y="5791320"/>
            <a:ext cx="9628200" cy="129528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1442800">
            <a:off x="2590920" y="2286000"/>
            <a:ext cx="37144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L BRUCHINO 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3276720"/>
            <a:ext cx="31240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 FARFALLA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46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47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320" y="6172200"/>
            <a:ext cx="609480" cy="609480"/>
            <a:chOff x="76320" y="6172200"/>
            <a:chExt cx="609480" cy="609480"/>
          </a:xfrm>
        </p:grpSpPr>
        <p:grpSp>
          <p:nvGrpSpPr>
            <p:cNvPr id="65" name=""/>
            <p:cNvGrpSpPr/>
            <p:nvPr/>
          </p:nvGrpSpPr>
          <p:grpSpPr>
            <a:xfrm>
              <a:off x="76320" y="6172200"/>
              <a:ext cx="554040" cy="548280"/>
              <a:chOff x="76320" y="6172200"/>
              <a:chExt cx="554040" cy="548280"/>
            </a:xfrm>
          </p:grpSpPr>
          <p:sp>
            <p:nvSpPr>
              <p:cNvPr id="66" name=""/>
              <p:cNvSpPr/>
              <p:nvPr/>
            </p:nvSpPr>
            <p:spPr>
              <a:xfrm>
                <a:off x="253440" y="6362640"/>
                <a:ext cx="212040" cy="229320"/>
              </a:xfrm>
              <a:custGeom>
                <a:avLst/>
                <a:gdLst/>
                <a:ahLst/>
                <a:rect l="l" t="t" r="r" b="b"/>
                <a:pathLst>
                  <a:path w="378" h="314">
                    <a:moveTo>
                      <a:pt x="237" y="161"/>
                    </a:moveTo>
                    <a:cubicBezTo>
                      <a:pt x="214" y="91"/>
                      <a:pt x="243" y="155"/>
                      <a:pt x="190" y="102"/>
                    </a:cubicBezTo>
                    <a:cubicBezTo>
                      <a:pt x="123" y="35"/>
                      <a:pt x="219" y="92"/>
                      <a:pt x="119" y="43"/>
                    </a:cubicBezTo>
                    <a:cubicBezTo>
                      <a:pt x="115" y="31"/>
                      <a:pt x="119" y="11"/>
                      <a:pt x="107" y="8"/>
                    </a:cubicBezTo>
                    <a:cubicBezTo>
                      <a:pt x="80" y="0"/>
                      <a:pt x="0" y="7"/>
                      <a:pt x="48" y="55"/>
                    </a:cubicBezTo>
                    <a:cubicBezTo>
                      <a:pt x="57" y="64"/>
                      <a:pt x="72" y="62"/>
                      <a:pt x="84" y="66"/>
                    </a:cubicBezTo>
                    <a:cubicBezTo>
                      <a:pt x="111" y="108"/>
                      <a:pt x="131" y="121"/>
                      <a:pt x="178" y="137"/>
                    </a:cubicBezTo>
                    <a:cubicBezTo>
                      <a:pt x="264" y="268"/>
                      <a:pt x="132" y="78"/>
                      <a:pt x="237" y="196"/>
                    </a:cubicBezTo>
                    <a:cubicBezTo>
                      <a:pt x="309" y="277"/>
                      <a:pt x="267" y="264"/>
                      <a:pt x="366" y="314"/>
                    </a:cubicBezTo>
                    <a:cubicBezTo>
                      <a:pt x="370" y="302"/>
                      <a:pt x="378" y="291"/>
                      <a:pt x="378" y="278"/>
                    </a:cubicBezTo>
                    <a:cubicBezTo>
                      <a:pt x="378" y="204"/>
                      <a:pt x="348" y="210"/>
                      <a:pt x="296" y="184"/>
                    </a:cubicBezTo>
                    <a:cubicBezTo>
                      <a:pt x="241" y="157"/>
                      <a:pt x="281" y="161"/>
                      <a:pt x="237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6172200"/>
                <a:ext cx="554040" cy="548280"/>
              </a:xfrm>
              <a:custGeom>
                <a:avLst/>
                <a:gdLst/>
                <a:ahLst/>
                <a:rect l="l" t="t" r="r" b="b"/>
                <a:pathLst>
                  <a:path w="988" h="751">
                    <a:moveTo>
                      <a:pt x="506" y="433"/>
                    </a:moveTo>
                    <a:cubicBezTo>
                      <a:pt x="510" y="319"/>
                      <a:pt x="493" y="203"/>
                      <a:pt x="517" y="92"/>
                    </a:cubicBezTo>
                    <a:cubicBezTo>
                      <a:pt x="526" y="52"/>
                      <a:pt x="676" y="20"/>
                      <a:pt x="706" y="10"/>
                    </a:cubicBezTo>
                    <a:cubicBezTo>
                      <a:pt x="765" y="15"/>
                      <a:pt x="833" y="0"/>
                      <a:pt x="882" y="33"/>
                    </a:cubicBezTo>
                    <a:cubicBezTo>
                      <a:pt x="987" y="102"/>
                      <a:pt x="829" y="45"/>
                      <a:pt x="941" y="80"/>
                    </a:cubicBezTo>
                    <a:cubicBezTo>
                      <a:pt x="956" y="125"/>
                      <a:pt x="976" y="164"/>
                      <a:pt x="988" y="210"/>
                    </a:cubicBezTo>
                    <a:cubicBezTo>
                      <a:pt x="984" y="245"/>
                      <a:pt x="988" y="283"/>
                      <a:pt x="976" y="316"/>
                    </a:cubicBezTo>
                    <a:cubicBezTo>
                      <a:pt x="970" y="331"/>
                      <a:pt x="919" y="347"/>
                      <a:pt x="906" y="351"/>
                    </a:cubicBezTo>
                    <a:cubicBezTo>
                      <a:pt x="778" y="386"/>
                      <a:pt x="649" y="421"/>
                      <a:pt x="517" y="433"/>
                    </a:cubicBezTo>
                    <a:cubicBezTo>
                      <a:pt x="500" y="426"/>
                      <a:pt x="429" y="400"/>
                      <a:pt x="412" y="386"/>
                    </a:cubicBezTo>
                    <a:cubicBezTo>
                      <a:pt x="335" y="322"/>
                      <a:pt x="454" y="375"/>
                      <a:pt x="341" y="327"/>
                    </a:cubicBezTo>
                    <a:cubicBezTo>
                      <a:pt x="293" y="307"/>
                      <a:pt x="237" y="309"/>
                      <a:pt x="188" y="304"/>
                    </a:cubicBezTo>
                    <a:cubicBezTo>
                      <a:pt x="99" y="313"/>
                      <a:pt x="65" y="306"/>
                      <a:pt x="0" y="351"/>
                    </a:cubicBezTo>
                    <a:cubicBezTo>
                      <a:pt x="0" y="354"/>
                      <a:pt x="6" y="595"/>
                      <a:pt x="47" y="645"/>
                    </a:cubicBezTo>
                    <a:cubicBezTo>
                      <a:pt x="58" y="659"/>
                      <a:pt x="78" y="661"/>
                      <a:pt x="94" y="669"/>
                    </a:cubicBezTo>
                    <a:cubicBezTo>
                      <a:pt x="125" y="732"/>
                      <a:pt x="136" y="729"/>
                      <a:pt x="200" y="751"/>
                    </a:cubicBezTo>
                    <a:cubicBezTo>
                      <a:pt x="278" y="747"/>
                      <a:pt x="357" y="746"/>
                      <a:pt x="435" y="739"/>
                    </a:cubicBezTo>
                    <a:cubicBezTo>
                      <a:pt x="474" y="736"/>
                      <a:pt x="517" y="657"/>
                      <a:pt x="517" y="657"/>
                    </a:cubicBezTo>
                    <a:cubicBezTo>
                      <a:pt x="530" y="605"/>
                      <a:pt x="641" y="391"/>
                      <a:pt x="506" y="433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3440" y="6239160"/>
                <a:ext cx="102960" cy="277920"/>
              </a:xfrm>
              <a:custGeom>
                <a:avLst/>
                <a:gdLst/>
                <a:ahLst/>
                <a:rect l="l" t="t" r="r" b="b"/>
                <a:pathLst>
                  <a:path w="184" h="381">
                    <a:moveTo>
                      <a:pt x="178" y="330"/>
                    </a:moveTo>
                    <a:cubicBezTo>
                      <a:pt x="149" y="158"/>
                      <a:pt x="184" y="381"/>
                      <a:pt x="154" y="59"/>
                    </a:cubicBezTo>
                    <a:cubicBezTo>
                      <a:pt x="153" y="43"/>
                      <a:pt x="153" y="25"/>
                      <a:pt x="143" y="12"/>
                    </a:cubicBezTo>
                    <a:cubicBezTo>
                      <a:pt x="135" y="2"/>
                      <a:pt x="119" y="4"/>
                      <a:pt x="107" y="0"/>
                    </a:cubicBezTo>
                    <a:cubicBezTo>
                      <a:pt x="65" y="14"/>
                      <a:pt x="0" y="11"/>
                      <a:pt x="60" y="59"/>
                    </a:cubicBezTo>
                    <a:cubicBezTo>
                      <a:pt x="70" y="67"/>
                      <a:pt x="84" y="67"/>
                      <a:pt x="96" y="71"/>
                    </a:cubicBezTo>
                    <a:cubicBezTo>
                      <a:pt x="139" y="56"/>
                      <a:pt x="125" y="70"/>
                      <a:pt x="143" y="35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8360" y="6266160"/>
                <a:ext cx="154800" cy="187560"/>
              </a:xfrm>
              <a:custGeom>
                <a:avLst/>
                <a:gdLst/>
                <a:ahLst/>
                <a:rect l="l" t="t" r="r" b="b"/>
                <a:pathLst>
                  <a:path w="276" h="257">
                    <a:moveTo>
                      <a:pt x="276" y="257"/>
                    </a:moveTo>
                    <a:cubicBezTo>
                      <a:pt x="249" y="153"/>
                      <a:pt x="206" y="79"/>
                      <a:pt x="99" y="46"/>
                    </a:cubicBezTo>
                    <a:cubicBezTo>
                      <a:pt x="87" y="38"/>
                      <a:pt x="77" y="28"/>
                      <a:pt x="64" y="22"/>
                    </a:cubicBezTo>
                    <a:cubicBezTo>
                      <a:pt x="53" y="16"/>
                      <a:pt x="36" y="0"/>
                      <a:pt x="29" y="10"/>
                    </a:cubicBezTo>
                    <a:cubicBezTo>
                      <a:pt x="0" y="54"/>
                      <a:pt x="59" y="63"/>
                      <a:pt x="76" y="69"/>
                    </a:cubicBezTo>
                    <a:cubicBezTo>
                      <a:pt x="84" y="81"/>
                      <a:pt x="86" y="99"/>
                      <a:pt x="99" y="104"/>
                    </a:cubicBezTo>
                    <a:cubicBezTo>
                      <a:pt x="116" y="111"/>
                      <a:pt x="170" y="81"/>
                      <a:pt x="182" y="69"/>
                    </a:cubicBezTo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4640" y="6412320"/>
                <a:ext cx="81000" cy="8460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143" y="69"/>
                    </a:moveTo>
                    <a:cubicBezTo>
                      <a:pt x="119" y="0"/>
                      <a:pt x="93" y="22"/>
                      <a:pt x="25" y="34"/>
                    </a:cubicBezTo>
                    <a:cubicBezTo>
                      <a:pt x="11" y="75"/>
                      <a:pt x="0" y="71"/>
                      <a:pt x="49" y="93"/>
                    </a:cubicBezTo>
                    <a:cubicBezTo>
                      <a:pt x="71" y="103"/>
                      <a:pt x="119" y="116"/>
                      <a:pt x="119" y="116"/>
                    </a:cubicBezTo>
                    <a:cubicBezTo>
                      <a:pt x="145" y="78"/>
                      <a:pt x="143" y="95"/>
                      <a:pt x="143" y="69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4160" y="6540840"/>
                <a:ext cx="59400" cy="115920"/>
              </a:xfrm>
              <a:custGeom>
                <a:avLst/>
                <a:gdLst/>
                <a:ahLst/>
                <a:rect l="l" t="t" r="r" b="b"/>
                <a:pathLst>
                  <a:path w="106" h="159">
                    <a:moveTo>
                      <a:pt x="0" y="46"/>
                    </a:moveTo>
                    <a:cubicBezTo>
                      <a:pt x="52" y="11"/>
                      <a:pt x="84" y="0"/>
                      <a:pt x="106" y="70"/>
                    </a:cubicBezTo>
                    <a:cubicBezTo>
                      <a:pt x="102" y="89"/>
                      <a:pt x="105" y="111"/>
                      <a:pt x="95" y="128"/>
                    </a:cubicBezTo>
                    <a:cubicBezTo>
                      <a:pt x="88" y="141"/>
                      <a:pt x="72" y="159"/>
                      <a:pt x="59" y="152"/>
                    </a:cubicBezTo>
                    <a:cubicBezTo>
                      <a:pt x="34" y="138"/>
                      <a:pt x="28" y="105"/>
                      <a:pt x="12" y="81"/>
                    </a:cubicBezTo>
                    <a:cubicBezTo>
                      <a:pt x="5" y="71"/>
                      <a:pt x="0" y="46"/>
                      <a:pt x="0" y="46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8760" y="631584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43" y="82"/>
                    </a:moveTo>
                    <a:cubicBezTo>
                      <a:pt x="39" y="76"/>
                      <a:pt x="0" y="26"/>
                      <a:pt x="7" y="11"/>
                    </a:cubicBezTo>
                    <a:cubicBezTo>
                      <a:pt x="13" y="0"/>
                      <a:pt x="31" y="4"/>
                      <a:pt x="43" y="0"/>
                    </a:cubicBezTo>
                    <a:cubicBezTo>
                      <a:pt x="134" y="17"/>
                      <a:pt x="136" y="20"/>
                      <a:pt x="101" y="106"/>
                    </a:cubicBezTo>
                    <a:cubicBezTo>
                      <a:pt x="49" y="93"/>
                      <a:pt x="65" y="106"/>
                      <a:pt x="43" y="8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6920" y="637668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159" h="107">
                    <a:moveTo>
                      <a:pt x="76" y="71"/>
                    </a:moveTo>
                    <a:cubicBezTo>
                      <a:pt x="61" y="67"/>
                      <a:pt x="0" y="66"/>
                      <a:pt x="17" y="24"/>
                    </a:cubicBezTo>
                    <a:cubicBezTo>
                      <a:pt x="22" y="11"/>
                      <a:pt x="40" y="8"/>
                      <a:pt x="52" y="0"/>
                    </a:cubicBezTo>
                    <a:cubicBezTo>
                      <a:pt x="81" y="10"/>
                      <a:pt x="100" y="13"/>
                      <a:pt x="123" y="36"/>
                    </a:cubicBezTo>
                    <a:cubicBezTo>
                      <a:pt x="133" y="46"/>
                      <a:pt x="159" y="65"/>
                      <a:pt x="146" y="71"/>
                    </a:cubicBezTo>
                    <a:cubicBezTo>
                      <a:pt x="72" y="107"/>
                      <a:pt x="76" y="27"/>
                      <a:pt x="76" y="71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39200" y="621144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 rot="10800000">
                <a:off x="141480" y="652500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76320" y="6172200"/>
              <a:ext cx="609480" cy="60948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924680" y="6321600"/>
            <a:ext cx="914400" cy="533160"/>
            <a:chOff x="7924680" y="6321600"/>
            <a:chExt cx="914400" cy="533160"/>
          </a:xfrm>
        </p:grpSpPr>
        <p:grpSp>
          <p:nvGrpSpPr>
            <p:cNvPr id="79" name=""/>
            <p:cNvGrpSpPr/>
            <p:nvPr/>
          </p:nvGrpSpPr>
          <p:grpSpPr>
            <a:xfrm>
              <a:off x="7924680" y="6387840"/>
              <a:ext cx="846720" cy="333360"/>
              <a:chOff x="7924680" y="6387840"/>
              <a:chExt cx="846720" cy="3333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7924680" y="6387840"/>
                <a:ext cx="846720" cy="333360"/>
                <a:chOff x="7924680" y="6387840"/>
                <a:chExt cx="846720" cy="333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847692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7924680" y="6387840"/>
                  <a:ext cx="693000" cy="333360"/>
                  <a:chOff x="7924680" y="6387840"/>
                  <a:chExt cx="693000" cy="33336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840492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3472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21448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15148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4888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92468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9" name=""/>
              <p:cNvSpPr/>
              <p:nvPr/>
            </p:nvSpPr>
            <p:spPr>
              <a:xfrm>
                <a:off x="863460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>
              <a:hlinkClick r:id="" action="ppaction://hlinkshowjump?jump=nextslide"/>
            </p:cNvPr>
            <p:cNvSpPr/>
            <p:nvPr/>
          </p:nvSpPr>
          <p:spPr>
            <a:xfrm>
              <a:off x="792468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228600"/>
            <a:ext cx="1955880" cy="1887480"/>
            <a:chOff x="685800" y="228600"/>
            <a:chExt cx="1955880" cy="1887480"/>
          </a:xfrm>
        </p:grpSpPr>
        <p:sp>
          <p:nvSpPr>
            <p:cNvPr id="94" name=""/>
            <p:cNvSpPr/>
            <p:nvPr/>
          </p:nvSpPr>
          <p:spPr>
            <a:xfrm>
              <a:off x="990720" y="533520"/>
              <a:ext cx="117612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66840" y="60804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0880" y="1274760"/>
              <a:ext cx="40140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73360" y="168588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1920" y="155412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9560" y="116208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22860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60600" y="23004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1000" y="1162080"/>
              <a:ext cx="803160" cy="33660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762120"/>
              <a:ext cx="326880" cy="35244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876240"/>
              <a:ext cx="279720" cy="10008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84360" y="60948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43040" y="75096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1752120" y="838080"/>
              <a:ext cx="763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952880" y="22860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/>
          </p:cNvPr>
          <p:cNvSpPr/>
          <p:nvPr/>
        </p:nvSpPr>
        <p:spPr>
          <a:xfrm>
            <a:off x="5410080" y="6095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848720" y="624528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3733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781680" y="1981080"/>
            <a:ext cx="1568520" cy="1192320"/>
            <a:chOff x="6781680" y="1981080"/>
            <a:chExt cx="1568520" cy="1192320"/>
          </a:xfrm>
        </p:grpSpPr>
        <p:sp>
          <p:nvSpPr>
            <p:cNvPr id="114" name=""/>
            <p:cNvSpPr/>
            <p:nvPr/>
          </p:nvSpPr>
          <p:spPr>
            <a:xfrm>
              <a:off x="7283520" y="239544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198108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83520" y="212724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8000" y="218592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6920" y="250344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84960" y="278280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34480" y="229392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2720" y="242568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08760" y="206676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10800000">
              <a:off x="6967440" y="275112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85800" y="228600"/>
            <a:ext cx="1955880" cy="1887480"/>
            <a:chOff x="685800" y="228600"/>
            <a:chExt cx="1955880" cy="1887480"/>
          </a:xfrm>
        </p:grpSpPr>
        <p:sp>
          <p:nvSpPr>
            <p:cNvPr id="125" name=""/>
            <p:cNvSpPr/>
            <p:nvPr/>
          </p:nvSpPr>
          <p:spPr>
            <a:xfrm>
              <a:off x="990720" y="533520"/>
              <a:ext cx="117612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66840" y="60804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90880" y="1274760"/>
              <a:ext cx="40140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3360" y="168588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1920" y="155412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560" y="116208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22860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0600" y="23004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1000" y="1162080"/>
              <a:ext cx="803160" cy="33660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762120"/>
              <a:ext cx="326880" cy="35244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4280" y="876240"/>
              <a:ext cx="279720" cy="10008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4360" y="60948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3040" y="75096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752120" y="838080"/>
              <a:ext cx="763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9080" y="3828960"/>
            <a:ext cx="179208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152280" y="4648320"/>
            <a:ext cx="9676800" cy="2361600"/>
            <a:chOff x="-152280" y="4648320"/>
            <a:chExt cx="9676800" cy="2361600"/>
          </a:xfrm>
        </p:grpSpPr>
        <p:sp>
          <p:nvSpPr>
            <p:cNvPr id="142" name=""/>
            <p:cNvSpPr/>
            <p:nvPr/>
          </p:nvSpPr>
          <p:spPr>
            <a:xfrm>
              <a:off x="-152280" y="4648320"/>
              <a:ext cx="9676800" cy="2361600"/>
            </a:xfrm>
            <a:custGeom>
              <a:avLst/>
              <a:gdLst/>
              <a:ahLst/>
              <a:rect l="l" t="t" r="r" b="b"/>
              <a:pathLst>
                <a:path w="5940" h="1089">
                  <a:moveTo>
                    <a:pt x="47" y="118"/>
                  </a:moveTo>
                  <a:cubicBezTo>
                    <a:pt x="138" y="95"/>
                    <a:pt x="215" y="71"/>
                    <a:pt x="306" y="59"/>
                  </a:cubicBezTo>
                  <a:cubicBezTo>
                    <a:pt x="526" y="63"/>
                    <a:pt x="745" y="64"/>
                    <a:pt x="965" y="70"/>
                  </a:cubicBezTo>
                  <a:cubicBezTo>
                    <a:pt x="1098" y="74"/>
                    <a:pt x="1106" y="83"/>
                    <a:pt x="1212" y="59"/>
                  </a:cubicBezTo>
                  <a:cubicBezTo>
                    <a:pt x="1244" y="52"/>
                    <a:pt x="1306" y="35"/>
                    <a:pt x="1306" y="35"/>
                  </a:cubicBezTo>
                  <a:cubicBezTo>
                    <a:pt x="1592" y="44"/>
                    <a:pt x="1868" y="42"/>
                    <a:pt x="2153" y="23"/>
                  </a:cubicBezTo>
                  <a:cubicBezTo>
                    <a:pt x="2505" y="29"/>
                    <a:pt x="2737" y="24"/>
                    <a:pt x="3047" y="59"/>
                  </a:cubicBezTo>
                  <a:cubicBezTo>
                    <a:pt x="3156" y="84"/>
                    <a:pt x="3078" y="68"/>
                    <a:pt x="3282" y="94"/>
                  </a:cubicBezTo>
                  <a:cubicBezTo>
                    <a:pt x="3358" y="104"/>
                    <a:pt x="3430" y="130"/>
                    <a:pt x="3506" y="141"/>
                  </a:cubicBezTo>
                  <a:cubicBezTo>
                    <a:pt x="3646" y="133"/>
                    <a:pt x="3715" y="149"/>
                    <a:pt x="3823" y="94"/>
                  </a:cubicBezTo>
                  <a:cubicBezTo>
                    <a:pt x="3831" y="78"/>
                    <a:pt x="3832" y="56"/>
                    <a:pt x="3847" y="47"/>
                  </a:cubicBezTo>
                  <a:cubicBezTo>
                    <a:pt x="3882" y="26"/>
                    <a:pt x="4005" y="7"/>
                    <a:pt x="4047" y="0"/>
                  </a:cubicBezTo>
                  <a:cubicBezTo>
                    <a:pt x="4118" y="9"/>
                    <a:pt x="4188" y="17"/>
                    <a:pt x="4258" y="35"/>
                  </a:cubicBezTo>
                  <a:cubicBezTo>
                    <a:pt x="4411" y="13"/>
                    <a:pt x="4564" y="25"/>
                    <a:pt x="4717" y="47"/>
                  </a:cubicBezTo>
                  <a:cubicBezTo>
                    <a:pt x="4804" y="90"/>
                    <a:pt x="4730" y="60"/>
                    <a:pt x="4870" y="82"/>
                  </a:cubicBezTo>
                  <a:cubicBezTo>
                    <a:pt x="4951" y="95"/>
                    <a:pt x="5022" y="120"/>
                    <a:pt x="5105" y="129"/>
                  </a:cubicBezTo>
                  <a:cubicBezTo>
                    <a:pt x="5175" y="147"/>
                    <a:pt x="5250" y="161"/>
                    <a:pt x="5317" y="188"/>
                  </a:cubicBezTo>
                  <a:cubicBezTo>
                    <a:pt x="5333" y="195"/>
                    <a:pt x="5347" y="207"/>
                    <a:pt x="5364" y="212"/>
                  </a:cubicBezTo>
                  <a:cubicBezTo>
                    <a:pt x="5440" y="235"/>
                    <a:pt x="5419" y="211"/>
                    <a:pt x="5482" y="235"/>
                  </a:cubicBezTo>
                  <a:cubicBezTo>
                    <a:pt x="5498" y="241"/>
                    <a:pt x="5512" y="253"/>
                    <a:pt x="5529" y="259"/>
                  </a:cubicBezTo>
                  <a:cubicBezTo>
                    <a:pt x="5575" y="274"/>
                    <a:pt x="5623" y="282"/>
                    <a:pt x="5670" y="294"/>
                  </a:cubicBezTo>
                  <a:cubicBezTo>
                    <a:pt x="5686" y="298"/>
                    <a:pt x="5717" y="306"/>
                    <a:pt x="5717" y="306"/>
                  </a:cubicBezTo>
                  <a:cubicBezTo>
                    <a:pt x="5725" y="318"/>
                    <a:pt x="5729" y="333"/>
                    <a:pt x="5741" y="341"/>
                  </a:cubicBezTo>
                  <a:cubicBezTo>
                    <a:pt x="5754" y="350"/>
                    <a:pt x="5773" y="347"/>
                    <a:pt x="5788" y="353"/>
                  </a:cubicBezTo>
                  <a:cubicBezTo>
                    <a:pt x="5825" y="367"/>
                    <a:pt x="5839" y="379"/>
                    <a:pt x="5870" y="400"/>
                  </a:cubicBezTo>
                  <a:cubicBezTo>
                    <a:pt x="5940" y="507"/>
                    <a:pt x="5905" y="716"/>
                    <a:pt x="5835" y="823"/>
                  </a:cubicBezTo>
                  <a:cubicBezTo>
                    <a:pt x="5831" y="886"/>
                    <a:pt x="5851" y="956"/>
                    <a:pt x="5823" y="1012"/>
                  </a:cubicBezTo>
                  <a:cubicBezTo>
                    <a:pt x="5809" y="1041"/>
                    <a:pt x="5761" y="1033"/>
                    <a:pt x="5729" y="1035"/>
                  </a:cubicBezTo>
                  <a:cubicBezTo>
                    <a:pt x="5670" y="1039"/>
                    <a:pt x="5611" y="1044"/>
                    <a:pt x="5552" y="1047"/>
                  </a:cubicBezTo>
                  <a:cubicBezTo>
                    <a:pt x="5458" y="1052"/>
                    <a:pt x="5364" y="1055"/>
                    <a:pt x="5270" y="1059"/>
                  </a:cubicBezTo>
                  <a:cubicBezTo>
                    <a:pt x="5031" y="1089"/>
                    <a:pt x="4783" y="1061"/>
                    <a:pt x="4541" y="1071"/>
                  </a:cubicBezTo>
                  <a:cubicBezTo>
                    <a:pt x="3812" y="1041"/>
                    <a:pt x="4149" y="1041"/>
                    <a:pt x="3529" y="1059"/>
                  </a:cubicBezTo>
                  <a:cubicBezTo>
                    <a:pt x="2212" y="1053"/>
                    <a:pt x="1223" y="1038"/>
                    <a:pt x="0" y="1000"/>
                  </a:cubicBezTo>
                  <a:cubicBezTo>
                    <a:pt x="4" y="808"/>
                    <a:pt x="12" y="423"/>
                    <a:pt x="12" y="423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134280" y="4841280"/>
              <a:ext cx="112320" cy="979920"/>
            </a:xfrm>
            <a:custGeom>
              <a:avLst/>
              <a:gdLst/>
              <a:ahLst/>
              <a:rect l="l" t="t" r="r" b="b"/>
              <a:pathLst>
                <a:path w="60" h="459">
                  <a:moveTo>
                    <a:pt x="4" y="459"/>
                  </a:moveTo>
                  <a:cubicBezTo>
                    <a:pt x="8" y="334"/>
                    <a:pt x="0" y="207"/>
                    <a:pt x="15" y="83"/>
                  </a:cubicBezTo>
                  <a:cubicBezTo>
                    <a:pt x="17" y="70"/>
                    <a:pt x="46" y="83"/>
                    <a:pt x="51" y="71"/>
                  </a:cubicBezTo>
                  <a:cubicBezTo>
                    <a:pt x="60" y="49"/>
                    <a:pt x="51" y="24"/>
                    <a:pt x="51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146160" y="4146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029200"/>
            <a:ext cx="51814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n bruco strisciava fra l’erb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5486400"/>
            <a:ext cx="533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na farfalla volteggiava nel ci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4280" y="382896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223920" y="5846760"/>
            <a:ext cx="9552240" cy="121428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3600" y="4343400"/>
            <a:ext cx="1363680" cy="520560"/>
            <a:chOff x="5943600" y="4343400"/>
            <a:chExt cx="1363680" cy="520560"/>
          </a:xfrm>
        </p:grpSpPr>
        <p:grpSp>
          <p:nvGrpSpPr>
            <p:cNvPr id="150" name=""/>
            <p:cNvGrpSpPr/>
            <p:nvPr/>
          </p:nvGrpSpPr>
          <p:grpSpPr>
            <a:xfrm>
              <a:off x="5943600" y="4343400"/>
              <a:ext cx="1363680" cy="520560"/>
              <a:chOff x="5943600" y="4343400"/>
              <a:chExt cx="1363680" cy="520560"/>
            </a:xfrm>
          </p:grpSpPr>
          <p:sp>
            <p:nvSpPr>
              <p:cNvPr id="151" name=""/>
              <p:cNvSpPr/>
              <p:nvPr/>
            </p:nvSpPr>
            <p:spPr>
              <a:xfrm>
                <a:off x="6832800" y="4370400"/>
                <a:ext cx="474480" cy="30924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2" y="195"/>
                    </a:moveTo>
                    <a:cubicBezTo>
                      <a:pt x="101" y="185"/>
                      <a:pt x="70" y="182"/>
                      <a:pt x="21" y="148"/>
                    </a:cubicBezTo>
                    <a:cubicBezTo>
                      <a:pt x="0" y="87"/>
                      <a:pt x="2" y="67"/>
                      <a:pt x="56" y="31"/>
                    </a:cubicBezTo>
                    <a:cubicBezTo>
                      <a:pt x="299" y="47"/>
                      <a:pt x="176" y="0"/>
                      <a:pt x="256" y="125"/>
                    </a:cubicBezTo>
                    <a:cubicBezTo>
                      <a:pt x="248" y="150"/>
                      <a:pt x="247" y="181"/>
                      <a:pt x="209" y="184"/>
                    </a:cubicBezTo>
                    <a:cubicBezTo>
                      <a:pt x="135" y="190"/>
                      <a:pt x="41" y="147"/>
                      <a:pt x="162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943600" y="4343400"/>
                <a:ext cx="1116000" cy="520560"/>
                <a:chOff x="5943600" y="4343400"/>
                <a:chExt cx="1116000" cy="520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716880" y="4343400"/>
                  <a:ext cx="342720" cy="374400"/>
                </a:xfrm>
                <a:custGeom>
                  <a:avLst/>
                  <a:gdLst/>
                  <a:ahLst/>
                  <a:rect l="l" t="t" r="r" b="b"/>
                  <a:pathLst>
                    <a:path w="216" h="236">
                      <a:moveTo>
                        <a:pt x="188" y="106"/>
                      </a:moveTo>
                      <a:cubicBezTo>
                        <a:pt x="175" y="49"/>
                        <a:pt x="187" y="31"/>
                        <a:pt x="129" y="12"/>
                      </a:cubicBezTo>
                      <a:cubicBezTo>
                        <a:pt x="119" y="13"/>
                        <a:pt x="0" y="0"/>
                        <a:pt x="0" y="59"/>
                      </a:cubicBezTo>
                      <a:cubicBezTo>
                        <a:pt x="0" y="136"/>
                        <a:pt x="64" y="176"/>
                        <a:pt x="118" y="212"/>
                      </a:cubicBezTo>
                      <a:cubicBezTo>
                        <a:pt x="130" y="220"/>
                        <a:pt x="153" y="236"/>
                        <a:pt x="153" y="236"/>
                      </a:cubicBezTo>
                      <a:cubicBezTo>
                        <a:pt x="165" y="232"/>
                        <a:pt x="179" y="233"/>
                        <a:pt x="188" y="224"/>
                      </a:cubicBezTo>
                      <a:cubicBezTo>
                        <a:pt x="216" y="196"/>
                        <a:pt x="188" y="140"/>
                        <a:pt x="188" y="106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04200" y="4357440"/>
                  <a:ext cx="298440" cy="365400"/>
                </a:xfrm>
                <a:custGeom>
                  <a:avLst/>
                  <a:gdLst/>
                  <a:ahLst/>
                  <a:rect l="l" t="t" r="r" b="b"/>
                  <a:pathLst>
                    <a:path w="188" h="230">
                      <a:moveTo>
                        <a:pt x="130" y="74"/>
                      </a:moveTo>
                      <a:cubicBezTo>
                        <a:pt x="126" y="58"/>
                        <a:pt x="133" y="32"/>
                        <a:pt x="118" y="27"/>
                      </a:cubicBezTo>
                      <a:cubicBezTo>
                        <a:pt x="38" y="0"/>
                        <a:pt x="29" y="31"/>
                        <a:pt x="0" y="74"/>
                      </a:cubicBezTo>
                      <a:cubicBezTo>
                        <a:pt x="13" y="137"/>
                        <a:pt x="19" y="156"/>
                        <a:pt x="71" y="192"/>
                      </a:cubicBezTo>
                      <a:cubicBezTo>
                        <a:pt x="79" y="204"/>
                        <a:pt x="82" y="223"/>
                        <a:pt x="95" y="227"/>
                      </a:cubicBezTo>
                      <a:cubicBezTo>
                        <a:pt x="103" y="230"/>
                        <a:pt x="166" y="207"/>
                        <a:pt x="177" y="203"/>
                      </a:cubicBezTo>
                      <a:cubicBezTo>
                        <a:pt x="151" y="78"/>
                        <a:pt x="188" y="104"/>
                        <a:pt x="130" y="74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410520" y="4365360"/>
                  <a:ext cx="393480" cy="333360"/>
                </a:xfrm>
                <a:custGeom>
                  <a:avLst/>
                  <a:gdLst/>
                  <a:ahLst/>
                  <a:rect l="l" t="t" r="r" b="b"/>
                  <a:pathLst>
                    <a:path w="248" h="210">
                      <a:moveTo>
                        <a:pt x="193" y="92"/>
                      </a:moveTo>
                      <a:cubicBezTo>
                        <a:pt x="139" y="12"/>
                        <a:pt x="173" y="31"/>
                        <a:pt x="111" y="10"/>
                      </a:cubicBezTo>
                      <a:cubicBezTo>
                        <a:pt x="80" y="14"/>
                        <a:pt x="39" y="0"/>
                        <a:pt x="17" y="22"/>
                      </a:cubicBezTo>
                      <a:cubicBezTo>
                        <a:pt x="0" y="39"/>
                        <a:pt x="23" y="69"/>
                        <a:pt x="28" y="92"/>
                      </a:cubicBezTo>
                      <a:cubicBezTo>
                        <a:pt x="44" y="167"/>
                        <a:pt x="113" y="193"/>
                        <a:pt x="181" y="210"/>
                      </a:cubicBezTo>
                      <a:cubicBezTo>
                        <a:pt x="193" y="206"/>
                        <a:pt x="207" y="206"/>
                        <a:pt x="217" y="198"/>
                      </a:cubicBezTo>
                      <a:cubicBezTo>
                        <a:pt x="248" y="174"/>
                        <a:pt x="248" y="152"/>
                        <a:pt x="217" y="128"/>
                      </a:cubicBezTo>
                      <a:cubicBezTo>
                        <a:pt x="207" y="120"/>
                        <a:pt x="188" y="127"/>
                        <a:pt x="181" y="116"/>
                      </a:cubicBezTo>
                      <a:cubicBezTo>
                        <a:pt x="176" y="109"/>
                        <a:pt x="189" y="100"/>
                        <a:pt x="193" y="92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309000" y="4433760"/>
                  <a:ext cx="322200" cy="320760"/>
                </a:xfrm>
                <a:custGeom>
                  <a:avLst/>
                  <a:gdLst/>
                  <a:ahLst/>
                  <a:rect l="l" t="t" r="r" b="b"/>
                  <a:pathLst>
                    <a:path w="203" h="202">
                      <a:moveTo>
                        <a:pt x="139" y="38"/>
                      </a:moveTo>
                      <a:cubicBezTo>
                        <a:pt x="56" y="9"/>
                        <a:pt x="89" y="0"/>
                        <a:pt x="34" y="38"/>
                      </a:cubicBezTo>
                      <a:cubicBezTo>
                        <a:pt x="26" y="50"/>
                        <a:pt x="11" y="59"/>
                        <a:pt x="10" y="73"/>
                      </a:cubicBezTo>
                      <a:cubicBezTo>
                        <a:pt x="0" y="172"/>
                        <a:pt x="55" y="180"/>
                        <a:pt x="128" y="202"/>
                      </a:cubicBezTo>
                      <a:cubicBezTo>
                        <a:pt x="147" y="198"/>
                        <a:pt x="170" y="202"/>
                        <a:pt x="186" y="191"/>
                      </a:cubicBezTo>
                      <a:cubicBezTo>
                        <a:pt x="197" y="184"/>
                        <a:pt x="198" y="168"/>
                        <a:pt x="198" y="155"/>
                      </a:cubicBezTo>
                      <a:cubicBezTo>
                        <a:pt x="198" y="107"/>
                        <a:pt x="203" y="38"/>
                        <a:pt x="139" y="38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143760" y="4475160"/>
                  <a:ext cx="263520" cy="333360"/>
                </a:xfrm>
                <a:custGeom>
                  <a:avLst/>
                  <a:gdLst/>
                  <a:ahLst/>
                  <a:rect l="l" t="t" r="r" b="b"/>
                  <a:pathLst>
                    <a:path w="208" h="276">
                      <a:moveTo>
                        <a:pt x="185" y="70"/>
                      </a:moveTo>
                      <a:cubicBezTo>
                        <a:pt x="169" y="62"/>
                        <a:pt x="153" y="56"/>
                        <a:pt x="138" y="47"/>
                      </a:cubicBezTo>
                      <a:cubicBezTo>
                        <a:pt x="114" y="33"/>
                        <a:pt x="67" y="0"/>
                        <a:pt x="67" y="0"/>
                      </a:cubicBezTo>
                      <a:cubicBezTo>
                        <a:pt x="0" y="44"/>
                        <a:pt x="18" y="80"/>
                        <a:pt x="32" y="165"/>
                      </a:cubicBezTo>
                      <a:cubicBezTo>
                        <a:pt x="34" y="177"/>
                        <a:pt x="34" y="191"/>
                        <a:pt x="43" y="200"/>
                      </a:cubicBezTo>
                      <a:cubicBezTo>
                        <a:pt x="56" y="212"/>
                        <a:pt x="75" y="215"/>
                        <a:pt x="91" y="223"/>
                      </a:cubicBezTo>
                      <a:cubicBezTo>
                        <a:pt x="121" y="269"/>
                        <a:pt x="133" y="276"/>
                        <a:pt x="185" y="259"/>
                      </a:cubicBezTo>
                      <a:cubicBezTo>
                        <a:pt x="192" y="235"/>
                        <a:pt x="208" y="213"/>
                        <a:pt x="208" y="188"/>
                      </a:cubicBezTo>
                      <a:cubicBezTo>
                        <a:pt x="208" y="145"/>
                        <a:pt x="185" y="111"/>
                        <a:pt x="185" y="70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943600" y="4530600"/>
                  <a:ext cx="403200" cy="333360"/>
                </a:xfrm>
                <a:custGeom>
                  <a:avLst/>
                  <a:gdLst/>
                  <a:ahLst/>
                  <a:rect l="l" t="t" r="r" b="b"/>
                  <a:pathLst>
                    <a:path w="254" h="210">
                      <a:moveTo>
                        <a:pt x="193" y="47"/>
                      </a:moveTo>
                      <a:cubicBezTo>
                        <a:pt x="181" y="39"/>
                        <a:pt x="171" y="30"/>
                        <a:pt x="158" y="24"/>
                      </a:cubicBezTo>
                      <a:cubicBezTo>
                        <a:pt x="135" y="14"/>
                        <a:pt x="87" y="0"/>
                        <a:pt x="87" y="0"/>
                      </a:cubicBezTo>
                      <a:cubicBezTo>
                        <a:pt x="0" y="30"/>
                        <a:pt x="41" y="119"/>
                        <a:pt x="87" y="165"/>
                      </a:cubicBezTo>
                      <a:cubicBezTo>
                        <a:pt x="109" y="187"/>
                        <a:pt x="130" y="191"/>
                        <a:pt x="158" y="200"/>
                      </a:cubicBezTo>
                      <a:cubicBezTo>
                        <a:pt x="185" y="196"/>
                        <a:pt x="224" y="210"/>
                        <a:pt x="240" y="188"/>
                      </a:cubicBezTo>
                      <a:cubicBezTo>
                        <a:pt x="254" y="168"/>
                        <a:pt x="222" y="142"/>
                        <a:pt x="217" y="118"/>
                      </a:cubicBezTo>
                      <a:cubicBezTo>
                        <a:pt x="213" y="98"/>
                        <a:pt x="211" y="78"/>
                        <a:pt x="205" y="59"/>
                      </a:cubicBezTo>
                      <a:cubicBezTo>
                        <a:pt x="203" y="54"/>
                        <a:pt x="197" y="51"/>
                        <a:pt x="193" y="47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7086600" y="4495680"/>
              <a:ext cx="75960" cy="7632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3809880"/>
            <a:ext cx="758196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2860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16680"/>
            <a:ext cx="685800" cy="838080"/>
            <a:chOff x="0" y="6016680"/>
            <a:chExt cx="685800" cy="838080"/>
          </a:xfrm>
        </p:grpSpPr>
        <p:grpSp>
          <p:nvGrpSpPr>
            <p:cNvPr id="163" name=""/>
            <p:cNvGrpSpPr/>
            <p:nvPr/>
          </p:nvGrpSpPr>
          <p:grpSpPr>
            <a:xfrm>
              <a:off x="76320" y="6168960"/>
              <a:ext cx="609480" cy="609840"/>
              <a:chOff x="76320" y="6168960"/>
              <a:chExt cx="609480" cy="6098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76320" y="6168960"/>
                <a:ext cx="554040" cy="548640"/>
                <a:chOff x="76320" y="6168960"/>
                <a:chExt cx="554040" cy="548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53440" y="6359400"/>
                  <a:ext cx="212040" cy="229320"/>
                </a:xfrm>
                <a:custGeom>
                  <a:avLst/>
                  <a:gdLst/>
                  <a:ahLst/>
                  <a:rect l="l" t="t" r="r" b="b"/>
                  <a:pathLst>
                    <a:path w="378" h="314">
                      <a:moveTo>
                        <a:pt x="237" y="161"/>
                      </a:moveTo>
                      <a:cubicBezTo>
                        <a:pt x="214" y="91"/>
                        <a:pt x="243" y="155"/>
                        <a:pt x="190" y="102"/>
                      </a:cubicBezTo>
                      <a:cubicBezTo>
                        <a:pt x="123" y="35"/>
                        <a:pt x="219" y="92"/>
                        <a:pt x="119" y="43"/>
                      </a:cubicBezTo>
                      <a:cubicBezTo>
                        <a:pt x="115" y="31"/>
                        <a:pt x="119" y="11"/>
                        <a:pt x="107" y="8"/>
                      </a:cubicBezTo>
                      <a:cubicBezTo>
                        <a:pt x="80" y="0"/>
                        <a:pt x="0" y="7"/>
                        <a:pt x="48" y="55"/>
                      </a:cubicBezTo>
                      <a:cubicBezTo>
                        <a:pt x="57" y="64"/>
                        <a:pt x="72" y="62"/>
                        <a:pt x="84" y="66"/>
                      </a:cubicBezTo>
                      <a:cubicBezTo>
                        <a:pt x="111" y="108"/>
                        <a:pt x="131" y="121"/>
                        <a:pt x="178" y="137"/>
                      </a:cubicBezTo>
                      <a:cubicBezTo>
                        <a:pt x="264" y="268"/>
                        <a:pt x="132" y="78"/>
                        <a:pt x="237" y="196"/>
                      </a:cubicBezTo>
                      <a:cubicBezTo>
                        <a:pt x="309" y="277"/>
                        <a:pt x="267" y="264"/>
                        <a:pt x="366" y="314"/>
                      </a:cubicBezTo>
                      <a:cubicBezTo>
                        <a:pt x="370" y="302"/>
                        <a:pt x="378" y="291"/>
                        <a:pt x="378" y="278"/>
                      </a:cubicBezTo>
                      <a:cubicBezTo>
                        <a:pt x="378" y="204"/>
                        <a:pt x="348" y="210"/>
                        <a:pt x="296" y="184"/>
                      </a:cubicBezTo>
                      <a:cubicBezTo>
                        <a:pt x="241" y="157"/>
                        <a:pt x="281" y="161"/>
                        <a:pt x="237" y="16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320" y="6168960"/>
                  <a:ext cx="554040" cy="548640"/>
                </a:xfrm>
                <a:custGeom>
                  <a:avLst/>
                  <a:gdLst/>
                  <a:ahLst/>
                  <a:rect l="l" t="t" r="r" b="b"/>
                  <a:pathLst>
                    <a:path w="988" h="751">
                      <a:moveTo>
                        <a:pt x="506" y="433"/>
                      </a:moveTo>
                      <a:cubicBezTo>
                        <a:pt x="510" y="319"/>
                        <a:pt x="493" y="203"/>
                        <a:pt x="517" y="92"/>
                      </a:cubicBezTo>
                      <a:cubicBezTo>
                        <a:pt x="526" y="52"/>
                        <a:pt x="676" y="20"/>
                        <a:pt x="706" y="10"/>
                      </a:cubicBezTo>
                      <a:cubicBezTo>
                        <a:pt x="765" y="15"/>
                        <a:pt x="833" y="0"/>
                        <a:pt x="882" y="33"/>
                      </a:cubicBezTo>
                      <a:cubicBezTo>
                        <a:pt x="987" y="102"/>
                        <a:pt x="829" y="45"/>
                        <a:pt x="941" y="80"/>
                      </a:cubicBezTo>
                      <a:cubicBezTo>
                        <a:pt x="956" y="125"/>
                        <a:pt x="976" y="164"/>
                        <a:pt x="988" y="210"/>
                      </a:cubicBezTo>
                      <a:cubicBezTo>
                        <a:pt x="984" y="245"/>
                        <a:pt x="988" y="283"/>
                        <a:pt x="976" y="316"/>
                      </a:cubicBezTo>
                      <a:cubicBezTo>
                        <a:pt x="970" y="331"/>
                        <a:pt x="919" y="347"/>
                        <a:pt x="906" y="351"/>
                      </a:cubicBezTo>
                      <a:cubicBezTo>
                        <a:pt x="778" y="386"/>
                        <a:pt x="649" y="421"/>
                        <a:pt x="517" y="433"/>
                      </a:cubicBezTo>
                      <a:cubicBezTo>
                        <a:pt x="500" y="426"/>
                        <a:pt x="429" y="400"/>
                        <a:pt x="412" y="386"/>
                      </a:cubicBezTo>
                      <a:cubicBezTo>
                        <a:pt x="335" y="322"/>
                        <a:pt x="454" y="375"/>
                        <a:pt x="341" y="327"/>
                      </a:cubicBezTo>
                      <a:cubicBezTo>
                        <a:pt x="293" y="307"/>
                        <a:pt x="237" y="309"/>
                        <a:pt x="188" y="304"/>
                      </a:cubicBezTo>
                      <a:cubicBezTo>
                        <a:pt x="99" y="313"/>
                        <a:pt x="65" y="306"/>
                        <a:pt x="0" y="351"/>
                      </a:cubicBezTo>
                      <a:cubicBezTo>
                        <a:pt x="0" y="354"/>
                        <a:pt x="6" y="595"/>
                        <a:pt x="47" y="645"/>
                      </a:cubicBezTo>
                      <a:cubicBezTo>
                        <a:pt x="58" y="659"/>
                        <a:pt x="78" y="661"/>
                        <a:pt x="94" y="669"/>
                      </a:cubicBezTo>
                      <a:cubicBezTo>
                        <a:pt x="125" y="732"/>
                        <a:pt x="136" y="729"/>
                        <a:pt x="200" y="751"/>
                      </a:cubicBezTo>
                      <a:cubicBezTo>
                        <a:pt x="278" y="747"/>
                        <a:pt x="357" y="746"/>
                        <a:pt x="435" y="739"/>
                      </a:cubicBezTo>
                      <a:cubicBezTo>
                        <a:pt x="474" y="736"/>
                        <a:pt x="517" y="657"/>
                        <a:pt x="517" y="657"/>
                      </a:cubicBezTo>
                      <a:cubicBezTo>
                        <a:pt x="530" y="605"/>
                        <a:pt x="641" y="391"/>
                        <a:pt x="506" y="433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3440" y="6235920"/>
                  <a:ext cx="102960" cy="278280"/>
                </a:xfrm>
                <a:custGeom>
                  <a:avLst/>
                  <a:gdLst/>
                  <a:ahLst/>
                  <a:rect l="l" t="t" r="r" b="b"/>
                  <a:pathLst>
                    <a:path w="184" h="381">
                      <a:moveTo>
                        <a:pt x="178" y="330"/>
                      </a:moveTo>
                      <a:cubicBezTo>
                        <a:pt x="149" y="158"/>
                        <a:pt x="184" y="381"/>
                        <a:pt x="154" y="59"/>
                      </a:cubicBezTo>
                      <a:cubicBezTo>
                        <a:pt x="153" y="43"/>
                        <a:pt x="153" y="25"/>
                        <a:pt x="143" y="12"/>
                      </a:cubicBezTo>
                      <a:cubicBezTo>
                        <a:pt x="135" y="2"/>
                        <a:pt x="119" y="4"/>
                        <a:pt x="107" y="0"/>
                      </a:cubicBezTo>
                      <a:cubicBezTo>
                        <a:pt x="65" y="14"/>
                        <a:pt x="0" y="11"/>
                        <a:pt x="60" y="59"/>
                      </a:cubicBezTo>
                      <a:cubicBezTo>
                        <a:pt x="70" y="67"/>
                        <a:pt x="84" y="67"/>
                        <a:pt x="96" y="71"/>
                      </a:cubicBezTo>
                      <a:cubicBezTo>
                        <a:pt x="139" y="56"/>
                        <a:pt x="125" y="70"/>
                        <a:pt x="143" y="35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8360" y="6262920"/>
                  <a:ext cx="154800" cy="187560"/>
                </a:xfrm>
                <a:custGeom>
                  <a:avLst/>
                  <a:gdLst/>
                  <a:ahLst/>
                  <a:rect l="l" t="t" r="r" b="b"/>
                  <a:pathLst>
                    <a:path w="276" h="257">
                      <a:moveTo>
                        <a:pt x="276" y="257"/>
                      </a:moveTo>
                      <a:cubicBezTo>
                        <a:pt x="249" y="153"/>
                        <a:pt x="206" y="79"/>
                        <a:pt x="99" y="46"/>
                      </a:cubicBezTo>
                      <a:cubicBezTo>
                        <a:pt x="87" y="38"/>
                        <a:pt x="77" y="28"/>
                        <a:pt x="64" y="22"/>
                      </a:cubicBezTo>
                      <a:cubicBezTo>
                        <a:pt x="53" y="16"/>
                        <a:pt x="36" y="0"/>
                        <a:pt x="29" y="10"/>
                      </a:cubicBezTo>
                      <a:cubicBezTo>
                        <a:pt x="0" y="54"/>
                        <a:pt x="59" y="63"/>
                        <a:pt x="76" y="69"/>
                      </a:cubicBezTo>
                      <a:cubicBezTo>
                        <a:pt x="84" y="81"/>
                        <a:pt x="86" y="99"/>
                        <a:pt x="99" y="104"/>
                      </a:cubicBezTo>
                      <a:cubicBezTo>
                        <a:pt x="116" y="111"/>
                        <a:pt x="170" y="81"/>
                        <a:pt x="182" y="69"/>
                      </a:cubicBezTo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4640" y="6409080"/>
                  <a:ext cx="81000" cy="84600"/>
                </a:xfrm>
                <a:custGeom>
                  <a:avLst/>
                  <a:gdLst/>
                  <a:ahLst/>
                  <a:rect l="l" t="t" r="r" b="b"/>
                  <a:pathLst>
                    <a:path w="145" h="116">
                      <a:moveTo>
                        <a:pt x="143" y="69"/>
                      </a:moveTo>
                      <a:cubicBezTo>
                        <a:pt x="119" y="0"/>
                        <a:pt x="93" y="22"/>
                        <a:pt x="25" y="34"/>
                      </a:cubicBezTo>
                      <a:cubicBezTo>
                        <a:pt x="11" y="75"/>
                        <a:pt x="0" y="71"/>
                        <a:pt x="49" y="93"/>
                      </a:cubicBezTo>
                      <a:cubicBezTo>
                        <a:pt x="71" y="103"/>
                        <a:pt x="119" y="116"/>
                        <a:pt x="119" y="116"/>
                      </a:cubicBezTo>
                      <a:cubicBezTo>
                        <a:pt x="145" y="78"/>
                        <a:pt x="143" y="95"/>
                        <a:pt x="143" y="69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4160" y="6537960"/>
                  <a:ext cx="59400" cy="115920"/>
                </a:xfrm>
                <a:custGeom>
                  <a:avLst/>
                  <a:gdLst/>
                  <a:ahLst/>
                  <a:rect l="l" t="t" r="r" b="b"/>
                  <a:pathLst>
                    <a:path w="106" h="159">
                      <a:moveTo>
                        <a:pt x="0" y="46"/>
                      </a:moveTo>
                      <a:cubicBezTo>
                        <a:pt x="52" y="11"/>
                        <a:pt x="84" y="0"/>
                        <a:pt x="106" y="70"/>
                      </a:cubicBezTo>
                      <a:cubicBezTo>
                        <a:pt x="102" y="89"/>
                        <a:pt x="105" y="111"/>
                        <a:pt x="95" y="128"/>
                      </a:cubicBezTo>
                      <a:cubicBezTo>
                        <a:pt x="88" y="141"/>
                        <a:pt x="72" y="159"/>
                        <a:pt x="59" y="152"/>
                      </a:cubicBezTo>
                      <a:cubicBezTo>
                        <a:pt x="34" y="138"/>
                        <a:pt x="28" y="105"/>
                        <a:pt x="12" y="81"/>
                      </a:cubicBezTo>
                      <a:cubicBezTo>
                        <a:pt x="5" y="71"/>
                        <a:pt x="0" y="46"/>
                        <a:pt x="0" y="46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8760" y="6312960"/>
                  <a:ext cx="75960" cy="77040"/>
                </a:xfrm>
                <a:custGeom>
                  <a:avLst/>
                  <a:gdLst/>
                  <a:ahLst/>
                  <a:rect l="l" t="t" r="r" b="b"/>
                  <a:pathLst>
                    <a:path w="136" h="106">
                      <a:moveTo>
                        <a:pt x="43" y="82"/>
                      </a:moveTo>
                      <a:cubicBezTo>
                        <a:pt x="39" y="76"/>
                        <a:pt x="0" y="26"/>
                        <a:pt x="7" y="11"/>
                      </a:cubicBezTo>
                      <a:cubicBezTo>
                        <a:pt x="13" y="0"/>
                        <a:pt x="31" y="4"/>
                        <a:pt x="43" y="0"/>
                      </a:cubicBezTo>
                      <a:cubicBezTo>
                        <a:pt x="134" y="17"/>
                        <a:pt x="136" y="20"/>
                        <a:pt x="101" y="106"/>
                      </a:cubicBezTo>
                      <a:cubicBezTo>
                        <a:pt x="49" y="93"/>
                        <a:pt x="65" y="106"/>
                        <a:pt x="43" y="82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76920" y="637344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159" h="107">
                      <a:moveTo>
                        <a:pt x="76" y="71"/>
                      </a:moveTo>
                      <a:cubicBezTo>
                        <a:pt x="61" y="67"/>
                        <a:pt x="0" y="66"/>
                        <a:pt x="17" y="24"/>
                      </a:cubicBezTo>
                      <a:cubicBezTo>
                        <a:pt x="22" y="11"/>
                        <a:pt x="40" y="8"/>
                        <a:pt x="52" y="0"/>
                      </a:cubicBezTo>
                      <a:cubicBezTo>
                        <a:pt x="81" y="10"/>
                        <a:pt x="100" y="13"/>
                        <a:pt x="123" y="36"/>
                      </a:cubicBezTo>
                      <a:cubicBezTo>
                        <a:pt x="133" y="46"/>
                        <a:pt x="159" y="65"/>
                        <a:pt x="146" y="71"/>
                      </a:cubicBezTo>
                      <a:cubicBezTo>
                        <a:pt x="72" y="107"/>
                        <a:pt x="76" y="27"/>
                        <a:pt x="76" y="71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39200" y="6208200"/>
                  <a:ext cx="81720" cy="96120"/>
                </a:xfrm>
                <a:custGeom>
                  <a:avLst/>
                  <a:gdLst/>
                  <a:ahLst/>
                  <a:rect l="l" t="t" r="r" b="b"/>
                  <a:pathLst>
                    <a:path w="146" h="132">
                      <a:moveTo>
                        <a:pt x="70" y="62"/>
                      </a:moveTo>
                      <a:cubicBezTo>
                        <a:pt x="63" y="51"/>
                        <a:pt x="41" y="0"/>
                        <a:pt x="12" y="15"/>
                      </a:cubicBezTo>
                      <a:cubicBezTo>
                        <a:pt x="1" y="21"/>
                        <a:pt x="4" y="38"/>
                        <a:pt x="0" y="50"/>
                      </a:cubicBezTo>
                      <a:cubicBezTo>
                        <a:pt x="80" y="104"/>
                        <a:pt x="61" y="70"/>
                        <a:pt x="82" y="132"/>
                      </a:cubicBezTo>
                      <a:cubicBezTo>
                        <a:pt x="139" y="94"/>
                        <a:pt x="146" y="94"/>
                        <a:pt x="129" y="26"/>
                      </a:cubicBezTo>
                      <a:cubicBezTo>
                        <a:pt x="73" y="40"/>
                        <a:pt x="89" y="24"/>
                        <a:pt x="70" y="62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 rot="10800000">
                  <a:off x="141480" y="6522120"/>
                  <a:ext cx="81720" cy="96120"/>
                </a:xfrm>
                <a:custGeom>
                  <a:avLst/>
                  <a:gdLst/>
                  <a:ahLst/>
                  <a:rect l="l" t="t" r="r" b="b"/>
                  <a:pathLst>
                    <a:path w="146" h="132">
                      <a:moveTo>
                        <a:pt x="70" y="62"/>
                      </a:moveTo>
                      <a:cubicBezTo>
                        <a:pt x="63" y="51"/>
                        <a:pt x="41" y="0"/>
                        <a:pt x="12" y="15"/>
                      </a:cubicBezTo>
                      <a:cubicBezTo>
                        <a:pt x="1" y="21"/>
                        <a:pt x="4" y="38"/>
                        <a:pt x="0" y="50"/>
                      </a:cubicBezTo>
                      <a:cubicBezTo>
                        <a:pt x="80" y="104"/>
                        <a:pt x="61" y="70"/>
                        <a:pt x="82" y="132"/>
                      </a:cubicBezTo>
                      <a:cubicBezTo>
                        <a:pt x="139" y="94"/>
                        <a:pt x="146" y="94"/>
                        <a:pt x="129" y="26"/>
                      </a:cubicBezTo>
                      <a:cubicBezTo>
                        <a:pt x="73" y="40"/>
                        <a:pt x="89" y="24"/>
                        <a:pt x="70" y="62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>
                <a:hlinkClick r:id="" action="ppaction://hlinkshowjump?jump=previousslide"/>
              </p:cNvPr>
              <p:cNvSpPr/>
              <p:nvPr/>
            </p:nvSpPr>
            <p:spPr>
              <a:xfrm>
                <a:off x="76320" y="6168960"/>
                <a:ext cx="609480" cy="609840"/>
              </a:xfrm>
              <a:custGeom>
                <a:avLst/>
                <a:gdLst>
                  <a:gd name="textAreaLeft" fmla="*/ 39240 w 609480"/>
                  <a:gd name="textAreaRight" fmla="*/ 570240 w 609480"/>
                  <a:gd name="textAreaTop" fmla="*/ 39240 h 609840"/>
                  <a:gd name="textAreaBottom" fmla="*/ 570600 h 60984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13"/>
                    </a:lnTo>
                    <a:lnTo>
                      <a:pt x="0" y="21613"/>
                    </a:lnTo>
                    <a:close/>
                  </a:path>
                  <a:path fill="lightenLess" w="21600" h="21613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13">
                    <a:moveTo>
                      <a:pt x="21600" y="0"/>
                    </a:moveTo>
                    <a:lnTo>
                      <a:pt x="21600" y="21613"/>
                    </a:lnTo>
                    <a:lnTo>
                      <a:pt x="20200" y="20213"/>
                    </a:lnTo>
                    <a:lnTo>
                      <a:pt x="20200" y="1400"/>
                    </a:lnTo>
                    <a:close/>
                  </a:path>
                  <a:path fill="darkenLess" w="21600" h="21613">
                    <a:moveTo>
                      <a:pt x="21600" y="21613"/>
                    </a:moveTo>
                    <a:lnTo>
                      <a:pt x="0" y="21613"/>
                    </a:lnTo>
                    <a:lnTo>
                      <a:pt x="1400" y="20213"/>
                    </a:lnTo>
                    <a:lnTo>
                      <a:pt x="20200" y="20213"/>
                    </a:lnTo>
                    <a:close/>
                  </a:path>
                  <a:path fill="lighten" w="21600" h="21613">
                    <a:moveTo>
                      <a:pt x="0" y="21613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1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>
              <a:hlinkClick r:id="" action="ppaction://hlinkshowjump?jump=previousslide"/>
            </p:cNvPr>
            <p:cNvSpPr/>
            <p:nvPr/>
          </p:nvSpPr>
          <p:spPr>
            <a:xfrm>
              <a:off x="0" y="6016680"/>
              <a:ext cx="685800" cy="838080"/>
            </a:xfrm>
            <a:custGeom>
              <a:avLst/>
              <a:gdLst>
                <a:gd name="textAreaLeft" fmla="*/ 44280 w 685800"/>
                <a:gd name="textAreaRight" fmla="*/ 641520 w 685800"/>
                <a:gd name="textAreaTop" fmla="*/ 44280 h 838080"/>
                <a:gd name="textAreaBottom" fmla="*/ 793800 h 838080"/>
              </a:gdLst>
              <a:ahLst/>
              <a:rect l="textAreaLeft" t="textAreaTop" r="textAreaRight" b="textAreaBottom"/>
              <a:pathLst>
                <a:path w="21600" h="26394">
                  <a:moveTo>
                    <a:pt x="0" y="0"/>
                  </a:moveTo>
                  <a:lnTo>
                    <a:pt x="21600" y="0"/>
                  </a:lnTo>
                  <a:lnTo>
                    <a:pt x="21600" y="26394"/>
                  </a:lnTo>
                  <a:lnTo>
                    <a:pt x="0" y="26394"/>
                  </a:lnTo>
                  <a:close/>
                </a:path>
                <a:path fill="lightenLess" w="21600" h="2639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394">
                  <a:moveTo>
                    <a:pt x="21600" y="0"/>
                  </a:moveTo>
                  <a:lnTo>
                    <a:pt x="21600" y="26394"/>
                  </a:lnTo>
                  <a:lnTo>
                    <a:pt x="20200" y="24994"/>
                  </a:lnTo>
                  <a:lnTo>
                    <a:pt x="20200" y="1400"/>
                  </a:lnTo>
                  <a:close/>
                </a:path>
                <a:path fill="darkenLess" w="21600" h="26394">
                  <a:moveTo>
                    <a:pt x="21600" y="26394"/>
                  </a:moveTo>
                  <a:lnTo>
                    <a:pt x="0" y="26394"/>
                  </a:lnTo>
                  <a:lnTo>
                    <a:pt x="1400" y="24994"/>
                  </a:lnTo>
                  <a:lnTo>
                    <a:pt x="20200" y="24994"/>
                  </a:lnTo>
                  <a:close/>
                </a:path>
                <a:path fill="lighten" w="21600" h="26394">
                  <a:moveTo>
                    <a:pt x="0" y="2639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9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352680" y="6248520"/>
            <a:ext cx="685800" cy="609480"/>
            <a:chOff x="3352680" y="6248520"/>
            <a:chExt cx="685800" cy="609480"/>
          </a:xfrm>
        </p:grpSpPr>
        <p:grpSp>
          <p:nvGrpSpPr>
            <p:cNvPr id="178" name=""/>
            <p:cNvGrpSpPr/>
            <p:nvPr/>
          </p:nvGrpSpPr>
          <p:grpSpPr>
            <a:xfrm>
              <a:off x="3395160" y="6248520"/>
              <a:ext cx="628920" cy="562320"/>
              <a:chOff x="3395160" y="6248520"/>
              <a:chExt cx="628920" cy="5623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9308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7144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4696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4472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7048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0272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9516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632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7696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4204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6508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9100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8388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0296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400000">
                <a:off x="373896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335268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924680" y="6318360"/>
            <a:ext cx="914400" cy="533160"/>
            <a:chOff x="7924680" y="6318360"/>
            <a:chExt cx="914400" cy="533160"/>
          </a:xfrm>
        </p:grpSpPr>
        <p:grpSp>
          <p:nvGrpSpPr>
            <p:cNvPr id="196" name=""/>
            <p:cNvGrpSpPr/>
            <p:nvPr/>
          </p:nvGrpSpPr>
          <p:grpSpPr>
            <a:xfrm>
              <a:off x="7924680" y="6384600"/>
              <a:ext cx="846720" cy="333360"/>
              <a:chOff x="7924680" y="6384600"/>
              <a:chExt cx="846720" cy="3333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7924680" y="6384600"/>
                <a:ext cx="846720" cy="333360"/>
                <a:chOff x="7924680" y="6384600"/>
                <a:chExt cx="846720" cy="333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8476920" y="640188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7924680" y="6384600"/>
                  <a:ext cx="693000" cy="333360"/>
                  <a:chOff x="7924680" y="6384600"/>
                  <a:chExt cx="693000" cy="3333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8404920" y="638460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334720" y="639324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214480" y="639864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151480" y="644220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048880" y="646884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24680" y="650448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8634600" y="648180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>
              <a:hlinkClick r:id="" action="ppaction://hlinkshowjump?jump=nextslide"/>
            </p:cNvPr>
            <p:cNvSpPr/>
            <p:nvPr/>
          </p:nvSpPr>
          <p:spPr>
            <a:xfrm>
              <a:off x="7924680" y="631836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33526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054320" y="2971800"/>
            <a:ext cx="1101960" cy="1473120"/>
            <a:chOff x="4054320" y="2971800"/>
            <a:chExt cx="1101960" cy="1473120"/>
          </a:xfrm>
        </p:grpSpPr>
        <p:sp>
          <p:nvSpPr>
            <p:cNvPr id="211" name=""/>
            <p:cNvSpPr/>
            <p:nvPr/>
          </p:nvSpPr>
          <p:spPr>
            <a:xfrm>
              <a:off x="4054320" y="3343320"/>
              <a:ext cx="392400" cy="110160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216320" y="2971800"/>
              <a:ext cx="939960" cy="1436760"/>
              <a:chOff x="4216320" y="2971800"/>
              <a:chExt cx="939960" cy="1436760"/>
            </a:xfrm>
          </p:grpSpPr>
          <p:sp>
            <p:nvSpPr>
              <p:cNvPr id="213" name=""/>
              <p:cNvSpPr/>
              <p:nvPr/>
            </p:nvSpPr>
            <p:spPr>
              <a:xfrm>
                <a:off x="4419720" y="3200400"/>
                <a:ext cx="30636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19720" y="297180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21240" y="328464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16320" y="3056040"/>
                <a:ext cx="2304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18120" y="3282840"/>
                <a:ext cx="301320" cy="23184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73520" y="3132000"/>
                <a:ext cx="230400" cy="154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90920" y="3699000"/>
                <a:ext cx="765360" cy="709560"/>
              </a:xfrm>
              <a:custGeom>
                <a:avLst/>
                <a:gdLst/>
                <a:ahLst/>
                <a:rect l="l" t="t" r="r" b="b"/>
                <a:pathLst>
                  <a:path w="482" h="447">
                    <a:moveTo>
                      <a:pt x="0" y="447"/>
                    </a:moveTo>
                    <a:lnTo>
                      <a:pt x="4" y="409"/>
                    </a:lnTo>
                    <a:lnTo>
                      <a:pt x="8" y="370"/>
                    </a:lnTo>
                    <a:lnTo>
                      <a:pt x="14" y="332"/>
                    </a:lnTo>
                    <a:lnTo>
                      <a:pt x="19" y="313"/>
                    </a:lnTo>
                    <a:lnTo>
                      <a:pt x="24" y="296"/>
                    </a:lnTo>
                    <a:lnTo>
                      <a:pt x="31" y="279"/>
                    </a:lnTo>
                    <a:lnTo>
                      <a:pt x="39" y="263"/>
                    </a:lnTo>
                    <a:lnTo>
                      <a:pt x="49" y="249"/>
                    </a:lnTo>
                    <a:lnTo>
                      <a:pt x="61" y="236"/>
                    </a:lnTo>
                    <a:lnTo>
                      <a:pt x="75" y="224"/>
                    </a:lnTo>
                    <a:lnTo>
                      <a:pt x="90" y="214"/>
                    </a:lnTo>
                    <a:lnTo>
                      <a:pt x="108" y="206"/>
                    </a:lnTo>
                    <a:lnTo>
                      <a:pt x="129" y="200"/>
                    </a:lnTo>
                    <a:lnTo>
                      <a:pt x="134" y="192"/>
                    </a:lnTo>
                    <a:lnTo>
                      <a:pt x="139" y="185"/>
                    </a:lnTo>
                    <a:lnTo>
                      <a:pt x="142" y="180"/>
                    </a:lnTo>
                    <a:lnTo>
                      <a:pt x="146" y="175"/>
                    </a:lnTo>
                    <a:lnTo>
                      <a:pt x="150" y="167"/>
                    </a:lnTo>
                    <a:lnTo>
                      <a:pt x="153" y="163"/>
                    </a:lnTo>
                    <a:lnTo>
                      <a:pt x="154" y="161"/>
                    </a:lnTo>
                    <a:lnTo>
                      <a:pt x="154" y="161"/>
                    </a:lnTo>
                    <a:lnTo>
                      <a:pt x="153" y="163"/>
                    </a:lnTo>
                    <a:lnTo>
                      <a:pt x="153" y="165"/>
                    </a:lnTo>
                    <a:lnTo>
                      <a:pt x="152" y="168"/>
                    </a:lnTo>
                    <a:lnTo>
                      <a:pt x="153" y="170"/>
                    </a:lnTo>
                    <a:lnTo>
                      <a:pt x="155" y="172"/>
                    </a:lnTo>
                    <a:lnTo>
                      <a:pt x="159" y="173"/>
                    </a:lnTo>
                    <a:lnTo>
                      <a:pt x="164" y="171"/>
                    </a:lnTo>
                    <a:lnTo>
                      <a:pt x="173" y="168"/>
                    </a:lnTo>
                    <a:lnTo>
                      <a:pt x="185" y="162"/>
                    </a:lnTo>
                    <a:lnTo>
                      <a:pt x="192" y="157"/>
                    </a:lnTo>
                    <a:lnTo>
                      <a:pt x="200" y="152"/>
                    </a:lnTo>
                    <a:lnTo>
                      <a:pt x="204" y="149"/>
                    </a:lnTo>
                    <a:lnTo>
                      <a:pt x="207" y="144"/>
                    </a:lnTo>
                    <a:lnTo>
                      <a:pt x="212" y="135"/>
                    </a:lnTo>
                    <a:lnTo>
                      <a:pt x="216" y="125"/>
                    </a:lnTo>
                    <a:lnTo>
                      <a:pt x="219" y="121"/>
                    </a:lnTo>
                    <a:lnTo>
                      <a:pt x="223" y="117"/>
                    </a:lnTo>
                    <a:lnTo>
                      <a:pt x="234" y="110"/>
                    </a:lnTo>
                    <a:lnTo>
                      <a:pt x="245" y="104"/>
                    </a:lnTo>
                    <a:lnTo>
                      <a:pt x="258" y="99"/>
                    </a:lnTo>
                    <a:lnTo>
                      <a:pt x="270" y="94"/>
                    </a:lnTo>
                    <a:lnTo>
                      <a:pt x="283" y="77"/>
                    </a:lnTo>
                    <a:lnTo>
                      <a:pt x="298" y="61"/>
                    </a:lnTo>
                    <a:lnTo>
                      <a:pt x="315" y="48"/>
                    </a:lnTo>
                    <a:lnTo>
                      <a:pt x="332" y="35"/>
                    </a:lnTo>
                    <a:lnTo>
                      <a:pt x="351" y="25"/>
                    </a:lnTo>
                    <a:lnTo>
                      <a:pt x="371" y="15"/>
                    </a:lnTo>
                    <a:lnTo>
                      <a:pt x="391" y="7"/>
                    </a:lnTo>
                    <a:lnTo>
                      <a:pt x="412" y="0"/>
                    </a:lnTo>
                    <a:lnTo>
                      <a:pt x="424" y="3"/>
                    </a:lnTo>
                    <a:lnTo>
                      <a:pt x="434" y="6"/>
                    </a:lnTo>
                    <a:lnTo>
                      <a:pt x="443" y="8"/>
                    </a:lnTo>
                    <a:lnTo>
                      <a:pt x="449" y="11"/>
                    </a:lnTo>
                    <a:lnTo>
                      <a:pt x="455" y="13"/>
                    </a:lnTo>
                    <a:lnTo>
                      <a:pt x="459" y="16"/>
                    </a:lnTo>
                    <a:lnTo>
                      <a:pt x="465" y="23"/>
                    </a:lnTo>
                    <a:lnTo>
                      <a:pt x="469" y="33"/>
                    </a:lnTo>
                    <a:lnTo>
                      <a:pt x="472" y="45"/>
                    </a:lnTo>
                    <a:lnTo>
                      <a:pt x="473" y="52"/>
                    </a:lnTo>
                    <a:lnTo>
                      <a:pt x="476" y="61"/>
                    </a:lnTo>
                    <a:lnTo>
                      <a:pt x="478" y="71"/>
                    </a:lnTo>
                    <a:lnTo>
                      <a:pt x="482" y="82"/>
                    </a:lnTo>
                    <a:lnTo>
                      <a:pt x="480" y="106"/>
                    </a:lnTo>
                    <a:lnTo>
                      <a:pt x="479" y="130"/>
                    </a:lnTo>
                    <a:lnTo>
                      <a:pt x="476" y="153"/>
                    </a:lnTo>
                    <a:lnTo>
                      <a:pt x="474" y="165"/>
                    </a:lnTo>
                    <a:lnTo>
                      <a:pt x="470" y="176"/>
                    </a:lnTo>
                    <a:lnTo>
                      <a:pt x="468" y="180"/>
                    </a:lnTo>
                    <a:lnTo>
                      <a:pt x="464" y="184"/>
                    </a:lnTo>
                    <a:lnTo>
                      <a:pt x="454" y="189"/>
                    </a:lnTo>
                    <a:lnTo>
                      <a:pt x="444" y="194"/>
                    </a:lnTo>
                    <a:lnTo>
                      <a:pt x="435" y="200"/>
                    </a:lnTo>
                    <a:lnTo>
                      <a:pt x="425" y="211"/>
                    </a:lnTo>
                    <a:lnTo>
                      <a:pt x="418" y="219"/>
                    </a:lnTo>
                    <a:lnTo>
                      <a:pt x="414" y="225"/>
                    </a:lnTo>
                    <a:lnTo>
                      <a:pt x="412" y="230"/>
                    </a:lnTo>
                    <a:lnTo>
                      <a:pt x="412" y="233"/>
                    </a:lnTo>
                    <a:lnTo>
                      <a:pt x="412" y="235"/>
                    </a:lnTo>
                    <a:lnTo>
                      <a:pt x="414" y="237"/>
                    </a:lnTo>
                    <a:lnTo>
                      <a:pt x="414" y="237"/>
                    </a:lnTo>
                    <a:lnTo>
                      <a:pt x="412" y="238"/>
                    </a:lnTo>
                    <a:lnTo>
                      <a:pt x="409" y="238"/>
                    </a:lnTo>
                    <a:lnTo>
                      <a:pt x="403" y="240"/>
                    </a:lnTo>
                    <a:lnTo>
                      <a:pt x="393" y="242"/>
                    </a:lnTo>
                    <a:lnTo>
                      <a:pt x="387" y="244"/>
                    </a:lnTo>
                    <a:lnTo>
                      <a:pt x="380" y="246"/>
                    </a:lnTo>
                    <a:lnTo>
                      <a:pt x="372" y="248"/>
                    </a:lnTo>
                    <a:lnTo>
                      <a:pt x="363" y="251"/>
                    </a:lnTo>
                    <a:lnTo>
                      <a:pt x="353" y="254"/>
                    </a:lnTo>
                    <a:lnTo>
                      <a:pt x="341" y="258"/>
                    </a:lnTo>
                    <a:lnTo>
                      <a:pt x="306" y="268"/>
                    </a:lnTo>
                    <a:lnTo>
                      <a:pt x="271" y="277"/>
                    </a:lnTo>
                    <a:lnTo>
                      <a:pt x="235" y="285"/>
                    </a:lnTo>
                    <a:lnTo>
                      <a:pt x="200" y="294"/>
                    </a:lnTo>
                    <a:lnTo>
                      <a:pt x="193" y="296"/>
                    </a:lnTo>
                    <a:lnTo>
                      <a:pt x="186" y="297"/>
                    </a:lnTo>
                    <a:lnTo>
                      <a:pt x="171" y="301"/>
                    </a:lnTo>
                    <a:lnTo>
                      <a:pt x="164" y="303"/>
                    </a:lnTo>
                    <a:lnTo>
                      <a:pt x="158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35" y="314"/>
                    </a:lnTo>
                    <a:lnTo>
                      <a:pt x="119" y="322"/>
                    </a:lnTo>
                    <a:lnTo>
                      <a:pt x="105" y="329"/>
                    </a:lnTo>
                    <a:lnTo>
                      <a:pt x="93" y="335"/>
                    </a:lnTo>
                    <a:lnTo>
                      <a:pt x="82" y="340"/>
                    </a:lnTo>
                    <a:lnTo>
                      <a:pt x="73" y="346"/>
                    </a:lnTo>
                    <a:lnTo>
                      <a:pt x="65" y="352"/>
                    </a:lnTo>
                    <a:lnTo>
                      <a:pt x="57" y="358"/>
                    </a:lnTo>
                    <a:lnTo>
                      <a:pt x="50" y="364"/>
                    </a:lnTo>
                    <a:lnTo>
                      <a:pt x="44" y="372"/>
                    </a:lnTo>
                    <a:lnTo>
                      <a:pt x="37" y="380"/>
                    </a:lnTo>
                    <a:lnTo>
                      <a:pt x="31" y="390"/>
                    </a:lnTo>
                    <a:lnTo>
                      <a:pt x="24" y="401"/>
                    </a:lnTo>
                    <a:lnTo>
                      <a:pt x="17" y="414"/>
                    </a:lnTo>
                    <a:lnTo>
                      <a:pt x="9" y="430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6095880"/>
            <a:ext cx="76176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1"/>
          </p:cNvPr>
          <p:cNvSpPr/>
          <p:nvPr/>
        </p:nvSpPr>
        <p:spPr>
          <a:xfrm>
            <a:off x="55627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257800" y="1905120"/>
            <a:ext cx="1676520" cy="2057400"/>
          </a:xfrm>
          <a:prstGeom prst="wedgeRoundRectCallout">
            <a:avLst>
              <a:gd name="adj1" fmla="val 52462"/>
              <a:gd name="adj2" fmla="val 626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hh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v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e tue 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rand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o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086600" y="2514600"/>
            <a:ext cx="1568520" cy="1192320"/>
            <a:chOff x="7086600" y="2514600"/>
            <a:chExt cx="1568520" cy="1192320"/>
          </a:xfrm>
        </p:grpSpPr>
        <p:sp>
          <p:nvSpPr>
            <p:cNvPr id="225" name=""/>
            <p:cNvSpPr/>
            <p:nvPr/>
          </p:nvSpPr>
          <p:spPr>
            <a:xfrm>
              <a:off x="7588440" y="292896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6600" y="251460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88440" y="266076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2920" y="271944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51840" y="303696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89880" y="331632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39400" y="28274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7640" y="295920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13680" y="260028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 rot="10800000">
              <a:off x="7272360" y="328464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895480" y="22860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85800" y="304920"/>
            <a:ext cx="1955880" cy="1887480"/>
            <a:chOff x="685800" y="304920"/>
            <a:chExt cx="1955880" cy="1887480"/>
          </a:xfrm>
        </p:grpSpPr>
        <p:sp>
          <p:nvSpPr>
            <p:cNvPr id="237" name=""/>
            <p:cNvSpPr/>
            <p:nvPr/>
          </p:nvSpPr>
          <p:spPr>
            <a:xfrm>
              <a:off x="990720" y="609480"/>
              <a:ext cx="1176120" cy="123372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66840" y="68436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0880" y="1351080"/>
              <a:ext cx="40140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3360" y="1762200"/>
              <a:ext cx="430200" cy="40464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31920" y="16304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560" y="1238400"/>
              <a:ext cx="522360" cy="37440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" y="30492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0600" y="30636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9320" y="1371600"/>
              <a:ext cx="834840" cy="20304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838080"/>
              <a:ext cx="326880" cy="35244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4280" y="952560"/>
              <a:ext cx="279720" cy="10008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5280" y="1066680"/>
              <a:ext cx="15264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84360" y="685800"/>
              <a:ext cx="320760" cy="36972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43040" y="82692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752120" y="914400"/>
              <a:ext cx="763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00" y="3828960"/>
            <a:ext cx="179208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-157320" y="4648320"/>
            <a:ext cx="9677160" cy="2361600"/>
            <a:chOff x="-157320" y="4648320"/>
            <a:chExt cx="9677160" cy="2361600"/>
          </a:xfrm>
        </p:grpSpPr>
        <p:sp>
          <p:nvSpPr>
            <p:cNvPr id="254" name=""/>
            <p:cNvSpPr/>
            <p:nvPr/>
          </p:nvSpPr>
          <p:spPr>
            <a:xfrm>
              <a:off x="-157320" y="4648320"/>
              <a:ext cx="9677160" cy="2361600"/>
            </a:xfrm>
            <a:custGeom>
              <a:avLst/>
              <a:gdLst/>
              <a:ahLst/>
              <a:rect l="l" t="t" r="r" b="b"/>
              <a:pathLst>
                <a:path w="5940" h="1089">
                  <a:moveTo>
                    <a:pt x="47" y="118"/>
                  </a:moveTo>
                  <a:cubicBezTo>
                    <a:pt x="138" y="95"/>
                    <a:pt x="215" y="71"/>
                    <a:pt x="306" y="59"/>
                  </a:cubicBezTo>
                  <a:cubicBezTo>
                    <a:pt x="526" y="63"/>
                    <a:pt x="745" y="64"/>
                    <a:pt x="965" y="70"/>
                  </a:cubicBezTo>
                  <a:cubicBezTo>
                    <a:pt x="1098" y="74"/>
                    <a:pt x="1106" y="83"/>
                    <a:pt x="1212" y="59"/>
                  </a:cubicBezTo>
                  <a:cubicBezTo>
                    <a:pt x="1244" y="52"/>
                    <a:pt x="1306" y="35"/>
                    <a:pt x="1306" y="35"/>
                  </a:cubicBezTo>
                  <a:cubicBezTo>
                    <a:pt x="1592" y="44"/>
                    <a:pt x="1868" y="42"/>
                    <a:pt x="2153" y="23"/>
                  </a:cubicBezTo>
                  <a:cubicBezTo>
                    <a:pt x="2505" y="29"/>
                    <a:pt x="2737" y="24"/>
                    <a:pt x="3047" y="59"/>
                  </a:cubicBezTo>
                  <a:cubicBezTo>
                    <a:pt x="3156" y="84"/>
                    <a:pt x="3078" y="68"/>
                    <a:pt x="3282" y="94"/>
                  </a:cubicBezTo>
                  <a:cubicBezTo>
                    <a:pt x="3358" y="104"/>
                    <a:pt x="3430" y="130"/>
                    <a:pt x="3506" y="141"/>
                  </a:cubicBezTo>
                  <a:cubicBezTo>
                    <a:pt x="3646" y="133"/>
                    <a:pt x="3715" y="149"/>
                    <a:pt x="3823" y="94"/>
                  </a:cubicBezTo>
                  <a:cubicBezTo>
                    <a:pt x="3831" y="78"/>
                    <a:pt x="3832" y="56"/>
                    <a:pt x="3847" y="47"/>
                  </a:cubicBezTo>
                  <a:cubicBezTo>
                    <a:pt x="3882" y="26"/>
                    <a:pt x="4005" y="7"/>
                    <a:pt x="4047" y="0"/>
                  </a:cubicBezTo>
                  <a:cubicBezTo>
                    <a:pt x="4118" y="9"/>
                    <a:pt x="4188" y="17"/>
                    <a:pt x="4258" y="35"/>
                  </a:cubicBezTo>
                  <a:cubicBezTo>
                    <a:pt x="4411" y="13"/>
                    <a:pt x="4564" y="25"/>
                    <a:pt x="4717" y="47"/>
                  </a:cubicBezTo>
                  <a:cubicBezTo>
                    <a:pt x="4804" y="90"/>
                    <a:pt x="4730" y="60"/>
                    <a:pt x="4870" y="82"/>
                  </a:cubicBezTo>
                  <a:cubicBezTo>
                    <a:pt x="4951" y="95"/>
                    <a:pt x="5022" y="120"/>
                    <a:pt x="5105" y="129"/>
                  </a:cubicBezTo>
                  <a:cubicBezTo>
                    <a:pt x="5175" y="147"/>
                    <a:pt x="5250" y="161"/>
                    <a:pt x="5317" y="188"/>
                  </a:cubicBezTo>
                  <a:cubicBezTo>
                    <a:pt x="5333" y="195"/>
                    <a:pt x="5347" y="207"/>
                    <a:pt x="5364" y="212"/>
                  </a:cubicBezTo>
                  <a:cubicBezTo>
                    <a:pt x="5440" y="235"/>
                    <a:pt x="5419" y="211"/>
                    <a:pt x="5482" y="235"/>
                  </a:cubicBezTo>
                  <a:cubicBezTo>
                    <a:pt x="5498" y="241"/>
                    <a:pt x="5512" y="253"/>
                    <a:pt x="5529" y="259"/>
                  </a:cubicBezTo>
                  <a:cubicBezTo>
                    <a:pt x="5575" y="274"/>
                    <a:pt x="5623" y="282"/>
                    <a:pt x="5670" y="294"/>
                  </a:cubicBezTo>
                  <a:cubicBezTo>
                    <a:pt x="5686" y="298"/>
                    <a:pt x="5717" y="306"/>
                    <a:pt x="5717" y="306"/>
                  </a:cubicBezTo>
                  <a:cubicBezTo>
                    <a:pt x="5725" y="318"/>
                    <a:pt x="5729" y="333"/>
                    <a:pt x="5741" y="341"/>
                  </a:cubicBezTo>
                  <a:cubicBezTo>
                    <a:pt x="5754" y="350"/>
                    <a:pt x="5773" y="347"/>
                    <a:pt x="5788" y="353"/>
                  </a:cubicBezTo>
                  <a:cubicBezTo>
                    <a:pt x="5825" y="367"/>
                    <a:pt x="5839" y="379"/>
                    <a:pt x="5870" y="400"/>
                  </a:cubicBezTo>
                  <a:cubicBezTo>
                    <a:pt x="5940" y="507"/>
                    <a:pt x="5905" y="716"/>
                    <a:pt x="5835" y="823"/>
                  </a:cubicBezTo>
                  <a:cubicBezTo>
                    <a:pt x="5831" y="886"/>
                    <a:pt x="5851" y="956"/>
                    <a:pt x="5823" y="1012"/>
                  </a:cubicBezTo>
                  <a:cubicBezTo>
                    <a:pt x="5809" y="1041"/>
                    <a:pt x="5761" y="1033"/>
                    <a:pt x="5729" y="1035"/>
                  </a:cubicBezTo>
                  <a:cubicBezTo>
                    <a:pt x="5670" y="1039"/>
                    <a:pt x="5611" y="1044"/>
                    <a:pt x="5552" y="1047"/>
                  </a:cubicBezTo>
                  <a:cubicBezTo>
                    <a:pt x="5458" y="1052"/>
                    <a:pt x="5364" y="1055"/>
                    <a:pt x="5270" y="1059"/>
                  </a:cubicBezTo>
                  <a:cubicBezTo>
                    <a:pt x="5031" y="1089"/>
                    <a:pt x="4783" y="1061"/>
                    <a:pt x="4541" y="1071"/>
                  </a:cubicBezTo>
                  <a:cubicBezTo>
                    <a:pt x="3812" y="1041"/>
                    <a:pt x="4149" y="1041"/>
                    <a:pt x="3529" y="1059"/>
                  </a:cubicBezTo>
                  <a:cubicBezTo>
                    <a:pt x="2212" y="1053"/>
                    <a:pt x="1223" y="1038"/>
                    <a:pt x="0" y="1000"/>
                  </a:cubicBezTo>
                  <a:cubicBezTo>
                    <a:pt x="4" y="808"/>
                    <a:pt x="12" y="423"/>
                    <a:pt x="12" y="423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39320" y="4841280"/>
              <a:ext cx="112680" cy="979920"/>
            </a:xfrm>
            <a:custGeom>
              <a:avLst/>
              <a:gdLst/>
              <a:ahLst/>
              <a:rect l="l" t="t" r="r" b="b"/>
              <a:pathLst>
                <a:path w="60" h="459">
                  <a:moveTo>
                    <a:pt x="4" y="459"/>
                  </a:moveTo>
                  <a:cubicBezTo>
                    <a:pt x="8" y="334"/>
                    <a:pt x="0" y="207"/>
                    <a:pt x="15" y="83"/>
                  </a:cubicBezTo>
                  <a:cubicBezTo>
                    <a:pt x="17" y="70"/>
                    <a:pt x="46" y="83"/>
                    <a:pt x="51" y="71"/>
                  </a:cubicBezTo>
                  <a:cubicBezTo>
                    <a:pt x="60" y="49"/>
                    <a:pt x="51" y="24"/>
                    <a:pt x="51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-150840" y="4146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28600" y="5846760"/>
            <a:ext cx="9551880" cy="121428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320" y="6168960"/>
            <a:ext cx="609480" cy="609840"/>
            <a:chOff x="76320" y="6168960"/>
            <a:chExt cx="609480" cy="609840"/>
          </a:xfrm>
        </p:grpSpPr>
        <p:grpSp>
          <p:nvGrpSpPr>
            <p:cNvPr id="259" name=""/>
            <p:cNvGrpSpPr/>
            <p:nvPr/>
          </p:nvGrpSpPr>
          <p:grpSpPr>
            <a:xfrm>
              <a:off x="76320" y="6168960"/>
              <a:ext cx="554040" cy="548640"/>
              <a:chOff x="76320" y="6168960"/>
              <a:chExt cx="554040" cy="548640"/>
            </a:xfrm>
          </p:grpSpPr>
          <p:sp>
            <p:nvSpPr>
              <p:cNvPr id="260" name=""/>
              <p:cNvSpPr/>
              <p:nvPr/>
            </p:nvSpPr>
            <p:spPr>
              <a:xfrm>
                <a:off x="253440" y="6359400"/>
                <a:ext cx="212040" cy="229320"/>
              </a:xfrm>
              <a:custGeom>
                <a:avLst/>
                <a:gdLst/>
                <a:ahLst/>
                <a:rect l="l" t="t" r="r" b="b"/>
                <a:pathLst>
                  <a:path w="378" h="314">
                    <a:moveTo>
                      <a:pt x="237" y="161"/>
                    </a:moveTo>
                    <a:cubicBezTo>
                      <a:pt x="214" y="91"/>
                      <a:pt x="243" y="155"/>
                      <a:pt x="190" y="102"/>
                    </a:cubicBezTo>
                    <a:cubicBezTo>
                      <a:pt x="123" y="35"/>
                      <a:pt x="219" y="92"/>
                      <a:pt x="119" y="43"/>
                    </a:cubicBezTo>
                    <a:cubicBezTo>
                      <a:pt x="115" y="31"/>
                      <a:pt x="119" y="11"/>
                      <a:pt x="107" y="8"/>
                    </a:cubicBezTo>
                    <a:cubicBezTo>
                      <a:pt x="80" y="0"/>
                      <a:pt x="0" y="7"/>
                      <a:pt x="48" y="55"/>
                    </a:cubicBezTo>
                    <a:cubicBezTo>
                      <a:pt x="57" y="64"/>
                      <a:pt x="72" y="62"/>
                      <a:pt x="84" y="66"/>
                    </a:cubicBezTo>
                    <a:cubicBezTo>
                      <a:pt x="111" y="108"/>
                      <a:pt x="131" y="121"/>
                      <a:pt x="178" y="137"/>
                    </a:cubicBezTo>
                    <a:cubicBezTo>
                      <a:pt x="264" y="268"/>
                      <a:pt x="132" y="78"/>
                      <a:pt x="237" y="196"/>
                    </a:cubicBezTo>
                    <a:cubicBezTo>
                      <a:pt x="309" y="277"/>
                      <a:pt x="267" y="264"/>
                      <a:pt x="366" y="314"/>
                    </a:cubicBezTo>
                    <a:cubicBezTo>
                      <a:pt x="370" y="302"/>
                      <a:pt x="378" y="291"/>
                      <a:pt x="378" y="278"/>
                    </a:cubicBezTo>
                    <a:cubicBezTo>
                      <a:pt x="378" y="204"/>
                      <a:pt x="348" y="210"/>
                      <a:pt x="296" y="184"/>
                    </a:cubicBezTo>
                    <a:cubicBezTo>
                      <a:pt x="241" y="157"/>
                      <a:pt x="281" y="161"/>
                      <a:pt x="237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20" y="6168960"/>
                <a:ext cx="554040" cy="548640"/>
              </a:xfrm>
              <a:custGeom>
                <a:avLst/>
                <a:gdLst/>
                <a:ahLst/>
                <a:rect l="l" t="t" r="r" b="b"/>
                <a:pathLst>
                  <a:path w="988" h="751">
                    <a:moveTo>
                      <a:pt x="506" y="433"/>
                    </a:moveTo>
                    <a:cubicBezTo>
                      <a:pt x="510" y="319"/>
                      <a:pt x="493" y="203"/>
                      <a:pt x="517" y="92"/>
                    </a:cubicBezTo>
                    <a:cubicBezTo>
                      <a:pt x="526" y="52"/>
                      <a:pt x="676" y="20"/>
                      <a:pt x="706" y="10"/>
                    </a:cubicBezTo>
                    <a:cubicBezTo>
                      <a:pt x="765" y="15"/>
                      <a:pt x="833" y="0"/>
                      <a:pt x="882" y="33"/>
                    </a:cubicBezTo>
                    <a:cubicBezTo>
                      <a:pt x="987" y="102"/>
                      <a:pt x="829" y="45"/>
                      <a:pt x="941" y="80"/>
                    </a:cubicBezTo>
                    <a:cubicBezTo>
                      <a:pt x="956" y="125"/>
                      <a:pt x="976" y="164"/>
                      <a:pt x="988" y="210"/>
                    </a:cubicBezTo>
                    <a:cubicBezTo>
                      <a:pt x="984" y="245"/>
                      <a:pt x="988" y="283"/>
                      <a:pt x="976" y="316"/>
                    </a:cubicBezTo>
                    <a:cubicBezTo>
                      <a:pt x="970" y="331"/>
                      <a:pt x="919" y="347"/>
                      <a:pt x="906" y="351"/>
                    </a:cubicBezTo>
                    <a:cubicBezTo>
                      <a:pt x="778" y="386"/>
                      <a:pt x="649" y="421"/>
                      <a:pt x="517" y="433"/>
                    </a:cubicBezTo>
                    <a:cubicBezTo>
                      <a:pt x="500" y="426"/>
                      <a:pt x="429" y="400"/>
                      <a:pt x="412" y="386"/>
                    </a:cubicBezTo>
                    <a:cubicBezTo>
                      <a:pt x="335" y="322"/>
                      <a:pt x="454" y="375"/>
                      <a:pt x="341" y="327"/>
                    </a:cubicBezTo>
                    <a:cubicBezTo>
                      <a:pt x="293" y="307"/>
                      <a:pt x="237" y="309"/>
                      <a:pt x="188" y="304"/>
                    </a:cubicBezTo>
                    <a:cubicBezTo>
                      <a:pt x="99" y="313"/>
                      <a:pt x="65" y="306"/>
                      <a:pt x="0" y="351"/>
                    </a:cubicBezTo>
                    <a:cubicBezTo>
                      <a:pt x="0" y="354"/>
                      <a:pt x="6" y="595"/>
                      <a:pt x="47" y="645"/>
                    </a:cubicBezTo>
                    <a:cubicBezTo>
                      <a:pt x="58" y="659"/>
                      <a:pt x="78" y="661"/>
                      <a:pt x="94" y="669"/>
                    </a:cubicBezTo>
                    <a:cubicBezTo>
                      <a:pt x="125" y="732"/>
                      <a:pt x="136" y="729"/>
                      <a:pt x="200" y="751"/>
                    </a:cubicBezTo>
                    <a:cubicBezTo>
                      <a:pt x="278" y="747"/>
                      <a:pt x="357" y="746"/>
                      <a:pt x="435" y="739"/>
                    </a:cubicBezTo>
                    <a:cubicBezTo>
                      <a:pt x="474" y="736"/>
                      <a:pt x="517" y="657"/>
                      <a:pt x="517" y="657"/>
                    </a:cubicBezTo>
                    <a:cubicBezTo>
                      <a:pt x="530" y="605"/>
                      <a:pt x="641" y="391"/>
                      <a:pt x="506" y="433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3440" y="6235920"/>
                <a:ext cx="102960" cy="278280"/>
              </a:xfrm>
              <a:custGeom>
                <a:avLst/>
                <a:gdLst/>
                <a:ahLst/>
                <a:rect l="l" t="t" r="r" b="b"/>
                <a:pathLst>
                  <a:path w="184" h="381">
                    <a:moveTo>
                      <a:pt x="178" y="330"/>
                    </a:moveTo>
                    <a:cubicBezTo>
                      <a:pt x="149" y="158"/>
                      <a:pt x="184" y="381"/>
                      <a:pt x="154" y="59"/>
                    </a:cubicBezTo>
                    <a:cubicBezTo>
                      <a:pt x="153" y="43"/>
                      <a:pt x="153" y="25"/>
                      <a:pt x="143" y="12"/>
                    </a:cubicBezTo>
                    <a:cubicBezTo>
                      <a:pt x="135" y="2"/>
                      <a:pt x="119" y="4"/>
                      <a:pt x="107" y="0"/>
                    </a:cubicBezTo>
                    <a:cubicBezTo>
                      <a:pt x="65" y="14"/>
                      <a:pt x="0" y="11"/>
                      <a:pt x="60" y="59"/>
                    </a:cubicBezTo>
                    <a:cubicBezTo>
                      <a:pt x="70" y="67"/>
                      <a:pt x="84" y="67"/>
                      <a:pt x="96" y="71"/>
                    </a:cubicBezTo>
                    <a:cubicBezTo>
                      <a:pt x="139" y="56"/>
                      <a:pt x="125" y="70"/>
                      <a:pt x="143" y="35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8360" y="6262920"/>
                <a:ext cx="154800" cy="187560"/>
              </a:xfrm>
              <a:custGeom>
                <a:avLst/>
                <a:gdLst/>
                <a:ahLst/>
                <a:rect l="l" t="t" r="r" b="b"/>
                <a:pathLst>
                  <a:path w="276" h="257">
                    <a:moveTo>
                      <a:pt x="276" y="257"/>
                    </a:moveTo>
                    <a:cubicBezTo>
                      <a:pt x="249" y="153"/>
                      <a:pt x="206" y="79"/>
                      <a:pt x="99" y="46"/>
                    </a:cubicBezTo>
                    <a:cubicBezTo>
                      <a:pt x="87" y="38"/>
                      <a:pt x="77" y="28"/>
                      <a:pt x="64" y="22"/>
                    </a:cubicBezTo>
                    <a:cubicBezTo>
                      <a:pt x="53" y="16"/>
                      <a:pt x="36" y="0"/>
                      <a:pt x="29" y="10"/>
                    </a:cubicBezTo>
                    <a:cubicBezTo>
                      <a:pt x="0" y="54"/>
                      <a:pt x="59" y="63"/>
                      <a:pt x="76" y="69"/>
                    </a:cubicBezTo>
                    <a:cubicBezTo>
                      <a:pt x="84" y="81"/>
                      <a:pt x="86" y="99"/>
                      <a:pt x="99" y="104"/>
                    </a:cubicBezTo>
                    <a:cubicBezTo>
                      <a:pt x="116" y="111"/>
                      <a:pt x="170" y="81"/>
                      <a:pt x="182" y="69"/>
                    </a:cubicBezTo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4640" y="6409080"/>
                <a:ext cx="81000" cy="8460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143" y="69"/>
                    </a:moveTo>
                    <a:cubicBezTo>
                      <a:pt x="119" y="0"/>
                      <a:pt x="93" y="22"/>
                      <a:pt x="25" y="34"/>
                    </a:cubicBezTo>
                    <a:cubicBezTo>
                      <a:pt x="11" y="75"/>
                      <a:pt x="0" y="71"/>
                      <a:pt x="49" y="93"/>
                    </a:cubicBezTo>
                    <a:cubicBezTo>
                      <a:pt x="71" y="103"/>
                      <a:pt x="119" y="116"/>
                      <a:pt x="119" y="116"/>
                    </a:cubicBezTo>
                    <a:cubicBezTo>
                      <a:pt x="145" y="78"/>
                      <a:pt x="143" y="95"/>
                      <a:pt x="143" y="69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4160" y="6537960"/>
                <a:ext cx="59400" cy="115920"/>
              </a:xfrm>
              <a:custGeom>
                <a:avLst/>
                <a:gdLst/>
                <a:ahLst/>
                <a:rect l="l" t="t" r="r" b="b"/>
                <a:pathLst>
                  <a:path w="106" h="159">
                    <a:moveTo>
                      <a:pt x="0" y="46"/>
                    </a:moveTo>
                    <a:cubicBezTo>
                      <a:pt x="52" y="11"/>
                      <a:pt x="84" y="0"/>
                      <a:pt x="106" y="70"/>
                    </a:cubicBezTo>
                    <a:cubicBezTo>
                      <a:pt x="102" y="89"/>
                      <a:pt x="105" y="111"/>
                      <a:pt x="95" y="128"/>
                    </a:cubicBezTo>
                    <a:cubicBezTo>
                      <a:pt x="88" y="141"/>
                      <a:pt x="72" y="159"/>
                      <a:pt x="59" y="152"/>
                    </a:cubicBezTo>
                    <a:cubicBezTo>
                      <a:pt x="34" y="138"/>
                      <a:pt x="28" y="105"/>
                      <a:pt x="12" y="81"/>
                    </a:cubicBezTo>
                    <a:cubicBezTo>
                      <a:pt x="5" y="71"/>
                      <a:pt x="0" y="46"/>
                      <a:pt x="0" y="46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8760" y="631296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43" y="82"/>
                    </a:moveTo>
                    <a:cubicBezTo>
                      <a:pt x="39" y="76"/>
                      <a:pt x="0" y="26"/>
                      <a:pt x="7" y="11"/>
                    </a:cubicBezTo>
                    <a:cubicBezTo>
                      <a:pt x="13" y="0"/>
                      <a:pt x="31" y="4"/>
                      <a:pt x="43" y="0"/>
                    </a:cubicBezTo>
                    <a:cubicBezTo>
                      <a:pt x="134" y="17"/>
                      <a:pt x="136" y="20"/>
                      <a:pt x="101" y="106"/>
                    </a:cubicBezTo>
                    <a:cubicBezTo>
                      <a:pt x="49" y="93"/>
                      <a:pt x="65" y="106"/>
                      <a:pt x="43" y="8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6920" y="637344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159" h="107">
                    <a:moveTo>
                      <a:pt x="76" y="71"/>
                    </a:moveTo>
                    <a:cubicBezTo>
                      <a:pt x="61" y="67"/>
                      <a:pt x="0" y="66"/>
                      <a:pt x="17" y="24"/>
                    </a:cubicBezTo>
                    <a:cubicBezTo>
                      <a:pt x="22" y="11"/>
                      <a:pt x="40" y="8"/>
                      <a:pt x="52" y="0"/>
                    </a:cubicBezTo>
                    <a:cubicBezTo>
                      <a:pt x="81" y="10"/>
                      <a:pt x="100" y="13"/>
                      <a:pt x="123" y="36"/>
                    </a:cubicBezTo>
                    <a:cubicBezTo>
                      <a:pt x="133" y="46"/>
                      <a:pt x="159" y="65"/>
                      <a:pt x="146" y="71"/>
                    </a:cubicBezTo>
                    <a:cubicBezTo>
                      <a:pt x="72" y="107"/>
                      <a:pt x="76" y="27"/>
                      <a:pt x="76" y="71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9200" y="620820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 rot="10800000">
                <a:off x="141480" y="652212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76320" y="616896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0" y="601668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09600" y="382896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86280" y="4254120"/>
            <a:ext cx="1393920" cy="609840"/>
            <a:chOff x="5786280" y="4254120"/>
            <a:chExt cx="1393920" cy="609840"/>
          </a:xfrm>
        </p:grpSpPr>
        <p:sp>
          <p:nvSpPr>
            <p:cNvPr id="274" name=""/>
            <p:cNvSpPr/>
            <p:nvPr/>
          </p:nvSpPr>
          <p:spPr>
            <a:xfrm>
              <a:off x="5786280" y="4530600"/>
              <a:ext cx="40356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73400">
              <a:off x="6864120" y="4267080"/>
              <a:ext cx="7596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986440" y="4267080"/>
              <a:ext cx="1193760" cy="541440"/>
              <a:chOff x="5986440" y="4267080"/>
              <a:chExt cx="1193760" cy="541440"/>
            </a:xfrm>
          </p:grpSpPr>
          <p:sp>
            <p:nvSpPr>
              <p:cNvPr id="277" name=""/>
              <p:cNvSpPr/>
              <p:nvPr/>
            </p:nvSpPr>
            <p:spPr>
              <a:xfrm>
                <a:off x="6705720" y="4267080"/>
                <a:ext cx="474480" cy="30960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2" y="195"/>
                    </a:moveTo>
                    <a:cubicBezTo>
                      <a:pt x="101" y="185"/>
                      <a:pt x="70" y="182"/>
                      <a:pt x="21" y="148"/>
                    </a:cubicBezTo>
                    <a:cubicBezTo>
                      <a:pt x="0" y="87"/>
                      <a:pt x="2" y="67"/>
                      <a:pt x="56" y="31"/>
                    </a:cubicBezTo>
                    <a:cubicBezTo>
                      <a:pt x="299" y="47"/>
                      <a:pt x="176" y="0"/>
                      <a:pt x="256" y="125"/>
                    </a:cubicBezTo>
                    <a:cubicBezTo>
                      <a:pt x="248" y="150"/>
                      <a:pt x="247" y="181"/>
                      <a:pt x="209" y="184"/>
                    </a:cubicBezTo>
                    <a:cubicBezTo>
                      <a:pt x="135" y="190"/>
                      <a:pt x="41" y="147"/>
                      <a:pt x="162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59560" y="4343400"/>
                <a:ext cx="342720" cy="374760"/>
              </a:xfrm>
              <a:custGeom>
                <a:avLst/>
                <a:gdLst/>
                <a:ahLst/>
                <a:rect l="l" t="t" r="r" b="b"/>
                <a:pathLst>
                  <a:path w="216" h="236">
                    <a:moveTo>
                      <a:pt x="188" y="106"/>
                    </a:moveTo>
                    <a:cubicBezTo>
                      <a:pt x="175" y="49"/>
                      <a:pt x="187" y="31"/>
                      <a:pt x="129" y="12"/>
                    </a:cubicBezTo>
                    <a:cubicBezTo>
                      <a:pt x="119" y="13"/>
                      <a:pt x="0" y="0"/>
                      <a:pt x="0" y="59"/>
                    </a:cubicBezTo>
                    <a:cubicBezTo>
                      <a:pt x="0" y="136"/>
                      <a:pt x="64" y="176"/>
                      <a:pt x="118" y="212"/>
                    </a:cubicBezTo>
                    <a:cubicBezTo>
                      <a:pt x="130" y="220"/>
                      <a:pt x="153" y="236"/>
                      <a:pt x="153" y="236"/>
                    </a:cubicBezTo>
                    <a:cubicBezTo>
                      <a:pt x="165" y="232"/>
                      <a:pt x="179" y="233"/>
                      <a:pt x="188" y="224"/>
                    </a:cubicBezTo>
                    <a:cubicBezTo>
                      <a:pt x="216" y="196"/>
                      <a:pt x="188" y="140"/>
                      <a:pt x="188" y="106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6880" y="4357800"/>
                <a:ext cx="298440" cy="365040"/>
              </a:xfrm>
              <a:custGeom>
                <a:avLst/>
                <a:gdLst/>
                <a:ahLst/>
                <a:rect l="l" t="t" r="r" b="b"/>
                <a:pathLst>
                  <a:path w="188" h="230">
                    <a:moveTo>
                      <a:pt x="130" y="74"/>
                    </a:moveTo>
                    <a:cubicBezTo>
                      <a:pt x="126" y="58"/>
                      <a:pt x="133" y="32"/>
                      <a:pt x="118" y="27"/>
                    </a:cubicBezTo>
                    <a:cubicBezTo>
                      <a:pt x="38" y="0"/>
                      <a:pt x="29" y="31"/>
                      <a:pt x="0" y="74"/>
                    </a:cubicBezTo>
                    <a:cubicBezTo>
                      <a:pt x="13" y="137"/>
                      <a:pt x="19" y="156"/>
                      <a:pt x="71" y="192"/>
                    </a:cubicBezTo>
                    <a:cubicBezTo>
                      <a:pt x="79" y="204"/>
                      <a:pt x="82" y="223"/>
                      <a:pt x="95" y="227"/>
                    </a:cubicBezTo>
                    <a:cubicBezTo>
                      <a:pt x="103" y="230"/>
                      <a:pt x="166" y="207"/>
                      <a:pt x="177" y="203"/>
                    </a:cubicBezTo>
                    <a:cubicBezTo>
                      <a:pt x="151" y="78"/>
                      <a:pt x="188" y="104"/>
                      <a:pt x="130" y="74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53200" y="4365720"/>
                <a:ext cx="393840" cy="333360"/>
              </a:xfrm>
              <a:custGeom>
                <a:avLst/>
                <a:gdLst/>
                <a:ahLst/>
                <a:rect l="l" t="t" r="r" b="b"/>
                <a:pathLst>
                  <a:path w="248" h="210">
                    <a:moveTo>
                      <a:pt x="193" y="92"/>
                    </a:moveTo>
                    <a:cubicBezTo>
                      <a:pt x="139" y="12"/>
                      <a:pt x="173" y="31"/>
                      <a:pt x="111" y="10"/>
                    </a:cubicBezTo>
                    <a:cubicBezTo>
                      <a:pt x="80" y="14"/>
                      <a:pt x="39" y="0"/>
                      <a:pt x="17" y="22"/>
                    </a:cubicBezTo>
                    <a:cubicBezTo>
                      <a:pt x="0" y="39"/>
                      <a:pt x="23" y="69"/>
                      <a:pt x="28" y="92"/>
                    </a:cubicBezTo>
                    <a:cubicBezTo>
                      <a:pt x="44" y="167"/>
                      <a:pt x="113" y="193"/>
                      <a:pt x="181" y="210"/>
                    </a:cubicBezTo>
                    <a:cubicBezTo>
                      <a:pt x="193" y="206"/>
                      <a:pt x="207" y="206"/>
                      <a:pt x="217" y="198"/>
                    </a:cubicBezTo>
                    <a:cubicBezTo>
                      <a:pt x="248" y="174"/>
                      <a:pt x="248" y="152"/>
                      <a:pt x="217" y="128"/>
                    </a:cubicBezTo>
                    <a:cubicBezTo>
                      <a:pt x="207" y="120"/>
                      <a:pt x="188" y="127"/>
                      <a:pt x="181" y="116"/>
                    </a:cubicBezTo>
                    <a:cubicBezTo>
                      <a:pt x="176" y="109"/>
                      <a:pt x="189" y="100"/>
                      <a:pt x="193" y="92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51680" y="4433760"/>
                <a:ext cx="322200" cy="320760"/>
              </a:xfrm>
              <a:custGeom>
                <a:avLst/>
                <a:gdLst/>
                <a:ahLst/>
                <a:rect l="l" t="t" r="r" b="b"/>
                <a:pathLst>
                  <a:path w="203" h="202">
                    <a:moveTo>
                      <a:pt x="139" y="38"/>
                    </a:moveTo>
                    <a:cubicBezTo>
                      <a:pt x="56" y="9"/>
                      <a:pt x="89" y="0"/>
                      <a:pt x="34" y="38"/>
                    </a:cubicBezTo>
                    <a:cubicBezTo>
                      <a:pt x="26" y="50"/>
                      <a:pt x="11" y="59"/>
                      <a:pt x="10" y="73"/>
                    </a:cubicBezTo>
                    <a:cubicBezTo>
                      <a:pt x="0" y="172"/>
                      <a:pt x="55" y="180"/>
                      <a:pt x="128" y="202"/>
                    </a:cubicBezTo>
                    <a:cubicBezTo>
                      <a:pt x="147" y="198"/>
                      <a:pt x="170" y="202"/>
                      <a:pt x="186" y="191"/>
                    </a:cubicBezTo>
                    <a:cubicBezTo>
                      <a:pt x="197" y="184"/>
                      <a:pt x="198" y="168"/>
                      <a:pt x="198" y="155"/>
                    </a:cubicBezTo>
                    <a:cubicBezTo>
                      <a:pt x="198" y="107"/>
                      <a:pt x="203" y="38"/>
                      <a:pt x="139" y="38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86440" y="4475160"/>
                <a:ext cx="263520" cy="333360"/>
              </a:xfrm>
              <a:custGeom>
                <a:avLst/>
                <a:gdLst/>
                <a:ahLst/>
                <a:rect l="l" t="t" r="r" b="b"/>
                <a:pathLst>
                  <a:path w="208" h="276">
                    <a:moveTo>
                      <a:pt x="185" y="70"/>
                    </a:moveTo>
                    <a:cubicBezTo>
                      <a:pt x="169" y="62"/>
                      <a:pt x="153" y="56"/>
                      <a:pt x="138" y="47"/>
                    </a:cubicBezTo>
                    <a:cubicBezTo>
                      <a:pt x="114" y="33"/>
                      <a:pt x="67" y="0"/>
                      <a:pt x="67" y="0"/>
                    </a:cubicBezTo>
                    <a:cubicBezTo>
                      <a:pt x="0" y="44"/>
                      <a:pt x="18" y="80"/>
                      <a:pt x="32" y="165"/>
                    </a:cubicBezTo>
                    <a:cubicBezTo>
                      <a:pt x="34" y="177"/>
                      <a:pt x="34" y="191"/>
                      <a:pt x="43" y="200"/>
                    </a:cubicBezTo>
                    <a:cubicBezTo>
                      <a:pt x="56" y="212"/>
                      <a:pt x="75" y="215"/>
                      <a:pt x="91" y="223"/>
                    </a:cubicBezTo>
                    <a:cubicBezTo>
                      <a:pt x="121" y="269"/>
                      <a:pt x="133" y="276"/>
                      <a:pt x="185" y="259"/>
                    </a:cubicBezTo>
                    <a:cubicBezTo>
                      <a:pt x="192" y="235"/>
                      <a:pt x="208" y="213"/>
                      <a:pt x="208" y="188"/>
                    </a:cubicBezTo>
                    <a:cubicBezTo>
                      <a:pt x="208" y="145"/>
                      <a:pt x="185" y="111"/>
                      <a:pt x="185" y="70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34320" y="4368960"/>
                <a:ext cx="110880" cy="126720"/>
              </a:xfrm>
              <a:custGeom>
                <a:avLst/>
                <a:gdLst/>
                <a:ahLst/>
                <a:rect l="l" t="t" r="r" b="b"/>
                <a:pathLst>
                  <a:path w="118" h="78">
                    <a:moveTo>
                      <a:pt x="118" y="0"/>
                    </a:moveTo>
                    <a:cubicBezTo>
                      <a:pt x="102" y="11"/>
                      <a:pt x="0" y="78"/>
                      <a:pt x="0" y="12"/>
                    </a:cubicBez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3200400" y="6248520"/>
            <a:ext cx="685800" cy="609480"/>
            <a:chOff x="3200400" y="6248520"/>
            <a:chExt cx="685800" cy="609480"/>
          </a:xfrm>
        </p:grpSpPr>
        <p:grpSp>
          <p:nvGrpSpPr>
            <p:cNvPr id="285" name=""/>
            <p:cNvGrpSpPr/>
            <p:nvPr/>
          </p:nvGrpSpPr>
          <p:grpSpPr>
            <a:xfrm>
              <a:off x="3242880" y="6248520"/>
              <a:ext cx="628920" cy="562320"/>
              <a:chOff x="3242880" y="6248520"/>
              <a:chExt cx="628920" cy="562320"/>
            </a:xfrm>
          </p:grpSpPr>
          <p:sp>
            <p:nvSpPr>
              <p:cNvPr id="286" name=""/>
              <p:cNvSpPr/>
              <p:nvPr/>
            </p:nvSpPr>
            <p:spPr>
              <a:xfrm>
                <a:off x="334080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1916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9468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9244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1820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044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4288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2404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2468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8976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280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3872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3160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5068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400000">
                <a:off x="358668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>
              <a:hlinkClick r:id="" action="ppaction://hlinkshowjump?jump=firstslide"/>
            </p:cNvPr>
            <p:cNvSpPr/>
            <p:nvPr/>
          </p:nvSpPr>
          <p:spPr>
            <a:xfrm>
              <a:off x="320040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924680" y="6318360"/>
            <a:ext cx="914400" cy="533160"/>
            <a:chOff x="7924680" y="6318360"/>
            <a:chExt cx="914400" cy="533160"/>
          </a:xfrm>
        </p:grpSpPr>
        <p:grpSp>
          <p:nvGrpSpPr>
            <p:cNvPr id="304" name=""/>
            <p:cNvGrpSpPr/>
            <p:nvPr/>
          </p:nvGrpSpPr>
          <p:grpSpPr>
            <a:xfrm>
              <a:off x="7924680" y="6384600"/>
              <a:ext cx="846720" cy="333360"/>
              <a:chOff x="7924680" y="6384600"/>
              <a:chExt cx="846720" cy="333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924680" y="6384600"/>
                <a:ext cx="846720" cy="333360"/>
                <a:chOff x="7924680" y="6384600"/>
                <a:chExt cx="846720" cy="3333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476920" y="640188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924680" y="6384600"/>
                  <a:ext cx="693000" cy="333360"/>
                  <a:chOff x="7924680" y="6384600"/>
                  <a:chExt cx="693000" cy="3333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8404920" y="638460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334720" y="639324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214480" y="639864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8151480" y="644220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48880" y="646884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924680" y="650448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>
                <a:off x="8634600" y="648180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924680" y="631836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054320" y="2971800"/>
            <a:ext cx="1101960" cy="1473120"/>
            <a:chOff x="4054320" y="2971800"/>
            <a:chExt cx="1101960" cy="1473120"/>
          </a:xfrm>
        </p:grpSpPr>
        <p:sp>
          <p:nvSpPr>
            <p:cNvPr id="318" name=""/>
            <p:cNvSpPr/>
            <p:nvPr/>
          </p:nvSpPr>
          <p:spPr>
            <a:xfrm>
              <a:off x="4054320" y="3343320"/>
              <a:ext cx="392400" cy="110160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216320" y="2971800"/>
              <a:ext cx="939960" cy="1436760"/>
              <a:chOff x="4216320" y="2971800"/>
              <a:chExt cx="939960" cy="1436760"/>
            </a:xfrm>
          </p:grpSpPr>
          <p:sp>
            <p:nvSpPr>
              <p:cNvPr id="320" name=""/>
              <p:cNvSpPr/>
              <p:nvPr/>
            </p:nvSpPr>
            <p:spPr>
              <a:xfrm>
                <a:off x="4419720" y="3200400"/>
                <a:ext cx="30636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19720" y="297180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21240" y="328464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16320" y="3056040"/>
                <a:ext cx="2304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18120" y="3282840"/>
                <a:ext cx="301320" cy="23184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73520" y="3132000"/>
                <a:ext cx="230400" cy="154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0920" y="3699000"/>
                <a:ext cx="765360" cy="709560"/>
              </a:xfrm>
              <a:custGeom>
                <a:avLst/>
                <a:gdLst/>
                <a:ahLst/>
                <a:rect l="l" t="t" r="r" b="b"/>
                <a:pathLst>
                  <a:path w="482" h="447">
                    <a:moveTo>
                      <a:pt x="0" y="447"/>
                    </a:moveTo>
                    <a:lnTo>
                      <a:pt x="4" y="409"/>
                    </a:lnTo>
                    <a:lnTo>
                      <a:pt x="8" y="370"/>
                    </a:lnTo>
                    <a:lnTo>
                      <a:pt x="14" y="332"/>
                    </a:lnTo>
                    <a:lnTo>
                      <a:pt x="19" y="313"/>
                    </a:lnTo>
                    <a:lnTo>
                      <a:pt x="24" y="296"/>
                    </a:lnTo>
                    <a:lnTo>
                      <a:pt x="31" y="279"/>
                    </a:lnTo>
                    <a:lnTo>
                      <a:pt x="39" y="263"/>
                    </a:lnTo>
                    <a:lnTo>
                      <a:pt x="49" y="249"/>
                    </a:lnTo>
                    <a:lnTo>
                      <a:pt x="61" y="236"/>
                    </a:lnTo>
                    <a:lnTo>
                      <a:pt x="75" y="224"/>
                    </a:lnTo>
                    <a:lnTo>
                      <a:pt x="90" y="214"/>
                    </a:lnTo>
                    <a:lnTo>
                      <a:pt x="108" y="206"/>
                    </a:lnTo>
                    <a:lnTo>
                      <a:pt x="129" y="200"/>
                    </a:lnTo>
                    <a:lnTo>
                      <a:pt x="134" y="192"/>
                    </a:lnTo>
                    <a:lnTo>
                      <a:pt x="139" y="185"/>
                    </a:lnTo>
                    <a:lnTo>
                      <a:pt x="142" y="180"/>
                    </a:lnTo>
                    <a:lnTo>
                      <a:pt x="146" y="175"/>
                    </a:lnTo>
                    <a:lnTo>
                      <a:pt x="150" y="167"/>
                    </a:lnTo>
                    <a:lnTo>
                      <a:pt x="153" y="163"/>
                    </a:lnTo>
                    <a:lnTo>
                      <a:pt x="154" y="161"/>
                    </a:lnTo>
                    <a:lnTo>
                      <a:pt x="154" y="161"/>
                    </a:lnTo>
                    <a:lnTo>
                      <a:pt x="153" y="163"/>
                    </a:lnTo>
                    <a:lnTo>
                      <a:pt x="153" y="165"/>
                    </a:lnTo>
                    <a:lnTo>
                      <a:pt x="152" y="168"/>
                    </a:lnTo>
                    <a:lnTo>
                      <a:pt x="153" y="170"/>
                    </a:lnTo>
                    <a:lnTo>
                      <a:pt x="155" y="172"/>
                    </a:lnTo>
                    <a:lnTo>
                      <a:pt x="159" y="173"/>
                    </a:lnTo>
                    <a:lnTo>
                      <a:pt x="164" y="171"/>
                    </a:lnTo>
                    <a:lnTo>
                      <a:pt x="173" y="168"/>
                    </a:lnTo>
                    <a:lnTo>
                      <a:pt x="185" y="162"/>
                    </a:lnTo>
                    <a:lnTo>
                      <a:pt x="192" y="157"/>
                    </a:lnTo>
                    <a:lnTo>
                      <a:pt x="200" y="152"/>
                    </a:lnTo>
                    <a:lnTo>
                      <a:pt x="204" y="149"/>
                    </a:lnTo>
                    <a:lnTo>
                      <a:pt x="207" y="144"/>
                    </a:lnTo>
                    <a:lnTo>
                      <a:pt x="212" y="135"/>
                    </a:lnTo>
                    <a:lnTo>
                      <a:pt x="216" y="125"/>
                    </a:lnTo>
                    <a:lnTo>
                      <a:pt x="219" y="121"/>
                    </a:lnTo>
                    <a:lnTo>
                      <a:pt x="223" y="117"/>
                    </a:lnTo>
                    <a:lnTo>
                      <a:pt x="234" y="110"/>
                    </a:lnTo>
                    <a:lnTo>
                      <a:pt x="245" y="104"/>
                    </a:lnTo>
                    <a:lnTo>
                      <a:pt x="258" y="99"/>
                    </a:lnTo>
                    <a:lnTo>
                      <a:pt x="270" y="94"/>
                    </a:lnTo>
                    <a:lnTo>
                      <a:pt x="283" y="77"/>
                    </a:lnTo>
                    <a:lnTo>
                      <a:pt x="298" y="61"/>
                    </a:lnTo>
                    <a:lnTo>
                      <a:pt x="315" y="48"/>
                    </a:lnTo>
                    <a:lnTo>
                      <a:pt x="332" y="35"/>
                    </a:lnTo>
                    <a:lnTo>
                      <a:pt x="351" y="25"/>
                    </a:lnTo>
                    <a:lnTo>
                      <a:pt x="371" y="15"/>
                    </a:lnTo>
                    <a:lnTo>
                      <a:pt x="391" y="7"/>
                    </a:lnTo>
                    <a:lnTo>
                      <a:pt x="412" y="0"/>
                    </a:lnTo>
                    <a:lnTo>
                      <a:pt x="424" y="3"/>
                    </a:lnTo>
                    <a:lnTo>
                      <a:pt x="434" y="6"/>
                    </a:lnTo>
                    <a:lnTo>
                      <a:pt x="443" y="8"/>
                    </a:lnTo>
                    <a:lnTo>
                      <a:pt x="449" y="11"/>
                    </a:lnTo>
                    <a:lnTo>
                      <a:pt x="455" y="13"/>
                    </a:lnTo>
                    <a:lnTo>
                      <a:pt x="459" y="16"/>
                    </a:lnTo>
                    <a:lnTo>
                      <a:pt x="465" y="23"/>
                    </a:lnTo>
                    <a:lnTo>
                      <a:pt x="469" y="33"/>
                    </a:lnTo>
                    <a:lnTo>
                      <a:pt x="472" y="45"/>
                    </a:lnTo>
                    <a:lnTo>
                      <a:pt x="473" y="52"/>
                    </a:lnTo>
                    <a:lnTo>
                      <a:pt x="476" y="61"/>
                    </a:lnTo>
                    <a:lnTo>
                      <a:pt x="478" y="71"/>
                    </a:lnTo>
                    <a:lnTo>
                      <a:pt x="482" y="82"/>
                    </a:lnTo>
                    <a:lnTo>
                      <a:pt x="480" y="106"/>
                    </a:lnTo>
                    <a:lnTo>
                      <a:pt x="479" y="130"/>
                    </a:lnTo>
                    <a:lnTo>
                      <a:pt x="476" y="153"/>
                    </a:lnTo>
                    <a:lnTo>
                      <a:pt x="474" y="165"/>
                    </a:lnTo>
                    <a:lnTo>
                      <a:pt x="470" y="176"/>
                    </a:lnTo>
                    <a:lnTo>
                      <a:pt x="468" y="180"/>
                    </a:lnTo>
                    <a:lnTo>
                      <a:pt x="464" y="184"/>
                    </a:lnTo>
                    <a:lnTo>
                      <a:pt x="454" y="189"/>
                    </a:lnTo>
                    <a:lnTo>
                      <a:pt x="444" y="194"/>
                    </a:lnTo>
                    <a:lnTo>
                      <a:pt x="435" y="200"/>
                    </a:lnTo>
                    <a:lnTo>
                      <a:pt x="425" y="211"/>
                    </a:lnTo>
                    <a:lnTo>
                      <a:pt x="418" y="219"/>
                    </a:lnTo>
                    <a:lnTo>
                      <a:pt x="414" y="225"/>
                    </a:lnTo>
                    <a:lnTo>
                      <a:pt x="412" y="230"/>
                    </a:lnTo>
                    <a:lnTo>
                      <a:pt x="412" y="233"/>
                    </a:lnTo>
                    <a:lnTo>
                      <a:pt x="412" y="235"/>
                    </a:lnTo>
                    <a:lnTo>
                      <a:pt x="414" y="237"/>
                    </a:lnTo>
                    <a:lnTo>
                      <a:pt x="414" y="237"/>
                    </a:lnTo>
                    <a:lnTo>
                      <a:pt x="412" y="238"/>
                    </a:lnTo>
                    <a:lnTo>
                      <a:pt x="409" y="238"/>
                    </a:lnTo>
                    <a:lnTo>
                      <a:pt x="403" y="240"/>
                    </a:lnTo>
                    <a:lnTo>
                      <a:pt x="393" y="242"/>
                    </a:lnTo>
                    <a:lnTo>
                      <a:pt x="387" y="244"/>
                    </a:lnTo>
                    <a:lnTo>
                      <a:pt x="380" y="246"/>
                    </a:lnTo>
                    <a:lnTo>
                      <a:pt x="372" y="248"/>
                    </a:lnTo>
                    <a:lnTo>
                      <a:pt x="363" y="251"/>
                    </a:lnTo>
                    <a:lnTo>
                      <a:pt x="353" y="254"/>
                    </a:lnTo>
                    <a:lnTo>
                      <a:pt x="341" y="258"/>
                    </a:lnTo>
                    <a:lnTo>
                      <a:pt x="306" y="268"/>
                    </a:lnTo>
                    <a:lnTo>
                      <a:pt x="271" y="277"/>
                    </a:lnTo>
                    <a:lnTo>
                      <a:pt x="235" y="285"/>
                    </a:lnTo>
                    <a:lnTo>
                      <a:pt x="200" y="294"/>
                    </a:lnTo>
                    <a:lnTo>
                      <a:pt x="193" y="296"/>
                    </a:lnTo>
                    <a:lnTo>
                      <a:pt x="186" y="297"/>
                    </a:lnTo>
                    <a:lnTo>
                      <a:pt x="171" y="301"/>
                    </a:lnTo>
                    <a:lnTo>
                      <a:pt x="164" y="303"/>
                    </a:lnTo>
                    <a:lnTo>
                      <a:pt x="158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35" y="314"/>
                    </a:lnTo>
                    <a:lnTo>
                      <a:pt x="119" y="322"/>
                    </a:lnTo>
                    <a:lnTo>
                      <a:pt x="105" y="329"/>
                    </a:lnTo>
                    <a:lnTo>
                      <a:pt x="93" y="335"/>
                    </a:lnTo>
                    <a:lnTo>
                      <a:pt x="82" y="340"/>
                    </a:lnTo>
                    <a:lnTo>
                      <a:pt x="73" y="346"/>
                    </a:lnTo>
                    <a:lnTo>
                      <a:pt x="65" y="352"/>
                    </a:lnTo>
                    <a:lnTo>
                      <a:pt x="57" y="358"/>
                    </a:lnTo>
                    <a:lnTo>
                      <a:pt x="50" y="364"/>
                    </a:lnTo>
                    <a:lnTo>
                      <a:pt x="44" y="372"/>
                    </a:lnTo>
                    <a:lnTo>
                      <a:pt x="37" y="380"/>
                    </a:lnTo>
                    <a:lnTo>
                      <a:pt x="31" y="390"/>
                    </a:lnTo>
                    <a:lnTo>
                      <a:pt x="24" y="401"/>
                    </a:lnTo>
                    <a:lnTo>
                      <a:pt x="17" y="414"/>
                    </a:lnTo>
                    <a:lnTo>
                      <a:pt x="9" y="430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2133720" y="5181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bruco ammirava la far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firstslide"/>
          </p:cNvPr>
          <p:cNvSpPr/>
          <p:nvPr/>
        </p:nvSpPr>
        <p:spPr>
          <a:xfrm>
            <a:off x="3124080" y="61722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1"/>
          </p:cNvPr>
          <p:cNvSpPr/>
          <p:nvPr/>
        </p:nvSpPr>
        <p:spPr>
          <a:xfrm>
            <a:off x="54100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4680" y="3809880"/>
            <a:ext cx="758196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09600" y="382896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54320" y="2971800"/>
            <a:ext cx="1101960" cy="1473120"/>
            <a:chOff x="4054320" y="2971800"/>
            <a:chExt cx="1101960" cy="1473120"/>
          </a:xfrm>
        </p:grpSpPr>
        <p:sp>
          <p:nvSpPr>
            <p:cNvPr id="336" name=""/>
            <p:cNvSpPr/>
            <p:nvPr/>
          </p:nvSpPr>
          <p:spPr>
            <a:xfrm>
              <a:off x="4054320" y="3343320"/>
              <a:ext cx="392400" cy="110160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216320" y="2971800"/>
              <a:ext cx="939960" cy="1436760"/>
              <a:chOff x="4216320" y="2971800"/>
              <a:chExt cx="939960" cy="1436760"/>
            </a:xfrm>
          </p:grpSpPr>
          <p:sp>
            <p:nvSpPr>
              <p:cNvPr id="338" name=""/>
              <p:cNvSpPr/>
              <p:nvPr/>
            </p:nvSpPr>
            <p:spPr>
              <a:xfrm>
                <a:off x="4419720" y="3200400"/>
                <a:ext cx="30636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19720" y="297180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21240" y="328464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16320" y="3056040"/>
                <a:ext cx="2304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18120" y="3282840"/>
                <a:ext cx="301320" cy="23184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73520" y="3132000"/>
                <a:ext cx="230400" cy="154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90920" y="3699000"/>
                <a:ext cx="765360" cy="709560"/>
              </a:xfrm>
              <a:custGeom>
                <a:avLst/>
                <a:gdLst/>
                <a:ahLst/>
                <a:rect l="l" t="t" r="r" b="b"/>
                <a:pathLst>
                  <a:path w="482" h="447">
                    <a:moveTo>
                      <a:pt x="0" y="447"/>
                    </a:moveTo>
                    <a:lnTo>
                      <a:pt x="4" y="409"/>
                    </a:lnTo>
                    <a:lnTo>
                      <a:pt x="8" y="370"/>
                    </a:lnTo>
                    <a:lnTo>
                      <a:pt x="14" y="332"/>
                    </a:lnTo>
                    <a:lnTo>
                      <a:pt x="19" y="313"/>
                    </a:lnTo>
                    <a:lnTo>
                      <a:pt x="24" y="296"/>
                    </a:lnTo>
                    <a:lnTo>
                      <a:pt x="31" y="279"/>
                    </a:lnTo>
                    <a:lnTo>
                      <a:pt x="39" y="263"/>
                    </a:lnTo>
                    <a:lnTo>
                      <a:pt x="49" y="249"/>
                    </a:lnTo>
                    <a:lnTo>
                      <a:pt x="61" y="236"/>
                    </a:lnTo>
                    <a:lnTo>
                      <a:pt x="75" y="224"/>
                    </a:lnTo>
                    <a:lnTo>
                      <a:pt x="90" y="214"/>
                    </a:lnTo>
                    <a:lnTo>
                      <a:pt x="108" y="206"/>
                    </a:lnTo>
                    <a:lnTo>
                      <a:pt x="129" y="200"/>
                    </a:lnTo>
                    <a:lnTo>
                      <a:pt x="134" y="192"/>
                    </a:lnTo>
                    <a:lnTo>
                      <a:pt x="139" y="185"/>
                    </a:lnTo>
                    <a:lnTo>
                      <a:pt x="142" y="180"/>
                    </a:lnTo>
                    <a:lnTo>
                      <a:pt x="146" y="175"/>
                    </a:lnTo>
                    <a:lnTo>
                      <a:pt x="150" y="167"/>
                    </a:lnTo>
                    <a:lnTo>
                      <a:pt x="153" y="163"/>
                    </a:lnTo>
                    <a:lnTo>
                      <a:pt x="154" y="161"/>
                    </a:lnTo>
                    <a:lnTo>
                      <a:pt x="154" y="161"/>
                    </a:lnTo>
                    <a:lnTo>
                      <a:pt x="153" y="163"/>
                    </a:lnTo>
                    <a:lnTo>
                      <a:pt x="153" y="165"/>
                    </a:lnTo>
                    <a:lnTo>
                      <a:pt x="152" y="168"/>
                    </a:lnTo>
                    <a:lnTo>
                      <a:pt x="153" y="170"/>
                    </a:lnTo>
                    <a:lnTo>
                      <a:pt x="155" y="172"/>
                    </a:lnTo>
                    <a:lnTo>
                      <a:pt x="159" y="173"/>
                    </a:lnTo>
                    <a:lnTo>
                      <a:pt x="164" y="171"/>
                    </a:lnTo>
                    <a:lnTo>
                      <a:pt x="173" y="168"/>
                    </a:lnTo>
                    <a:lnTo>
                      <a:pt x="185" y="162"/>
                    </a:lnTo>
                    <a:lnTo>
                      <a:pt x="192" y="157"/>
                    </a:lnTo>
                    <a:lnTo>
                      <a:pt x="200" y="152"/>
                    </a:lnTo>
                    <a:lnTo>
                      <a:pt x="204" y="149"/>
                    </a:lnTo>
                    <a:lnTo>
                      <a:pt x="207" y="144"/>
                    </a:lnTo>
                    <a:lnTo>
                      <a:pt x="212" y="135"/>
                    </a:lnTo>
                    <a:lnTo>
                      <a:pt x="216" y="125"/>
                    </a:lnTo>
                    <a:lnTo>
                      <a:pt x="219" y="121"/>
                    </a:lnTo>
                    <a:lnTo>
                      <a:pt x="223" y="117"/>
                    </a:lnTo>
                    <a:lnTo>
                      <a:pt x="234" y="110"/>
                    </a:lnTo>
                    <a:lnTo>
                      <a:pt x="245" y="104"/>
                    </a:lnTo>
                    <a:lnTo>
                      <a:pt x="258" y="99"/>
                    </a:lnTo>
                    <a:lnTo>
                      <a:pt x="270" y="94"/>
                    </a:lnTo>
                    <a:lnTo>
                      <a:pt x="283" y="77"/>
                    </a:lnTo>
                    <a:lnTo>
                      <a:pt x="298" y="61"/>
                    </a:lnTo>
                    <a:lnTo>
                      <a:pt x="315" y="48"/>
                    </a:lnTo>
                    <a:lnTo>
                      <a:pt x="332" y="35"/>
                    </a:lnTo>
                    <a:lnTo>
                      <a:pt x="351" y="25"/>
                    </a:lnTo>
                    <a:lnTo>
                      <a:pt x="371" y="15"/>
                    </a:lnTo>
                    <a:lnTo>
                      <a:pt x="391" y="7"/>
                    </a:lnTo>
                    <a:lnTo>
                      <a:pt x="412" y="0"/>
                    </a:lnTo>
                    <a:lnTo>
                      <a:pt x="424" y="3"/>
                    </a:lnTo>
                    <a:lnTo>
                      <a:pt x="434" y="6"/>
                    </a:lnTo>
                    <a:lnTo>
                      <a:pt x="443" y="8"/>
                    </a:lnTo>
                    <a:lnTo>
                      <a:pt x="449" y="11"/>
                    </a:lnTo>
                    <a:lnTo>
                      <a:pt x="455" y="13"/>
                    </a:lnTo>
                    <a:lnTo>
                      <a:pt x="459" y="16"/>
                    </a:lnTo>
                    <a:lnTo>
                      <a:pt x="465" y="23"/>
                    </a:lnTo>
                    <a:lnTo>
                      <a:pt x="469" y="33"/>
                    </a:lnTo>
                    <a:lnTo>
                      <a:pt x="472" y="45"/>
                    </a:lnTo>
                    <a:lnTo>
                      <a:pt x="473" y="52"/>
                    </a:lnTo>
                    <a:lnTo>
                      <a:pt x="476" y="61"/>
                    </a:lnTo>
                    <a:lnTo>
                      <a:pt x="478" y="71"/>
                    </a:lnTo>
                    <a:lnTo>
                      <a:pt x="482" y="82"/>
                    </a:lnTo>
                    <a:lnTo>
                      <a:pt x="480" y="106"/>
                    </a:lnTo>
                    <a:lnTo>
                      <a:pt x="479" y="130"/>
                    </a:lnTo>
                    <a:lnTo>
                      <a:pt x="476" y="153"/>
                    </a:lnTo>
                    <a:lnTo>
                      <a:pt x="474" y="165"/>
                    </a:lnTo>
                    <a:lnTo>
                      <a:pt x="470" y="176"/>
                    </a:lnTo>
                    <a:lnTo>
                      <a:pt x="468" y="180"/>
                    </a:lnTo>
                    <a:lnTo>
                      <a:pt x="464" y="184"/>
                    </a:lnTo>
                    <a:lnTo>
                      <a:pt x="454" y="189"/>
                    </a:lnTo>
                    <a:lnTo>
                      <a:pt x="444" y="194"/>
                    </a:lnTo>
                    <a:lnTo>
                      <a:pt x="435" y="200"/>
                    </a:lnTo>
                    <a:lnTo>
                      <a:pt x="425" y="211"/>
                    </a:lnTo>
                    <a:lnTo>
                      <a:pt x="418" y="219"/>
                    </a:lnTo>
                    <a:lnTo>
                      <a:pt x="414" y="225"/>
                    </a:lnTo>
                    <a:lnTo>
                      <a:pt x="412" y="230"/>
                    </a:lnTo>
                    <a:lnTo>
                      <a:pt x="412" y="233"/>
                    </a:lnTo>
                    <a:lnTo>
                      <a:pt x="412" y="235"/>
                    </a:lnTo>
                    <a:lnTo>
                      <a:pt x="414" y="237"/>
                    </a:lnTo>
                    <a:lnTo>
                      <a:pt x="414" y="237"/>
                    </a:lnTo>
                    <a:lnTo>
                      <a:pt x="412" y="238"/>
                    </a:lnTo>
                    <a:lnTo>
                      <a:pt x="409" y="238"/>
                    </a:lnTo>
                    <a:lnTo>
                      <a:pt x="403" y="240"/>
                    </a:lnTo>
                    <a:lnTo>
                      <a:pt x="393" y="242"/>
                    </a:lnTo>
                    <a:lnTo>
                      <a:pt x="387" y="244"/>
                    </a:lnTo>
                    <a:lnTo>
                      <a:pt x="380" y="246"/>
                    </a:lnTo>
                    <a:lnTo>
                      <a:pt x="372" y="248"/>
                    </a:lnTo>
                    <a:lnTo>
                      <a:pt x="363" y="251"/>
                    </a:lnTo>
                    <a:lnTo>
                      <a:pt x="353" y="254"/>
                    </a:lnTo>
                    <a:lnTo>
                      <a:pt x="341" y="258"/>
                    </a:lnTo>
                    <a:lnTo>
                      <a:pt x="306" y="268"/>
                    </a:lnTo>
                    <a:lnTo>
                      <a:pt x="271" y="277"/>
                    </a:lnTo>
                    <a:lnTo>
                      <a:pt x="235" y="285"/>
                    </a:lnTo>
                    <a:lnTo>
                      <a:pt x="200" y="294"/>
                    </a:lnTo>
                    <a:lnTo>
                      <a:pt x="193" y="296"/>
                    </a:lnTo>
                    <a:lnTo>
                      <a:pt x="186" y="297"/>
                    </a:lnTo>
                    <a:lnTo>
                      <a:pt x="171" y="301"/>
                    </a:lnTo>
                    <a:lnTo>
                      <a:pt x="164" y="303"/>
                    </a:lnTo>
                    <a:lnTo>
                      <a:pt x="158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35" y="314"/>
                    </a:lnTo>
                    <a:lnTo>
                      <a:pt x="119" y="322"/>
                    </a:lnTo>
                    <a:lnTo>
                      <a:pt x="105" y="329"/>
                    </a:lnTo>
                    <a:lnTo>
                      <a:pt x="93" y="335"/>
                    </a:lnTo>
                    <a:lnTo>
                      <a:pt x="82" y="340"/>
                    </a:lnTo>
                    <a:lnTo>
                      <a:pt x="73" y="346"/>
                    </a:lnTo>
                    <a:lnTo>
                      <a:pt x="65" y="352"/>
                    </a:lnTo>
                    <a:lnTo>
                      <a:pt x="57" y="358"/>
                    </a:lnTo>
                    <a:lnTo>
                      <a:pt x="50" y="364"/>
                    </a:lnTo>
                    <a:lnTo>
                      <a:pt x="44" y="372"/>
                    </a:lnTo>
                    <a:lnTo>
                      <a:pt x="37" y="380"/>
                    </a:lnTo>
                    <a:lnTo>
                      <a:pt x="31" y="390"/>
                    </a:lnTo>
                    <a:lnTo>
                      <a:pt x="24" y="401"/>
                    </a:lnTo>
                    <a:lnTo>
                      <a:pt x="17" y="414"/>
                    </a:lnTo>
                    <a:lnTo>
                      <a:pt x="9" y="430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4114440" y="2286000"/>
            <a:ext cx="1568520" cy="1192320"/>
            <a:chOff x="4114440" y="2286000"/>
            <a:chExt cx="1568520" cy="1192320"/>
          </a:xfrm>
        </p:grpSpPr>
        <p:sp>
          <p:nvSpPr>
            <p:cNvPr id="346" name=""/>
            <p:cNvSpPr/>
            <p:nvPr/>
          </p:nvSpPr>
          <p:spPr>
            <a:xfrm flipH="1">
              <a:off x="4580640" y="270036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114080" y="228600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888800" y="243216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898160" y="249084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287320" y="280836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011200" y="308772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14160" y="25988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579200" y="273060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24040" y="237168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10800000">
              <a:off x="5265360" y="305604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" y="304920"/>
            <a:ext cx="1955880" cy="1887480"/>
            <a:chOff x="685800" y="304920"/>
            <a:chExt cx="1955880" cy="1887480"/>
          </a:xfrm>
        </p:grpSpPr>
        <p:sp>
          <p:nvSpPr>
            <p:cNvPr id="357" name=""/>
            <p:cNvSpPr/>
            <p:nvPr/>
          </p:nvSpPr>
          <p:spPr>
            <a:xfrm>
              <a:off x="990720" y="609480"/>
              <a:ext cx="1176120" cy="123372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66840" y="68436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1295280"/>
              <a:ext cx="401760" cy="37332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360" y="1762200"/>
              <a:ext cx="430200" cy="40464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31920" y="16304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9560" y="1238400"/>
              <a:ext cx="522360" cy="37440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800" y="30492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60600" y="30636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371600" y="1371600"/>
              <a:ext cx="533520" cy="7632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43000" y="838080"/>
              <a:ext cx="304920" cy="30492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4280" y="952560"/>
              <a:ext cx="309600" cy="7452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84360" y="685800"/>
              <a:ext cx="320760" cy="36972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43040" y="82692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1790640" y="876240"/>
              <a:ext cx="763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209680" y="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120" y="1066680"/>
            <a:ext cx="2743200" cy="1447920"/>
          </a:xfrm>
          <a:prstGeom prst="wedgeRoundRectCallout">
            <a:avLst>
              <a:gd name="adj1" fmla="val -52606"/>
              <a:gd name="adj2" fmla="val 61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’io ero pe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striscia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 presto anche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venterai come 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400" y="3828960"/>
            <a:ext cx="179208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157320" y="4648320"/>
            <a:ext cx="9677520" cy="236196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139680" y="4842000"/>
            <a:ext cx="112680" cy="979200"/>
          </a:xfrm>
          <a:custGeom>
            <a:avLst/>
            <a:gdLst/>
            <a:ahLst/>
            <a:rect l="l" t="t" r="r" b="b"/>
            <a:pathLst>
              <a:path w="60" h="459">
                <a:moveTo>
                  <a:pt x="4" y="459"/>
                </a:moveTo>
                <a:cubicBezTo>
                  <a:pt x="8" y="334"/>
                  <a:pt x="0" y="207"/>
                  <a:pt x="15" y="83"/>
                </a:cubicBezTo>
                <a:cubicBezTo>
                  <a:pt x="17" y="70"/>
                  <a:pt x="46" y="83"/>
                  <a:pt x="51" y="71"/>
                </a:cubicBezTo>
                <a:cubicBezTo>
                  <a:pt x="60" y="49"/>
                  <a:pt x="51" y="24"/>
                  <a:pt x="51" y="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150840" y="4146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4680" y="3809880"/>
            <a:ext cx="758196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68580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609480" y="4495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785920" y="4254120"/>
            <a:ext cx="1394280" cy="609840"/>
            <a:chOff x="5785920" y="4254120"/>
            <a:chExt cx="1394280" cy="609840"/>
          </a:xfrm>
        </p:grpSpPr>
        <p:sp>
          <p:nvSpPr>
            <p:cNvPr id="382" name=""/>
            <p:cNvSpPr/>
            <p:nvPr/>
          </p:nvSpPr>
          <p:spPr>
            <a:xfrm flipH="1">
              <a:off x="6777000" y="453060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12426600">
              <a:off x="6026040" y="4267080"/>
              <a:ext cx="7632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85560" y="426708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063480" y="4343400"/>
              <a:ext cx="34308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220800" y="435780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319800" y="4365720"/>
              <a:ext cx="39384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492240" y="44337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716880" y="447516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920560" y="4368960"/>
              <a:ext cx="111240" cy="126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3962520" y="4876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7620120" y="49528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257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a farfalla si posò su un fiore lì vic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3352680"/>
            <a:ext cx="1904760" cy="685800"/>
          </a:xfrm>
          <a:prstGeom prst="wedgeRoundRectCallout">
            <a:avLst>
              <a:gd name="adj1" fmla="val -42250"/>
              <a:gd name="adj2" fmla="val 81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vv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380880" y="5715000"/>
            <a:ext cx="9856800" cy="137160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397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124080" y="6248520"/>
            <a:ext cx="685800" cy="609480"/>
            <a:chOff x="3124080" y="6248520"/>
            <a:chExt cx="685800" cy="609480"/>
          </a:xfrm>
        </p:grpSpPr>
        <p:grpSp>
          <p:nvGrpSpPr>
            <p:cNvPr id="408" name=""/>
            <p:cNvGrpSpPr/>
            <p:nvPr/>
          </p:nvGrpSpPr>
          <p:grpSpPr>
            <a:xfrm>
              <a:off x="3166560" y="6248520"/>
              <a:ext cx="628920" cy="562320"/>
              <a:chOff x="3166560" y="6248520"/>
              <a:chExt cx="628920" cy="562320"/>
            </a:xfrm>
          </p:grpSpPr>
          <p:sp>
            <p:nvSpPr>
              <p:cNvPr id="409" name=""/>
              <p:cNvSpPr/>
              <p:nvPr/>
            </p:nvSpPr>
            <p:spPr>
              <a:xfrm>
                <a:off x="326448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4284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1836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1612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4188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7412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6656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44772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4836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1344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3648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6240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5528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7436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400000">
                <a:off x="351036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>
              <a:hlinkClick r:id="" action="ppaction://hlinkshowjump?jump=firstslide"/>
            </p:cNvPr>
            <p:cNvSpPr/>
            <p:nvPr/>
          </p:nvSpPr>
          <p:spPr>
            <a:xfrm>
              <a:off x="312408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001000" y="6324480"/>
            <a:ext cx="914400" cy="533520"/>
            <a:chOff x="8001000" y="6324480"/>
            <a:chExt cx="914400" cy="533520"/>
          </a:xfrm>
        </p:grpSpPr>
        <p:grpSp>
          <p:nvGrpSpPr>
            <p:cNvPr id="426" name=""/>
            <p:cNvGrpSpPr/>
            <p:nvPr/>
          </p:nvGrpSpPr>
          <p:grpSpPr>
            <a:xfrm>
              <a:off x="8001000" y="6390720"/>
              <a:ext cx="846720" cy="333360"/>
              <a:chOff x="8001000" y="6390720"/>
              <a:chExt cx="846720" cy="333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8001000" y="6390720"/>
                <a:ext cx="846720" cy="333360"/>
                <a:chOff x="8001000" y="6390720"/>
                <a:chExt cx="846720" cy="3333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553240" y="640800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8001000" y="6390720"/>
                  <a:ext cx="693000" cy="333360"/>
                  <a:chOff x="8001000" y="6390720"/>
                  <a:chExt cx="693000" cy="3333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481240" y="639072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411040" y="639972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90800" y="640476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27800" y="6448320"/>
                    <a:ext cx="19980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125200" y="647496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001000" y="651060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6" name=""/>
              <p:cNvSpPr/>
              <p:nvPr/>
            </p:nvSpPr>
            <p:spPr>
              <a:xfrm>
                <a:off x="8710920" y="648828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>
              <a:hlinkClick r:id="" action="ppaction://hlinkshowjump?jump=nextslide"/>
            </p:cNvPr>
            <p:cNvSpPr/>
            <p:nvPr/>
          </p:nvSpPr>
          <p:spPr>
            <a:xfrm>
              <a:off x="8001000" y="6324480"/>
              <a:ext cx="914400" cy="53352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7010" h="21600">
                  <a:moveTo>
                    <a:pt x="0" y="0"/>
                  </a:moveTo>
                  <a:lnTo>
                    <a:pt x="37010" y="0"/>
                  </a:lnTo>
                  <a:lnTo>
                    <a:pt x="37010" y="21600"/>
                  </a:lnTo>
                  <a:lnTo>
                    <a:pt x="0" y="21600"/>
                  </a:lnTo>
                  <a:close/>
                </a:path>
                <a:path fill="lightenLess" w="37010" h="21600">
                  <a:moveTo>
                    <a:pt x="0" y="0"/>
                  </a:moveTo>
                  <a:lnTo>
                    <a:pt x="37010" y="0"/>
                  </a:lnTo>
                  <a:lnTo>
                    <a:pt x="35610" y="1400"/>
                  </a:lnTo>
                  <a:lnTo>
                    <a:pt x="1400" y="1400"/>
                  </a:lnTo>
                  <a:close/>
                </a:path>
                <a:path fill="darken" w="37010" h="21600">
                  <a:moveTo>
                    <a:pt x="37010" y="0"/>
                  </a:moveTo>
                  <a:lnTo>
                    <a:pt x="37010" y="21600"/>
                  </a:lnTo>
                  <a:lnTo>
                    <a:pt x="35610" y="20200"/>
                  </a:lnTo>
                  <a:lnTo>
                    <a:pt x="35610" y="1400"/>
                  </a:lnTo>
                  <a:close/>
                </a:path>
                <a:path fill="darkenLess" w="37010" h="21600">
                  <a:moveTo>
                    <a:pt x="370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10" y="20200"/>
                  </a:lnTo>
                  <a:close/>
                </a:path>
                <a:path fill="lighten" w="370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3124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11"/>
          </p:cNvPr>
          <p:cNvSpPr/>
          <p:nvPr/>
        </p:nvSpPr>
        <p:spPr>
          <a:xfrm>
            <a:off x="54100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2331360" y="3634560"/>
            <a:ext cx="811080" cy="506520"/>
            <a:chOff x="2331360" y="3634560"/>
            <a:chExt cx="811080" cy="506520"/>
          </a:xfrm>
        </p:grpSpPr>
        <p:sp>
          <p:nvSpPr>
            <p:cNvPr id="444" name=""/>
            <p:cNvSpPr/>
            <p:nvPr/>
          </p:nvSpPr>
          <p:spPr>
            <a:xfrm rot="15625200">
              <a:off x="2586600" y="3557160"/>
              <a:ext cx="374400" cy="684360"/>
            </a:xfrm>
            <a:custGeom>
              <a:avLst/>
              <a:gdLst/>
              <a:ahLst/>
              <a:rect l="l" t="t" r="r" b="b"/>
              <a:pathLst>
                <a:path w="141" h="346">
                  <a:moveTo>
                    <a:pt x="141" y="0"/>
                  </a:moveTo>
                  <a:cubicBezTo>
                    <a:pt x="133" y="12"/>
                    <a:pt x="129" y="26"/>
                    <a:pt x="118" y="35"/>
                  </a:cubicBezTo>
                  <a:cubicBezTo>
                    <a:pt x="108" y="43"/>
                    <a:pt x="91" y="38"/>
                    <a:pt x="82" y="47"/>
                  </a:cubicBezTo>
                  <a:cubicBezTo>
                    <a:pt x="62" y="67"/>
                    <a:pt x="35" y="117"/>
                    <a:pt x="35" y="117"/>
                  </a:cubicBezTo>
                  <a:cubicBezTo>
                    <a:pt x="31" y="180"/>
                    <a:pt x="30" y="243"/>
                    <a:pt x="24" y="305"/>
                  </a:cubicBezTo>
                  <a:cubicBezTo>
                    <a:pt x="23" y="318"/>
                    <a:pt x="0" y="338"/>
                    <a:pt x="12" y="341"/>
                  </a:cubicBezTo>
                  <a:cubicBezTo>
                    <a:pt x="36" y="346"/>
                    <a:pt x="82" y="317"/>
                    <a:pt x="82" y="317"/>
                  </a:cubicBezTo>
                  <a:cubicBezTo>
                    <a:pt x="117" y="214"/>
                    <a:pt x="122" y="108"/>
                    <a:pt x="141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5625200">
              <a:off x="2490840" y="3534120"/>
              <a:ext cx="246240" cy="531720"/>
            </a:xfrm>
            <a:custGeom>
              <a:avLst/>
              <a:gdLst/>
              <a:ahLst/>
              <a:rect l="l" t="t" r="r" b="b"/>
              <a:pathLst>
                <a:path w="155" h="335">
                  <a:moveTo>
                    <a:pt x="141" y="17"/>
                  </a:moveTo>
                  <a:cubicBezTo>
                    <a:pt x="111" y="105"/>
                    <a:pt x="155" y="0"/>
                    <a:pt x="94" y="76"/>
                  </a:cubicBezTo>
                  <a:cubicBezTo>
                    <a:pt x="86" y="86"/>
                    <a:pt x="88" y="100"/>
                    <a:pt x="82" y="111"/>
                  </a:cubicBezTo>
                  <a:cubicBezTo>
                    <a:pt x="76" y="124"/>
                    <a:pt x="66" y="134"/>
                    <a:pt x="58" y="146"/>
                  </a:cubicBezTo>
                  <a:cubicBezTo>
                    <a:pt x="46" y="185"/>
                    <a:pt x="35" y="225"/>
                    <a:pt x="23" y="264"/>
                  </a:cubicBezTo>
                  <a:cubicBezTo>
                    <a:pt x="20" y="276"/>
                    <a:pt x="15" y="287"/>
                    <a:pt x="11" y="299"/>
                  </a:cubicBezTo>
                  <a:cubicBezTo>
                    <a:pt x="7" y="311"/>
                    <a:pt x="0" y="335"/>
                    <a:pt x="0" y="3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724280" y="3733920"/>
            <a:ext cx="307800" cy="939600"/>
            <a:chOff x="4724280" y="3733920"/>
            <a:chExt cx="307800" cy="939600"/>
          </a:xfrm>
        </p:grpSpPr>
        <p:sp>
          <p:nvSpPr>
            <p:cNvPr id="447" name=""/>
            <p:cNvSpPr/>
            <p:nvPr/>
          </p:nvSpPr>
          <p:spPr>
            <a:xfrm>
              <a:off x="4724280" y="3887640"/>
              <a:ext cx="299880" cy="785880"/>
            </a:xfrm>
            <a:custGeom>
              <a:avLst/>
              <a:gdLst/>
              <a:ahLst/>
              <a:rect l="l" t="t" r="r" b="b"/>
              <a:pathLst>
                <a:path w="189" h="495">
                  <a:moveTo>
                    <a:pt x="106" y="0"/>
                  </a:moveTo>
                  <a:cubicBezTo>
                    <a:pt x="42" y="44"/>
                    <a:pt x="77" y="11"/>
                    <a:pt x="24" y="118"/>
                  </a:cubicBezTo>
                  <a:cubicBezTo>
                    <a:pt x="10" y="147"/>
                    <a:pt x="0" y="212"/>
                    <a:pt x="0" y="212"/>
                  </a:cubicBezTo>
                  <a:cubicBezTo>
                    <a:pt x="10" y="240"/>
                    <a:pt x="26" y="266"/>
                    <a:pt x="35" y="294"/>
                  </a:cubicBezTo>
                  <a:cubicBezTo>
                    <a:pt x="46" y="328"/>
                    <a:pt x="36" y="372"/>
                    <a:pt x="59" y="400"/>
                  </a:cubicBezTo>
                  <a:cubicBezTo>
                    <a:pt x="77" y="422"/>
                    <a:pt x="113" y="417"/>
                    <a:pt x="141" y="424"/>
                  </a:cubicBezTo>
                  <a:cubicBezTo>
                    <a:pt x="152" y="456"/>
                    <a:pt x="164" y="495"/>
                    <a:pt x="141" y="412"/>
                  </a:cubicBezTo>
                  <a:cubicBezTo>
                    <a:pt x="129" y="368"/>
                    <a:pt x="130" y="376"/>
                    <a:pt x="106" y="329"/>
                  </a:cubicBezTo>
                  <a:cubicBezTo>
                    <a:pt x="110" y="317"/>
                    <a:pt x="112" y="305"/>
                    <a:pt x="118" y="294"/>
                  </a:cubicBezTo>
                  <a:cubicBezTo>
                    <a:pt x="132" y="269"/>
                    <a:pt x="165" y="224"/>
                    <a:pt x="165" y="224"/>
                  </a:cubicBezTo>
                  <a:cubicBezTo>
                    <a:pt x="187" y="159"/>
                    <a:pt x="189" y="123"/>
                    <a:pt x="130" y="82"/>
                  </a:cubicBezTo>
                  <a:cubicBezTo>
                    <a:pt x="122" y="70"/>
                    <a:pt x="117" y="56"/>
                    <a:pt x="106" y="47"/>
                  </a:cubicBezTo>
                  <a:cubicBezTo>
                    <a:pt x="68" y="17"/>
                    <a:pt x="45" y="61"/>
                    <a:pt x="10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6960" y="3733920"/>
              <a:ext cx="195120" cy="509400"/>
            </a:xfrm>
            <a:custGeom>
              <a:avLst/>
              <a:gdLst/>
              <a:ahLst/>
              <a:rect l="l" t="t" r="r" b="b"/>
              <a:pathLst>
                <a:path w="200" h="342">
                  <a:moveTo>
                    <a:pt x="200" y="0"/>
                  </a:moveTo>
                  <a:cubicBezTo>
                    <a:pt x="146" y="18"/>
                    <a:pt x="95" y="15"/>
                    <a:pt x="47" y="47"/>
                  </a:cubicBezTo>
                  <a:cubicBezTo>
                    <a:pt x="39" y="59"/>
                    <a:pt x="29" y="70"/>
                    <a:pt x="23" y="83"/>
                  </a:cubicBezTo>
                  <a:cubicBezTo>
                    <a:pt x="13" y="105"/>
                    <a:pt x="0" y="153"/>
                    <a:pt x="0" y="153"/>
                  </a:cubicBezTo>
                  <a:cubicBezTo>
                    <a:pt x="19" y="228"/>
                    <a:pt x="23" y="256"/>
                    <a:pt x="23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138440" y="1477080"/>
            <a:ext cx="482040" cy="1487160"/>
            <a:chOff x="7138440" y="1477080"/>
            <a:chExt cx="482040" cy="1487160"/>
          </a:xfrm>
        </p:grpSpPr>
        <p:sp>
          <p:nvSpPr>
            <p:cNvPr id="450" name=""/>
            <p:cNvSpPr/>
            <p:nvPr/>
          </p:nvSpPr>
          <p:spPr>
            <a:xfrm rot="16911600">
              <a:off x="7210800" y="256608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4484400">
              <a:off x="7178040" y="1719000"/>
              <a:ext cx="7668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911600">
              <a:off x="7101000" y="158616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911600">
              <a:off x="7229880" y="1783800"/>
              <a:ext cx="34308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911600">
              <a:off x="7234200" y="192240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911600">
              <a:off x="7148880" y="2080080"/>
              <a:ext cx="393840" cy="33372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911600">
              <a:off x="7216560" y="223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911600">
              <a:off x="7252920" y="242676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6911000">
              <a:off x="7277760" y="1580760"/>
              <a:ext cx="152280" cy="1522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371240" y="4038480"/>
            <a:ext cx="1394280" cy="596880"/>
            <a:chOff x="1371240" y="4038480"/>
            <a:chExt cx="1394280" cy="596880"/>
          </a:xfrm>
        </p:grpSpPr>
        <p:sp>
          <p:nvSpPr>
            <p:cNvPr id="460" name=""/>
            <p:cNvSpPr/>
            <p:nvPr/>
          </p:nvSpPr>
          <p:spPr>
            <a:xfrm flipH="1">
              <a:off x="2362320" y="430200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370880" y="403848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49520" y="4114800"/>
              <a:ext cx="34272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805760" y="412920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904400" y="4137120"/>
              <a:ext cx="39348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077920" y="4205160"/>
              <a:ext cx="32256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301840" y="424656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1523160" y="4194000"/>
              <a:ext cx="93960" cy="763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12426600">
              <a:off x="1522800" y="411768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726160" y="3727440"/>
            <a:ext cx="3537000" cy="1654200"/>
          </a:xfrm>
          <a:custGeom>
            <a:avLst/>
            <a:gdLst/>
            <a:ahLst/>
            <a:rect l="l" t="t" r="r" b="b"/>
            <a:pathLst>
              <a:path w="2228" h="1042">
                <a:moveTo>
                  <a:pt x="40" y="429"/>
                </a:moveTo>
                <a:cubicBezTo>
                  <a:pt x="145" y="393"/>
                  <a:pt x="85" y="417"/>
                  <a:pt x="204" y="358"/>
                </a:cubicBezTo>
                <a:cubicBezTo>
                  <a:pt x="220" y="350"/>
                  <a:pt x="235" y="343"/>
                  <a:pt x="251" y="335"/>
                </a:cubicBezTo>
                <a:cubicBezTo>
                  <a:pt x="267" y="327"/>
                  <a:pt x="298" y="311"/>
                  <a:pt x="298" y="311"/>
                </a:cubicBezTo>
                <a:cubicBezTo>
                  <a:pt x="315" y="245"/>
                  <a:pt x="352" y="189"/>
                  <a:pt x="369" y="123"/>
                </a:cubicBezTo>
                <a:cubicBezTo>
                  <a:pt x="365" y="178"/>
                  <a:pt x="354" y="233"/>
                  <a:pt x="357" y="288"/>
                </a:cubicBezTo>
                <a:cubicBezTo>
                  <a:pt x="358" y="306"/>
                  <a:pt x="363" y="335"/>
                  <a:pt x="381" y="335"/>
                </a:cubicBezTo>
                <a:cubicBezTo>
                  <a:pt x="398" y="335"/>
                  <a:pt x="392" y="300"/>
                  <a:pt x="404" y="288"/>
                </a:cubicBezTo>
                <a:cubicBezTo>
                  <a:pt x="416" y="275"/>
                  <a:pt x="435" y="272"/>
                  <a:pt x="451" y="264"/>
                </a:cubicBezTo>
                <a:cubicBezTo>
                  <a:pt x="459" y="248"/>
                  <a:pt x="469" y="233"/>
                  <a:pt x="475" y="217"/>
                </a:cubicBezTo>
                <a:cubicBezTo>
                  <a:pt x="494" y="167"/>
                  <a:pt x="480" y="141"/>
                  <a:pt x="498" y="217"/>
                </a:cubicBezTo>
                <a:cubicBezTo>
                  <a:pt x="493" y="266"/>
                  <a:pt x="469" y="344"/>
                  <a:pt x="510" y="358"/>
                </a:cubicBezTo>
                <a:cubicBezTo>
                  <a:pt x="525" y="363"/>
                  <a:pt x="541" y="350"/>
                  <a:pt x="557" y="346"/>
                </a:cubicBezTo>
                <a:cubicBezTo>
                  <a:pt x="565" y="330"/>
                  <a:pt x="568" y="311"/>
                  <a:pt x="581" y="299"/>
                </a:cubicBezTo>
                <a:cubicBezTo>
                  <a:pt x="652" y="229"/>
                  <a:pt x="614" y="322"/>
                  <a:pt x="639" y="240"/>
                </a:cubicBezTo>
                <a:cubicBezTo>
                  <a:pt x="650" y="303"/>
                  <a:pt x="641" y="369"/>
                  <a:pt x="663" y="429"/>
                </a:cubicBezTo>
                <a:cubicBezTo>
                  <a:pt x="667" y="440"/>
                  <a:pt x="686" y="436"/>
                  <a:pt x="698" y="440"/>
                </a:cubicBezTo>
                <a:cubicBezTo>
                  <a:pt x="777" y="431"/>
                  <a:pt x="843" y="426"/>
                  <a:pt x="910" y="382"/>
                </a:cubicBezTo>
                <a:cubicBezTo>
                  <a:pt x="914" y="370"/>
                  <a:pt x="913" y="355"/>
                  <a:pt x="922" y="346"/>
                </a:cubicBezTo>
                <a:cubicBezTo>
                  <a:pt x="985" y="283"/>
                  <a:pt x="936" y="397"/>
                  <a:pt x="969" y="299"/>
                </a:cubicBezTo>
                <a:cubicBezTo>
                  <a:pt x="973" y="327"/>
                  <a:pt x="966" y="358"/>
                  <a:pt x="981" y="382"/>
                </a:cubicBezTo>
                <a:cubicBezTo>
                  <a:pt x="1018" y="441"/>
                  <a:pt x="1040" y="367"/>
                  <a:pt x="1051" y="358"/>
                </a:cubicBezTo>
                <a:cubicBezTo>
                  <a:pt x="1064" y="347"/>
                  <a:pt x="1082" y="343"/>
                  <a:pt x="1098" y="335"/>
                </a:cubicBezTo>
                <a:cubicBezTo>
                  <a:pt x="1163" y="205"/>
                  <a:pt x="1141" y="205"/>
                  <a:pt x="1157" y="358"/>
                </a:cubicBezTo>
                <a:cubicBezTo>
                  <a:pt x="1220" y="327"/>
                  <a:pt x="1233" y="334"/>
                  <a:pt x="1251" y="264"/>
                </a:cubicBezTo>
                <a:cubicBezTo>
                  <a:pt x="1247" y="209"/>
                  <a:pt x="1256" y="152"/>
                  <a:pt x="1239" y="99"/>
                </a:cubicBezTo>
                <a:cubicBezTo>
                  <a:pt x="1234" y="82"/>
                  <a:pt x="1205" y="87"/>
                  <a:pt x="1192" y="76"/>
                </a:cubicBezTo>
                <a:cubicBezTo>
                  <a:pt x="1102" y="0"/>
                  <a:pt x="1249" y="75"/>
                  <a:pt x="1251" y="76"/>
                </a:cubicBezTo>
                <a:cubicBezTo>
                  <a:pt x="1307" y="188"/>
                  <a:pt x="1311" y="224"/>
                  <a:pt x="1334" y="358"/>
                </a:cubicBezTo>
                <a:cubicBezTo>
                  <a:pt x="1372" y="280"/>
                  <a:pt x="1341" y="319"/>
                  <a:pt x="1451" y="264"/>
                </a:cubicBezTo>
                <a:cubicBezTo>
                  <a:pt x="1465" y="257"/>
                  <a:pt x="1482" y="257"/>
                  <a:pt x="1498" y="252"/>
                </a:cubicBezTo>
                <a:cubicBezTo>
                  <a:pt x="1510" y="249"/>
                  <a:pt x="1542" y="231"/>
                  <a:pt x="1533" y="240"/>
                </a:cubicBezTo>
                <a:cubicBezTo>
                  <a:pt x="1521" y="252"/>
                  <a:pt x="1502" y="256"/>
                  <a:pt x="1486" y="264"/>
                </a:cubicBezTo>
                <a:cubicBezTo>
                  <a:pt x="1473" y="319"/>
                  <a:pt x="1456" y="369"/>
                  <a:pt x="1486" y="429"/>
                </a:cubicBezTo>
                <a:cubicBezTo>
                  <a:pt x="1492" y="442"/>
                  <a:pt x="1509" y="412"/>
                  <a:pt x="1522" y="405"/>
                </a:cubicBezTo>
                <a:cubicBezTo>
                  <a:pt x="1549" y="392"/>
                  <a:pt x="1577" y="383"/>
                  <a:pt x="1604" y="370"/>
                </a:cubicBezTo>
                <a:cubicBezTo>
                  <a:pt x="1612" y="358"/>
                  <a:pt x="1617" y="344"/>
                  <a:pt x="1628" y="335"/>
                </a:cubicBezTo>
                <a:cubicBezTo>
                  <a:pt x="1702" y="276"/>
                  <a:pt x="1667" y="427"/>
                  <a:pt x="1675" y="452"/>
                </a:cubicBezTo>
                <a:cubicBezTo>
                  <a:pt x="1679" y="466"/>
                  <a:pt x="1698" y="468"/>
                  <a:pt x="1710" y="476"/>
                </a:cubicBezTo>
                <a:cubicBezTo>
                  <a:pt x="1718" y="492"/>
                  <a:pt x="1716" y="519"/>
                  <a:pt x="1733" y="523"/>
                </a:cubicBezTo>
                <a:cubicBezTo>
                  <a:pt x="1751" y="528"/>
                  <a:pt x="1764" y="457"/>
                  <a:pt x="1769" y="452"/>
                </a:cubicBezTo>
                <a:cubicBezTo>
                  <a:pt x="1785" y="436"/>
                  <a:pt x="1875" y="393"/>
                  <a:pt x="1898" y="382"/>
                </a:cubicBezTo>
                <a:cubicBezTo>
                  <a:pt x="1906" y="398"/>
                  <a:pt x="1916" y="413"/>
                  <a:pt x="1922" y="429"/>
                </a:cubicBezTo>
                <a:cubicBezTo>
                  <a:pt x="1923" y="432"/>
                  <a:pt x="1937" y="503"/>
                  <a:pt x="1945" y="511"/>
                </a:cubicBezTo>
                <a:cubicBezTo>
                  <a:pt x="1954" y="520"/>
                  <a:pt x="1968" y="519"/>
                  <a:pt x="1980" y="523"/>
                </a:cubicBezTo>
                <a:cubicBezTo>
                  <a:pt x="2087" y="496"/>
                  <a:pt x="2044" y="509"/>
                  <a:pt x="2110" y="488"/>
                </a:cubicBezTo>
                <a:cubicBezTo>
                  <a:pt x="2149" y="500"/>
                  <a:pt x="2157" y="492"/>
                  <a:pt x="2157" y="546"/>
                </a:cubicBezTo>
                <a:cubicBezTo>
                  <a:pt x="2157" y="628"/>
                  <a:pt x="2228" y="919"/>
                  <a:pt x="2098" y="1005"/>
                </a:cubicBezTo>
                <a:cubicBezTo>
                  <a:pt x="2094" y="1017"/>
                  <a:pt x="2099" y="1042"/>
                  <a:pt x="2086" y="1041"/>
                </a:cubicBezTo>
                <a:cubicBezTo>
                  <a:pt x="2039" y="1036"/>
                  <a:pt x="2002" y="996"/>
                  <a:pt x="1957" y="982"/>
                </a:cubicBezTo>
                <a:cubicBezTo>
                  <a:pt x="1905" y="946"/>
                  <a:pt x="1850" y="945"/>
                  <a:pt x="1792" y="923"/>
                </a:cubicBezTo>
                <a:cubicBezTo>
                  <a:pt x="1776" y="917"/>
                  <a:pt x="1761" y="905"/>
                  <a:pt x="1745" y="899"/>
                </a:cubicBezTo>
                <a:cubicBezTo>
                  <a:pt x="1686" y="877"/>
                  <a:pt x="1627" y="869"/>
                  <a:pt x="1569" y="841"/>
                </a:cubicBezTo>
                <a:cubicBezTo>
                  <a:pt x="1478" y="705"/>
                  <a:pt x="1207" y="750"/>
                  <a:pt x="1098" y="746"/>
                </a:cubicBezTo>
                <a:cubicBezTo>
                  <a:pt x="1047" y="738"/>
                  <a:pt x="995" y="734"/>
                  <a:pt x="945" y="723"/>
                </a:cubicBezTo>
                <a:cubicBezTo>
                  <a:pt x="827" y="698"/>
                  <a:pt x="919" y="706"/>
                  <a:pt x="828" y="676"/>
                </a:cubicBezTo>
                <a:cubicBezTo>
                  <a:pt x="741" y="647"/>
                  <a:pt x="661" y="626"/>
                  <a:pt x="569" y="617"/>
                </a:cubicBezTo>
                <a:cubicBezTo>
                  <a:pt x="402" y="532"/>
                  <a:pt x="194" y="546"/>
                  <a:pt x="16" y="535"/>
                </a:cubicBezTo>
                <a:cubicBezTo>
                  <a:pt x="29" y="411"/>
                  <a:pt x="0" y="389"/>
                  <a:pt x="40" y="42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1360" y="3673440"/>
            <a:ext cx="179244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228600" y="4419720"/>
            <a:ext cx="9677520" cy="266688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648320"/>
            <a:ext cx="112680" cy="979200"/>
          </a:xfrm>
          <a:custGeom>
            <a:avLst/>
            <a:gdLst/>
            <a:ahLst/>
            <a:rect l="l" t="t" r="r" b="b"/>
            <a:pathLst>
              <a:path w="60" h="459">
                <a:moveTo>
                  <a:pt x="4" y="459"/>
                </a:moveTo>
                <a:cubicBezTo>
                  <a:pt x="8" y="334"/>
                  <a:pt x="0" y="207"/>
                  <a:pt x="15" y="83"/>
                </a:cubicBezTo>
                <a:cubicBezTo>
                  <a:pt x="17" y="70"/>
                  <a:pt x="46" y="83"/>
                  <a:pt x="51" y="71"/>
                </a:cubicBezTo>
                <a:cubicBezTo>
                  <a:pt x="60" y="49"/>
                  <a:pt x="51" y="24"/>
                  <a:pt x="51" y="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228600" y="396252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1219320" y="1828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1295280" y="17524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66920" y="3673440"/>
            <a:ext cx="172224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21497400">
            <a:off x="-380520" y="5486400"/>
            <a:ext cx="9856800" cy="167652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3809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85800" y="304920"/>
            <a:ext cx="1955880" cy="1887480"/>
            <a:chOff x="685800" y="304920"/>
            <a:chExt cx="1955880" cy="1887480"/>
          </a:xfrm>
        </p:grpSpPr>
        <p:sp>
          <p:nvSpPr>
            <p:cNvPr id="481" name=""/>
            <p:cNvSpPr/>
            <p:nvPr/>
          </p:nvSpPr>
          <p:spPr>
            <a:xfrm>
              <a:off x="990720" y="609480"/>
              <a:ext cx="1176120" cy="123372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66840" y="68436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1295280"/>
              <a:ext cx="401760" cy="37332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3360" y="1762200"/>
              <a:ext cx="430200" cy="40464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31920" y="16304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9560" y="1238400"/>
              <a:ext cx="522360" cy="37440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0492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0600" y="30636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47920" y="1370880"/>
              <a:ext cx="457200" cy="15228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43000" y="838080"/>
              <a:ext cx="304920" cy="30492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4280" y="952560"/>
              <a:ext cx="309600" cy="7452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84360" y="685800"/>
              <a:ext cx="320760" cy="36972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43040" y="82692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1752120" y="838080"/>
              <a:ext cx="76320" cy="228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523880" y="7632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295280" y="3157200"/>
            <a:ext cx="1101960" cy="983160"/>
            <a:chOff x="1295280" y="3157200"/>
            <a:chExt cx="1101960" cy="983160"/>
          </a:xfrm>
        </p:grpSpPr>
        <p:sp>
          <p:nvSpPr>
            <p:cNvPr id="498" name=""/>
            <p:cNvSpPr/>
            <p:nvPr/>
          </p:nvSpPr>
          <p:spPr>
            <a:xfrm>
              <a:off x="1295280" y="3276720"/>
              <a:ext cx="533520" cy="86364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524960" y="3157200"/>
              <a:ext cx="739080" cy="763560"/>
              <a:chOff x="1524960" y="3157200"/>
              <a:chExt cx="739080" cy="763560"/>
            </a:xfrm>
          </p:grpSpPr>
          <p:sp>
            <p:nvSpPr>
              <p:cNvPr id="500" name=""/>
              <p:cNvSpPr/>
              <p:nvPr/>
            </p:nvSpPr>
            <p:spPr>
              <a:xfrm rot="3160200">
                <a:off x="1775160" y="3497400"/>
                <a:ext cx="30600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3160200">
                <a:off x="1926720" y="3343680"/>
                <a:ext cx="306000" cy="2304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160200">
                <a:off x="1739520" y="3614400"/>
                <a:ext cx="3060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160200">
                <a:off x="1751760" y="3203280"/>
                <a:ext cx="23004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3160200">
                <a:off x="1557360" y="3369960"/>
                <a:ext cx="300960" cy="23148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3160200">
                <a:off x="1998360" y="3628080"/>
                <a:ext cx="230040" cy="153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631880" y="3394080"/>
              <a:ext cx="76536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lnTo>
                    <a:pt x="4" y="409"/>
                  </a:lnTo>
                  <a:lnTo>
                    <a:pt x="8" y="370"/>
                  </a:lnTo>
                  <a:lnTo>
                    <a:pt x="14" y="332"/>
                  </a:lnTo>
                  <a:lnTo>
                    <a:pt x="19" y="313"/>
                  </a:lnTo>
                  <a:lnTo>
                    <a:pt x="24" y="296"/>
                  </a:lnTo>
                  <a:lnTo>
                    <a:pt x="31" y="279"/>
                  </a:lnTo>
                  <a:lnTo>
                    <a:pt x="39" y="263"/>
                  </a:lnTo>
                  <a:lnTo>
                    <a:pt x="49" y="249"/>
                  </a:lnTo>
                  <a:lnTo>
                    <a:pt x="61" y="236"/>
                  </a:lnTo>
                  <a:lnTo>
                    <a:pt x="75" y="224"/>
                  </a:lnTo>
                  <a:lnTo>
                    <a:pt x="90" y="214"/>
                  </a:lnTo>
                  <a:lnTo>
                    <a:pt x="108" y="206"/>
                  </a:lnTo>
                  <a:lnTo>
                    <a:pt x="129" y="200"/>
                  </a:lnTo>
                  <a:lnTo>
                    <a:pt x="134" y="192"/>
                  </a:lnTo>
                  <a:lnTo>
                    <a:pt x="139" y="185"/>
                  </a:lnTo>
                  <a:lnTo>
                    <a:pt x="142" y="180"/>
                  </a:lnTo>
                  <a:lnTo>
                    <a:pt x="146" y="175"/>
                  </a:lnTo>
                  <a:lnTo>
                    <a:pt x="150" y="167"/>
                  </a:lnTo>
                  <a:lnTo>
                    <a:pt x="153" y="163"/>
                  </a:lnTo>
                  <a:lnTo>
                    <a:pt x="154" y="161"/>
                  </a:lnTo>
                  <a:lnTo>
                    <a:pt x="154" y="161"/>
                  </a:lnTo>
                  <a:lnTo>
                    <a:pt x="153" y="163"/>
                  </a:lnTo>
                  <a:lnTo>
                    <a:pt x="153" y="165"/>
                  </a:lnTo>
                  <a:lnTo>
                    <a:pt x="152" y="168"/>
                  </a:lnTo>
                  <a:lnTo>
                    <a:pt x="153" y="170"/>
                  </a:lnTo>
                  <a:lnTo>
                    <a:pt x="155" y="172"/>
                  </a:lnTo>
                  <a:lnTo>
                    <a:pt x="159" y="173"/>
                  </a:lnTo>
                  <a:lnTo>
                    <a:pt x="164" y="171"/>
                  </a:lnTo>
                  <a:lnTo>
                    <a:pt x="173" y="168"/>
                  </a:lnTo>
                  <a:lnTo>
                    <a:pt x="185" y="162"/>
                  </a:lnTo>
                  <a:lnTo>
                    <a:pt x="192" y="157"/>
                  </a:lnTo>
                  <a:lnTo>
                    <a:pt x="200" y="152"/>
                  </a:lnTo>
                  <a:lnTo>
                    <a:pt x="204" y="149"/>
                  </a:lnTo>
                  <a:lnTo>
                    <a:pt x="207" y="144"/>
                  </a:lnTo>
                  <a:lnTo>
                    <a:pt x="212" y="135"/>
                  </a:lnTo>
                  <a:lnTo>
                    <a:pt x="216" y="125"/>
                  </a:lnTo>
                  <a:lnTo>
                    <a:pt x="219" y="121"/>
                  </a:lnTo>
                  <a:lnTo>
                    <a:pt x="223" y="117"/>
                  </a:lnTo>
                  <a:lnTo>
                    <a:pt x="234" y="110"/>
                  </a:lnTo>
                  <a:lnTo>
                    <a:pt x="245" y="104"/>
                  </a:lnTo>
                  <a:lnTo>
                    <a:pt x="258" y="99"/>
                  </a:lnTo>
                  <a:lnTo>
                    <a:pt x="270" y="94"/>
                  </a:lnTo>
                  <a:lnTo>
                    <a:pt x="283" y="77"/>
                  </a:lnTo>
                  <a:lnTo>
                    <a:pt x="298" y="61"/>
                  </a:lnTo>
                  <a:lnTo>
                    <a:pt x="315" y="48"/>
                  </a:lnTo>
                  <a:lnTo>
                    <a:pt x="332" y="35"/>
                  </a:lnTo>
                  <a:lnTo>
                    <a:pt x="351" y="25"/>
                  </a:lnTo>
                  <a:lnTo>
                    <a:pt x="371" y="15"/>
                  </a:lnTo>
                  <a:lnTo>
                    <a:pt x="391" y="7"/>
                  </a:lnTo>
                  <a:lnTo>
                    <a:pt x="412" y="0"/>
                  </a:lnTo>
                  <a:lnTo>
                    <a:pt x="424" y="3"/>
                  </a:lnTo>
                  <a:lnTo>
                    <a:pt x="434" y="6"/>
                  </a:lnTo>
                  <a:lnTo>
                    <a:pt x="443" y="8"/>
                  </a:lnTo>
                  <a:lnTo>
                    <a:pt x="449" y="11"/>
                  </a:lnTo>
                  <a:lnTo>
                    <a:pt x="455" y="13"/>
                  </a:lnTo>
                  <a:lnTo>
                    <a:pt x="459" y="16"/>
                  </a:lnTo>
                  <a:lnTo>
                    <a:pt x="465" y="23"/>
                  </a:lnTo>
                  <a:lnTo>
                    <a:pt x="469" y="33"/>
                  </a:lnTo>
                  <a:lnTo>
                    <a:pt x="472" y="45"/>
                  </a:lnTo>
                  <a:lnTo>
                    <a:pt x="473" y="52"/>
                  </a:lnTo>
                  <a:lnTo>
                    <a:pt x="476" y="61"/>
                  </a:lnTo>
                  <a:lnTo>
                    <a:pt x="478" y="71"/>
                  </a:lnTo>
                  <a:lnTo>
                    <a:pt x="482" y="82"/>
                  </a:lnTo>
                  <a:lnTo>
                    <a:pt x="480" y="106"/>
                  </a:lnTo>
                  <a:lnTo>
                    <a:pt x="479" y="130"/>
                  </a:lnTo>
                  <a:lnTo>
                    <a:pt x="476" y="153"/>
                  </a:lnTo>
                  <a:lnTo>
                    <a:pt x="474" y="165"/>
                  </a:lnTo>
                  <a:lnTo>
                    <a:pt x="470" y="176"/>
                  </a:lnTo>
                  <a:lnTo>
                    <a:pt x="468" y="180"/>
                  </a:lnTo>
                  <a:lnTo>
                    <a:pt x="464" y="184"/>
                  </a:lnTo>
                  <a:lnTo>
                    <a:pt x="454" y="189"/>
                  </a:lnTo>
                  <a:lnTo>
                    <a:pt x="444" y="194"/>
                  </a:lnTo>
                  <a:lnTo>
                    <a:pt x="435" y="200"/>
                  </a:lnTo>
                  <a:lnTo>
                    <a:pt x="425" y="211"/>
                  </a:lnTo>
                  <a:lnTo>
                    <a:pt x="418" y="219"/>
                  </a:lnTo>
                  <a:lnTo>
                    <a:pt x="414" y="225"/>
                  </a:lnTo>
                  <a:lnTo>
                    <a:pt x="412" y="230"/>
                  </a:lnTo>
                  <a:lnTo>
                    <a:pt x="412" y="233"/>
                  </a:lnTo>
                  <a:lnTo>
                    <a:pt x="412" y="235"/>
                  </a:lnTo>
                  <a:lnTo>
                    <a:pt x="414" y="237"/>
                  </a:lnTo>
                  <a:lnTo>
                    <a:pt x="414" y="237"/>
                  </a:lnTo>
                  <a:lnTo>
                    <a:pt x="412" y="238"/>
                  </a:lnTo>
                  <a:lnTo>
                    <a:pt x="409" y="238"/>
                  </a:lnTo>
                  <a:lnTo>
                    <a:pt x="403" y="240"/>
                  </a:lnTo>
                  <a:lnTo>
                    <a:pt x="393" y="242"/>
                  </a:lnTo>
                  <a:lnTo>
                    <a:pt x="387" y="244"/>
                  </a:lnTo>
                  <a:lnTo>
                    <a:pt x="380" y="246"/>
                  </a:lnTo>
                  <a:lnTo>
                    <a:pt x="372" y="248"/>
                  </a:lnTo>
                  <a:lnTo>
                    <a:pt x="363" y="251"/>
                  </a:lnTo>
                  <a:lnTo>
                    <a:pt x="353" y="254"/>
                  </a:lnTo>
                  <a:lnTo>
                    <a:pt x="341" y="258"/>
                  </a:lnTo>
                  <a:lnTo>
                    <a:pt x="306" y="268"/>
                  </a:lnTo>
                  <a:lnTo>
                    <a:pt x="271" y="277"/>
                  </a:lnTo>
                  <a:lnTo>
                    <a:pt x="235" y="285"/>
                  </a:lnTo>
                  <a:lnTo>
                    <a:pt x="200" y="294"/>
                  </a:lnTo>
                  <a:lnTo>
                    <a:pt x="193" y="296"/>
                  </a:lnTo>
                  <a:lnTo>
                    <a:pt x="186" y="297"/>
                  </a:lnTo>
                  <a:lnTo>
                    <a:pt x="171" y="301"/>
                  </a:lnTo>
                  <a:lnTo>
                    <a:pt x="164" y="303"/>
                  </a:lnTo>
                  <a:lnTo>
                    <a:pt x="158" y="304"/>
                  </a:lnTo>
                  <a:lnTo>
                    <a:pt x="154" y="305"/>
                  </a:lnTo>
                  <a:lnTo>
                    <a:pt x="153" y="305"/>
                  </a:lnTo>
                  <a:lnTo>
                    <a:pt x="135" y="314"/>
                  </a:lnTo>
                  <a:lnTo>
                    <a:pt x="119" y="322"/>
                  </a:lnTo>
                  <a:lnTo>
                    <a:pt x="105" y="329"/>
                  </a:lnTo>
                  <a:lnTo>
                    <a:pt x="93" y="335"/>
                  </a:lnTo>
                  <a:lnTo>
                    <a:pt x="82" y="340"/>
                  </a:lnTo>
                  <a:lnTo>
                    <a:pt x="73" y="346"/>
                  </a:lnTo>
                  <a:lnTo>
                    <a:pt x="65" y="352"/>
                  </a:lnTo>
                  <a:lnTo>
                    <a:pt x="57" y="358"/>
                  </a:lnTo>
                  <a:lnTo>
                    <a:pt x="50" y="364"/>
                  </a:lnTo>
                  <a:lnTo>
                    <a:pt x="44" y="372"/>
                  </a:lnTo>
                  <a:lnTo>
                    <a:pt x="37" y="380"/>
                  </a:lnTo>
                  <a:lnTo>
                    <a:pt x="31" y="390"/>
                  </a:lnTo>
                  <a:lnTo>
                    <a:pt x="24" y="401"/>
                  </a:lnTo>
                  <a:lnTo>
                    <a:pt x="17" y="414"/>
                  </a:lnTo>
                  <a:lnTo>
                    <a:pt x="9" y="430"/>
                  </a:lnTo>
                  <a:lnTo>
                    <a:pt x="0" y="447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0" y="3654360"/>
            <a:ext cx="773424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opo pochi giorni, il bruchino, tutto triste, si rinchiuse in un bozz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91400" y="-106200"/>
            <a:ext cx="2097000" cy="5224320"/>
          </a:xfrm>
          <a:custGeom>
            <a:avLst/>
            <a:gdLst/>
            <a:ahLst/>
            <a:rect l="l" t="t" r="r" b="b"/>
            <a:pathLst>
              <a:path w="1321" h="3291">
                <a:moveTo>
                  <a:pt x="39" y="2891"/>
                </a:moveTo>
                <a:cubicBezTo>
                  <a:pt x="200" y="2836"/>
                  <a:pt x="0" y="2860"/>
                  <a:pt x="333" y="2844"/>
                </a:cubicBezTo>
                <a:cubicBezTo>
                  <a:pt x="360" y="2840"/>
                  <a:pt x="390" y="2844"/>
                  <a:pt x="415" y="2832"/>
                </a:cubicBezTo>
                <a:cubicBezTo>
                  <a:pt x="426" y="2826"/>
                  <a:pt x="418" y="2806"/>
                  <a:pt x="427" y="2797"/>
                </a:cubicBezTo>
                <a:cubicBezTo>
                  <a:pt x="436" y="2788"/>
                  <a:pt x="451" y="2789"/>
                  <a:pt x="463" y="2785"/>
                </a:cubicBezTo>
                <a:cubicBezTo>
                  <a:pt x="490" y="2702"/>
                  <a:pt x="478" y="2738"/>
                  <a:pt x="498" y="2679"/>
                </a:cubicBezTo>
                <a:cubicBezTo>
                  <a:pt x="502" y="2667"/>
                  <a:pt x="510" y="2644"/>
                  <a:pt x="510" y="2644"/>
                </a:cubicBezTo>
                <a:cubicBezTo>
                  <a:pt x="500" y="2299"/>
                  <a:pt x="487" y="2151"/>
                  <a:pt x="498" y="1808"/>
                </a:cubicBezTo>
                <a:cubicBezTo>
                  <a:pt x="489" y="1639"/>
                  <a:pt x="467" y="1458"/>
                  <a:pt x="510" y="1291"/>
                </a:cubicBezTo>
                <a:cubicBezTo>
                  <a:pt x="496" y="562"/>
                  <a:pt x="551" y="870"/>
                  <a:pt x="474" y="561"/>
                </a:cubicBezTo>
                <a:cubicBezTo>
                  <a:pt x="449" y="462"/>
                  <a:pt x="481" y="561"/>
                  <a:pt x="439" y="479"/>
                </a:cubicBezTo>
                <a:cubicBezTo>
                  <a:pt x="412" y="426"/>
                  <a:pt x="407" y="360"/>
                  <a:pt x="392" y="302"/>
                </a:cubicBezTo>
                <a:cubicBezTo>
                  <a:pt x="381" y="259"/>
                  <a:pt x="298" y="208"/>
                  <a:pt x="298" y="208"/>
                </a:cubicBezTo>
                <a:cubicBezTo>
                  <a:pt x="279" y="153"/>
                  <a:pt x="290" y="137"/>
                  <a:pt x="239" y="102"/>
                </a:cubicBezTo>
                <a:cubicBezTo>
                  <a:pt x="204" y="0"/>
                  <a:pt x="476" y="67"/>
                  <a:pt x="486" y="67"/>
                </a:cubicBezTo>
                <a:cubicBezTo>
                  <a:pt x="690" y="73"/>
                  <a:pt x="894" y="75"/>
                  <a:pt x="1098" y="79"/>
                </a:cubicBezTo>
                <a:cubicBezTo>
                  <a:pt x="1087" y="155"/>
                  <a:pt x="1068" y="227"/>
                  <a:pt x="1051" y="302"/>
                </a:cubicBezTo>
                <a:cubicBezTo>
                  <a:pt x="1043" y="659"/>
                  <a:pt x="1054" y="766"/>
                  <a:pt x="1004" y="1032"/>
                </a:cubicBezTo>
                <a:cubicBezTo>
                  <a:pt x="1011" y="1284"/>
                  <a:pt x="1013" y="1513"/>
                  <a:pt x="992" y="1761"/>
                </a:cubicBezTo>
                <a:cubicBezTo>
                  <a:pt x="986" y="1992"/>
                  <a:pt x="1010" y="2135"/>
                  <a:pt x="945" y="2326"/>
                </a:cubicBezTo>
                <a:cubicBezTo>
                  <a:pt x="941" y="2459"/>
                  <a:pt x="940" y="2593"/>
                  <a:pt x="933" y="2726"/>
                </a:cubicBezTo>
                <a:cubicBezTo>
                  <a:pt x="925" y="2891"/>
                  <a:pt x="901" y="2955"/>
                  <a:pt x="1051" y="3032"/>
                </a:cubicBezTo>
                <a:cubicBezTo>
                  <a:pt x="1116" y="3130"/>
                  <a:pt x="1029" y="3015"/>
                  <a:pt x="1110" y="3079"/>
                </a:cubicBezTo>
                <a:cubicBezTo>
                  <a:pt x="1222" y="3168"/>
                  <a:pt x="1047" y="3071"/>
                  <a:pt x="1168" y="3126"/>
                </a:cubicBezTo>
                <a:cubicBezTo>
                  <a:pt x="1200" y="3141"/>
                  <a:pt x="1262" y="3173"/>
                  <a:pt x="1262" y="3173"/>
                </a:cubicBezTo>
                <a:cubicBezTo>
                  <a:pt x="1295" y="3268"/>
                  <a:pt x="1246" y="3155"/>
                  <a:pt x="1309" y="3220"/>
                </a:cubicBezTo>
                <a:cubicBezTo>
                  <a:pt x="1318" y="3229"/>
                  <a:pt x="1317" y="3244"/>
                  <a:pt x="1321" y="3256"/>
                </a:cubicBezTo>
                <a:cubicBezTo>
                  <a:pt x="1284" y="3281"/>
                  <a:pt x="1287" y="3291"/>
                  <a:pt x="1239" y="3267"/>
                </a:cubicBezTo>
                <a:cubicBezTo>
                  <a:pt x="1198" y="3247"/>
                  <a:pt x="1149" y="3190"/>
                  <a:pt x="1098" y="3185"/>
                </a:cubicBezTo>
                <a:cubicBezTo>
                  <a:pt x="1028" y="3178"/>
                  <a:pt x="957" y="3177"/>
                  <a:pt x="886" y="3173"/>
                </a:cubicBezTo>
                <a:cubicBezTo>
                  <a:pt x="866" y="3166"/>
                  <a:pt x="817" y="3151"/>
                  <a:pt x="804" y="3138"/>
                </a:cubicBezTo>
                <a:cubicBezTo>
                  <a:pt x="730" y="3065"/>
                  <a:pt x="828" y="3107"/>
                  <a:pt x="745" y="3079"/>
                </a:cubicBezTo>
                <a:cubicBezTo>
                  <a:pt x="703" y="3017"/>
                  <a:pt x="735" y="3047"/>
                  <a:pt x="627" y="3020"/>
                </a:cubicBezTo>
                <a:lnTo>
                  <a:pt x="486" y="2973"/>
                </a:lnTo>
                <a:cubicBezTo>
                  <a:pt x="486" y="2973"/>
                  <a:pt x="486" y="2973"/>
                  <a:pt x="486" y="2973"/>
                </a:cubicBezTo>
                <a:cubicBezTo>
                  <a:pt x="361" y="2955"/>
                  <a:pt x="236" y="2938"/>
                  <a:pt x="110" y="2926"/>
                </a:cubicBezTo>
                <a:cubicBezTo>
                  <a:pt x="35" y="2902"/>
                  <a:pt x="39" y="2928"/>
                  <a:pt x="39" y="2891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333760" y="914400"/>
            <a:ext cx="2377800" cy="1020600"/>
            <a:chOff x="5333760" y="914400"/>
            <a:chExt cx="2377800" cy="1020600"/>
          </a:xfrm>
        </p:grpSpPr>
        <p:sp>
          <p:nvSpPr>
            <p:cNvPr id="511" name=""/>
            <p:cNvSpPr/>
            <p:nvPr/>
          </p:nvSpPr>
          <p:spPr>
            <a:xfrm flipH="1">
              <a:off x="5333400" y="914400"/>
              <a:ext cx="2377800" cy="690480"/>
            </a:xfrm>
            <a:custGeom>
              <a:avLst/>
              <a:gdLst/>
              <a:ahLst/>
              <a:rect l="l" t="t" r="r" b="b"/>
              <a:pathLst>
                <a:path w="1498" h="435">
                  <a:moveTo>
                    <a:pt x="28" y="282"/>
                  </a:moveTo>
                  <a:cubicBezTo>
                    <a:pt x="174" y="261"/>
                    <a:pt x="317" y="229"/>
                    <a:pt x="463" y="212"/>
                  </a:cubicBezTo>
                  <a:cubicBezTo>
                    <a:pt x="596" y="178"/>
                    <a:pt x="726" y="165"/>
                    <a:pt x="863" y="153"/>
                  </a:cubicBezTo>
                  <a:cubicBezTo>
                    <a:pt x="1005" y="117"/>
                    <a:pt x="1141" y="60"/>
                    <a:pt x="1287" y="35"/>
                  </a:cubicBezTo>
                  <a:cubicBezTo>
                    <a:pt x="1334" y="27"/>
                    <a:pt x="1381" y="19"/>
                    <a:pt x="1428" y="11"/>
                  </a:cubicBezTo>
                  <a:cubicBezTo>
                    <a:pt x="1451" y="7"/>
                    <a:pt x="1498" y="0"/>
                    <a:pt x="1498" y="0"/>
                  </a:cubicBezTo>
                  <a:cubicBezTo>
                    <a:pt x="1455" y="21"/>
                    <a:pt x="1412" y="29"/>
                    <a:pt x="1369" y="47"/>
                  </a:cubicBezTo>
                  <a:cubicBezTo>
                    <a:pt x="1293" y="80"/>
                    <a:pt x="1220" y="120"/>
                    <a:pt x="1145" y="153"/>
                  </a:cubicBezTo>
                  <a:cubicBezTo>
                    <a:pt x="1050" y="195"/>
                    <a:pt x="940" y="211"/>
                    <a:pt x="840" y="235"/>
                  </a:cubicBezTo>
                  <a:cubicBezTo>
                    <a:pt x="643" y="282"/>
                    <a:pt x="454" y="313"/>
                    <a:pt x="251" y="329"/>
                  </a:cubicBezTo>
                  <a:cubicBezTo>
                    <a:pt x="203" y="339"/>
                    <a:pt x="158" y="353"/>
                    <a:pt x="110" y="364"/>
                  </a:cubicBezTo>
                  <a:cubicBezTo>
                    <a:pt x="87" y="380"/>
                    <a:pt x="63" y="396"/>
                    <a:pt x="40" y="412"/>
                  </a:cubicBezTo>
                  <a:cubicBezTo>
                    <a:pt x="30" y="419"/>
                    <a:pt x="5" y="435"/>
                    <a:pt x="4" y="423"/>
                  </a:cubicBezTo>
                  <a:cubicBezTo>
                    <a:pt x="0" y="376"/>
                    <a:pt x="20" y="329"/>
                    <a:pt x="28" y="282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451120" y="914400"/>
              <a:ext cx="1693800" cy="466560"/>
              <a:chOff x="5451120" y="914400"/>
              <a:chExt cx="1693800" cy="466560"/>
            </a:xfrm>
          </p:grpSpPr>
          <p:sp>
            <p:nvSpPr>
              <p:cNvPr id="513" name=""/>
              <p:cNvSpPr/>
              <p:nvPr/>
            </p:nvSpPr>
            <p:spPr>
              <a:xfrm flipH="1">
                <a:off x="6490440" y="914400"/>
                <a:ext cx="654120" cy="353880"/>
              </a:xfrm>
              <a:custGeom>
                <a:avLst/>
                <a:gdLst/>
                <a:ahLst/>
                <a:rect l="l" t="t" r="r" b="b"/>
                <a:pathLst>
                  <a:path w="412" h="223">
                    <a:moveTo>
                      <a:pt x="0" y="223"/>
                    </a:moveTo>
                    <a:cubicBezTo>
                      <a:pt x="25" y="215"/>
                      <a:pt x="53" y="211"/>
                      <a:pt x="71" y="188"/>
                    </a:cubicBezTo>
                    <a:cubicBezTo>
                      <a:pt x="79" y="178"/>
                      <a:pt x="74" y="162"/>
                      <a:pt x="83" y="153"/>
                    </a:cubicBezTo>
                    <a:cubicBezTo>
                      <a:pt x="83" y="153"/>
                      <a:pt x="199" y="112"/>
                      <a:pt x="212" y="106"/>
                    </a:cubicBezTo>
                    <a:cubicBezTo>
                      <a:pt x="271" y="17"/>
                      <a:pt x="186" y="130"/>
                      <a:pt x="306" y="47"/>
                    </a:cubicBezTo>
                    <a:cubicBezTo>
                      <a:pt x="318" y="39"/>
                      <a:pt x="328" y="29"/>
                      <a:pt x="341" y="23"/>
                    </a:cubicBezTo>
                    <a:cubicBezTo>
                      <a:pt x="364" y="13"/>
                      <a:pt x="412" y="0"/>
                      <a:pt x="412" y="0"/>
                    </a:cubicBezTo>
                    <a:cubicBezTo>
                      <a:pt x="345" y="44"/>
                      <a:pt x="277" y="93"/>
                      <a:pt x="200" y="117"/>
                    </a:cubicBezTo>
                    <a:cubicBezTo>
                      <a:pt x="140" y="210"/>
                      <a:pt x="217" y="101"/>
                      <a:pt x="142" y="176"/>
                    </a:cubicBezTo>
                    <a:cubicBezTo>
                      <a:pt x="132" y="186"/>
                      <a:pt x="118" y="212"/>
                      <a:pt x="118" y="212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450760" y="1304640"/>
                <a:ext cx="1376280" cy="76320"/>
              </a:xfrm>
              <a:custGeom>
                <a:avLst/>
                <a:gdLst/>
                <a:ahLst/>
                <a:rect l="l" t="t" r="r" b="b"/>
                <a:pathLst>
                  <a:path w="867" h="48">
                    <a:moveTo>
                      <a:pt x="294" y="1"/>
                    </a:moveTo>
                    <a:cubicBezTo>
                      <a:pt x="867" y="19"/>
                      <a:pt x="730" y="0"/>
                      <a:pt x="541" y="48"/>
                    </a:cubicBezTo>
                    <a:cubicBezTo>
                      <a:pt x="427" y="40"/>
                      <a:pt x="312" y="1"/>
                      <a:pt x="200" y="24"/>
                    </a:cubicBezTo>
                    <a:cubicBezTo>
                      <a:pt x="120" y="40"/>
                      <a:pt x="89" y="48"/>
                      <a:pt x="0" y="48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H="1">
              <a:off x="6333840" y="1400040"/>
              <a:ext cx="1254240" cy="534960"/>
            </a:xfrm>
            <a:custGeom>
              <a:avLst/>
              <a:gdLst/>
              <a:ahLst/>
              <a:rect l="l" t="t" r="r" b="b"/>
              <a:pathLst>
                <a:path w="790" h="337">
                  <a:moveTo>
                    <a:pt x="21" y="106"/>
                  </a:moveTo>
                  <a:cubicBezTo>
                    <a:pt x="112" y="115"/>
                    <a:pt x="139" y="119"/>
                    <a:pt x="209" y="164"/>
                  </a:cubicBezTo>
                  <a:cubicBezTo>
                    <a:pt x="217" y="180"/>
                    <a:pt x="220" y="199"/>
                    <a:pt x="232" y="211"/>
                  </a:cubicBezTo>
                  <a:cubicBezTo>
                    <a:pt x="299" y="278"/>
                    <a:pt x="418" y="300"/>
                    <a:pt x="503" y="329"/>
                  </a:cubicBezTo>
                  <a:cubicBezTo>
                    <a:pt x="558" y="323"/>
                    <a:pt x="622" y="337"/>
                    <a:pt x="668" y="306"/>
                  </a:cubicBezTo>
                  <a:cubicBezTo>
                    <a:pt x="680" y="298"/>
                    <a:pt x="680" y="279"/>
                    <a:pt x="691" y="270"/>
                  </a:cubicBezTo>
                  <a:cubicBezTo>
                    <a:pt x="712" y="251"/>
                    <a:pt x="790" y="216"/>
                    <a:pt x="762" y="223"/>
                  </a:cubicBezTo>
                  <a:cubicBezTo>
                    <a:pt x="713" y="236"/>
                    <a:pt x="677" y="243"/>
                    <a:pt x="632" y="258"/>
                  </a:cubicBezTo>
                  <a:cubicBezTo>
                    <a:pt x="609" y="266"/>
                    <a:pt x="562" y="282"/>
                    <a:pt x="562" y="282"/>
                  </a:cubicBezTo>
                  <a:cubicBezTo>
                    <a:pt x="520" y="268"/>
                    <a:pt x="470" y="280"/>
                    <a:pt x="432" y="258"/>
                  </a:cubicBezTo>
                  <a:cubicBezTo>
                    <a:pt x="408" y="244"/>
                    <a:pt x="412" y="195"/>
                    <a:pt x="385" y="188"/>
                  </a:cubicBezTo>
                  <a:cubicBezTo>
                    <a:pt x="369" y="184"/>
                    <a:pt x="354" y="180"/>
                    <a:pt x="338" y="176"/>
                  </a:cubicBezTo>
                  <a:cubicBezTo>
                    <a:pt x="306" y="83"/>
                    <a:pt x="354" y="192"/>
                    <a:pt x="291" y="129"/>
                  </a:cubicBezTo>
                  <a:cubicBezTo>
                    <a:pt x="228" y="66"/>
                    <a:pt x="337" y="114"/>
                    <a:pt x="244" y="82"/>
                  </a:cubicBezTo>
                  <a:cubicBezTo>
                    <a:pt x="236" y="70"/>
                    <a:pt x="232" y="56"/>
                    <a:pt x="221" y="47"/>
                  </a:cubicBezTo>
                  <a:cubicBezTo>
                    <a:pt x="200" y="28"/>
                    <a:pt x="150" y="0"/>
                    <a:pt x="150" y="0"/>
                  </a:cubicBezTo>
                  <a:cubicBezTo>
                    <a:pt x="141" y="3"/>
                    <a:pt x="0" y="42"/>
                    <a:pt x="9" y="70"/>
                  </a:cubicBezTo>
                  <a:cubicBezTo>
                    <a:pt x="13" y="82"/>
                    <a:pt x="17" y="94"/>
                    <a:pt x="21" y="106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086600" y="1447920"/>
            <a:ext cx="761760" cy="1447200"/>
            <a:chOff x="7086600" y="1447920"/>
            <a:chExt cx="761760" cy="1447200"/>
          </a:xfrm>
        </p:grpSpPr>
        <p:sp>
          <p:nvSpPr>
            <p:cNvPr id="517" name=""/>
            <p:cNvSpPr/>
            <p:nvPr/>
          </p:nvSpPr>
          <p:spPr>
            <a:xfrm>
              <a:off x="7086600" y="1447920"/>
              <a:ext cx="761760" cy="1447200"/>
            </a:xfrm>
            <a:custGeom>
              <a:avLst/>
              <a:gdLst/>
              <a:ahLst/>
              <a:rect l="l" t="t" r="r" b="b"/>
              <a:pathLst>
                <a:path w="323" h="500">
                  <a:moveTo>
                    <a:pt x="165" y="41"/>
                  </a:moveTo>
                  <a:cubicBezTo>
                    <a:pt x="126" y="54"/>
                    <a:pt x="86" y="64"/>
                    <a:pt x="47" y="77"/>
                  </a:cubicBezTo>
                  <a:cubicBezTo>
                    <a:pt x="14" y="181"/>
                    <a:pt x="69" y="0"/>
                    <a:pt x="24" y="206"/>
                  </a:cubicBezTo>
                  <a:cubicBezTo>
                    <a:pt x="19" y="230"/>
                    <a:pt x="0" y="277"/>
                    <a:pt x="0" y="277"/>
                  </a:cubicBezTo>
                  <a:cubicBezTo>
                    <a:pt x="4" y="309"/>
                    <a:pt x="14" y="464"/>
                    <a:pt x="71" y="477"/>
                  </a:cubicBezTo>
                  <a:cubicBezTo>
                    <a:pt x="130" y="491"/>
                    <a:pt x="103" y="483"/>
                    <a:pt x="153" y="500"/>
                  </a:cubicBezTo>
                  <a:cubicBezTo>
                    <a:pt x="323" y="443"/>
                    <a:pt x="193" y="110"/>
                    <a:pt x="189" y="30"/>
                  </a:cubicBezTo>
                  <a:cubicBezTo>
                    <a:pt x="129" y="48"/>
                    <a:pt x="105" y="53"/>
                    <a:pt x="36" y="5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7114680" y="1737720"/>
              <a:ext cx="530280" cy="1039320"/>
              <a:chOff x="7114680" y="1737720"/>
              <a:chExt cx="530280" cy="1039320"/>
            </a:xfrm>
          </p:grpSpPr>
          <p:sp>
            <p:nvSpPr>
              <p:cNvPr id="519" name=""/>
              <p:cNvSpPr/>
              <p:nvPr/>
            </p:nvSpPr>
            <p:spPr>
              <a:xfrm>
                <a:off x="7171200" y="1737720"/>
                <a:ext cx="385560" cy="34200"/>
              </a:xfrm>
              <a:custGeom>
                <a:avLst/>
                <a:gdLst/>
                <a:ahLst/>
                <a:rect l="l" t="t" r="r" b="b"/>
                <a:pathLst>
                  <a:path w="164" h="12">
                    <a:moveTo>
                      <a:pt x="0" y="0"/>
                    </a:moveTo>
                    <a:cubicBezTo>
                      <a:pt x="157" y="12"/>
                      <a:pt x="102" y="12"/>
                      <a:pt x="164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42760" y="1944360"/>
                <a:ext cx="442080" cy="66240"/>
              </a:xfrm>
              <a:custGeom>
                <a:avLst/>
                <a:gdLst/>
                <a:ahLst/>
                <a:rect l="l" t="t" r="r" b="b"/>
                <a:pathLst>
                  <a:path w="188" h="23">
                    <a:moveTo>
                      <a:pt x="0" y="0"/>
                    </a:moveTo>
                    <a:cubicBezTo>
                      <a:pt x="62" y="16"/>
                      <a:pt x="123" y="23"/>
                      <a:pt x="188" y="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1200" y="2113560"/>
                <a:ext cx="470520" cy="135360"/>
              </a:xfrm>
              <a:custGeom>
                <a:avLst/>
                <a:gdLst/>
                <a:ahLst/>
                <a:rect l="l" t="t" r="r" b="b"/>
                <a:pathLst>
                  <a:path w="200" h="47">
                    <a:moveTo>
                      <a:pt x="0" y="0"/>
                    </a:moveTo>
                    <a:cubicBezTo>
                      <a:pt x="68" y="22"/>
                      <a:pt x="127" y="47"/>
                      <a:pt x="200" y="4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14680" y="2315160"/>
                <a:ext cx="530280" cy="225360"/>
              </a:xfrm>
              <a:custGeom>
                <a:avLst/>
                <a:gdLst/>
                <a:ahLst/>
                <a:rect l="l" t="t" r="r" b="b"/>
                <a:pathLst>
                  <a:path w="247" h="59">
                    <a:moveTo>
                      <a:pt x="0" y="0"/>
                    </a:moveTo>
                    <a:cubicBezTo>
                      <a:pt x="54" y="19"/>
                      <a:pt x="110" y="20"/>
                      <a:pt x="165" y="35"/>
                    </a:cubicBezTo>
                    <a:cubicBezTo>
                      <a:pt x="181" y="39"/>
                      <a:pt x="196" y="42"/>
                      <a:pt x="212" y="47"/>
                    </a:cubicBezTo>
                    <a:cubicBezTo>
                      <a:pt x="224" y="50"/>
                      <a:pt x="247" y="59"/>
                      <a:pt x="247" y="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42760" y="2486880"/>
                <a:ext cx="422280" cy="290160"/>
              </a:xfrm>
              <a:custGeom>
                <a:avLst/>
                <a:gdLst/>
                <a:ahLst/>
                <a:rect l="l" t="t" r="r" b="b"/>
                <a:pathLst>
                  <a:path w="235" h="71">
                    <a:moveTo>
                      <a:pt x="0" y="0"/>
                    </a:moveTo>
                    <a:cubicBezTo>
                      <a:pt x="87" y="22"/>
                      <a:pt x="144" y="71"/>
                      <a:pt x="235" y="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2637360" y="3748680"/>
            <a:ext cx="924480" cy="908280"/>
            <a:chOff x="2637360" y="3748680"/>
            <a:chExt cx="924480" cy="908280"/>
          </a:xfrm>
        </p:grpSpPr>
        <p:sp>
          <p:nvSpPr>
            <p:cNvPr id="525" name=""/>
            <p:cNvSpPr/>
            <p:nvPr/>
          </p:nvSpPr>
          <p:spPr>
            <a:xfrm rot="2451600">
              <a:off x="2808360" y="3839040"/>
              <a:ext cx="547560" cy="727200"/>
            </a:xfrm>
            <a:custGeom>
              <a:avLst/>
              <a:gdLst/>
              <a:ahLst/>
              <a:rect l="l" t="t" r="r" b="b"/>
              <a:pathLst>
                <a:path w="345" h="458">
                  <a:moveTo>
                    <a:pt x="306" y="0"/>
                  </a:moveTo>
                  <a:cubicBezTo>
                    <a:pt x="287" y="56"/>
                    <a:pt x="268" y="45"/>
                    <a:pt x="212" y="59"/>
                  </a:cubicBezTo>
                  <a:cubicBezTo>
                    <a:pt x="200" y="67"/>
                    <a:pt x="189" y="76"/>
                    <a:pt x="176" y="82"/>
                  </a:cubicBezTo>
                  <a:cubicBezTo>
                    <a:pt x="165" y="87"/>
                    <a:pt x="151" y="86"/>
                    <a:pt x="141" y="94"/>
                  </a:cubicBezTo>
                  <a:cubicBezTo>
                    <a:pt x="130" y="103"/>
                    <a:pt x="128" y="119"/>
                    <a:pt x="118" y="129"/>
                  </a:cubicBezTo>
                  <a:cubicBezTo>
                    <a:pt x="108" y="139"/>
                    <a:pt x="94" y="145"/>
                    <a:pt x="82" y="153"/>
                  </a:cubicBezTo>
                  <a:cubicBezTo>
                    <a:pt x="51" y="246"/>
                    <a:pt x="32" y="342"/>
                    <a:pt x="0" y="435"/>
                  </a:cubicBezTo>
                  <a:cubicBezTo>
                    <a:pt x="66" y="458"/>
                    <a:pt x="145" y="417"/>
                    <a:pt x="212" y="400"/>
                  </a:cubicBezTo>
                  <a:cubicBezTo>
                    <a:pt x="345" y="309"/>
                    <a:pt x="306" y="143"/>
                    <a:pt x="306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451600">
              <a:off x="3017160" y="3883320"/>
              <a:ext cx="411120" cy="560520"/>
            </a:xfrm>
            <a:custGeom>
              <a:avLst/>
              <a:gdLst/>
              <a:ahLst/>
              <a:rect l="l" t="t" r="r" b="b"/>
              <a:pathLst>
                <a:path w="259" h="353">
                  <a:moveTo>
                    <a:pt x="259" y="0"/>
                  </a:moveTo>
                  <a:cubicBezTo>
                    <a:pt x="235" y="16"/>
                    <a:pt x="212" y="31"/>
                    <a:pt x="188" y="47"/>
                  </a:cubicBezTo>
                  <a:cubicBezTo>
                    <a:pt x="167" y="61"/>
                    <a:pt x="173" y="94"/>
                    <a:pt x="165" y="118"/>
                  </a:cubicBezTo>
                  <a:cubicBezTo>
                    <a:pt x="153" y="153"/>
                    <a:pt x="141" y="188"/>
                    <a:pt x="129" y="224"/>
                  </a:cubicBezTo>
                  <a:cubicBezTo>
                    <a:pt x="125" y="236"/>
                    <a:pt x="128" y="252"/>
                    <a:pt x="118" y="259"/>
                  </a:cubicBezTo>
                  <a:cubicBezTo>
                    <a:pt x="94" y="275"/>
                    <a:pt x="47" y="306"/>
                    <a:pt x="47" y="306"/>
                  </a:cubicBezTo>
                  <a:cubicBezTo>
                    <a:pt x="19" y="348"/>
                    <a:pt x="36" y="335"/>
                    <a:pt x="0" y="353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610320" y="466560"/>
            <a:ext cx="236520" cy="524160"/>
            <a:chOff x="6610320" y="466560"/>
            <a:chExt cx="236520" cy="524160"/>
          </a:xfrm>
        </p:grpSpPr>
        <p:sp>
          <p:nvSpPr>
            <p:cNvPr id="528" name=""/>
            <p:cNvSpPr/>
            <p:nvPr/>
          </p:nvSpPr>
          <p:spPr>
            <a:xfrm>
              <a:off x="6703920" y="466560"/>
              <a:ext cx="142920" cy="524160"/>
            </a:xfrm>
            <a:custGeom>
              <a:avLst/>
              <a:gdLst/>
              <a:ahLst/>
              <a:rect l="l" t="t" r="r" b="b"/>
              <a:pathLst>
                <a:path w="90" h="330">
                  <a:moveTo>
                    <a:pt x="0" y="330"/>
                  </a:moveTo>
                  <a:cubicBezTo>
                    <a:pt x="35" y="221"/>
                    <a:pt x="10" y="107"/>
                    <a:pt x="47" y="0"/>
                  </a:cubicBezTo>
                  <a:cubicBezTo>
                    <a:pt x="66" y="96"/>
                    <a:pt x="90" y="132"/>
                    <a:pt x="59" y="247"/>
                  </a:cubicBezTo>
                  <a:cubicBezTo>
                    <a:pt x="55" y="261"/>
                    <a:pt x="31" y="259"/>
                    <a:pt x="23" y="271"/>
                  </a:cubicBezTo>
                  <a:cubicBezTo>
                    <a:pt x="11" y="288"/>
                    <a:pt x="8" y="310"/>
                    <a:pt x="0" y="33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10320" y="485640"/>
              <a:ext cx="168480" cy="411120"/>
            </a:xfrm>
            <a:custGeom>
              <a:avLst/>
              <a:gdLst/>
              <a:ahLst/>
              <a:rect l="l" t="t" r="r" b="b"/>
              <a:pathLst>
                <a:path w="106" h="259">
                  <a:moveTo>
                    <a:pt x="106" y="0"/>
                  </a:moveTo>
                  <a:cubicBezTo>
                    <a:pt x="78" y="84"/>
                    <a:pt x="103" y="57"/>
                    <a:pt x="47" y="94"/>
                  </a:cubicBezTo>
                  <a:cubicBezTo>
                    <a:pt x="39" y="106"/>
                    <a:pt x="30" y="116"/>
                    <a:pt x="24" y="129"/>
                  </a:cubicBezTo>
                  <a:cubicBezTo>
                    <a:pt x="14" y="152"/>
                    <a:pt x="0" y="200"/>
                    <a:pt x="0" y="200"/>
                  </a:cubicBezTo>
                  <a:cubicBezTo>
                    <a:pt x="14" y="240"/>
                    <a:pt x="26" y="259"/>
                    <a:pt x="71" y="259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08680" y="1357200"/>
            <a:ext cx="236520" cy="524160"/>
            <a:chOff x="5908680" y="1357200"/>
            <a:chExt cx="236520" cy="524160"/>
          </a:xfrm>
        </p:grpSpPr>
        <p:sp>
          <p:nvSpPr>
            <p:cNvPr id="531" name=""/>
            <p:cNvSpPr/>
            <p:nvPr/>
          </p:nvSpPr>
          <p:spPr>
            <a:xfrm>
              <a:off x="5908680" y="1357200"/>
              <a:ext cx="236520" cy="524160"/>
            </a:xfrm>
            <a:custGeom>
              <a:avLst/>
              <a:gdLst/>
              <a:ahLst/>
              <a:rect l="l" t="t" r="r" b="b"/>
              <a:pathLst>
                <a:path w="149" h="330">
                  <a:moveTo>
                    <a:pt x="136" y="16"/>
                  </a:moveTo>
                  <a:cubicBezTo>
                    <a:pt x="109" y="103"/>
                    <a:pt x="149" y="0"/>
                    <a:pt x="89" y="74"/>
                  </a:cubicBezTo>
                  <a:cubicBezTo>
                    <a:pt x="22" y="157"/>
                    <a:pt x="144" y="66"/>
                    <a:pt x="42" y="133"/>
                  </a:cubicBezTo>
                  <a:cubicBezTo>
                    <a:pt x="23" y="190"/>
                    <a:pt x="0" y="244"/>
                    <a:pt x="42" y="310"/>
                  </a:cubicBezTo>
                  <a:cubicBezTo>
                    <a:pt x="55" y="330"/>
                    <a:pt x="89" y="302"/>
                    <a:pt x="113" y="298"/>
                  </a:cubicBezTo>
                  <a:cubicBezTo>
                    <a:pt x="137" y="227"/>
                    <a:pt x="139" y="210"/>
                    <a:pt x="125" y="122"/>
                  </a:cubicBezTo>
                  <a:cubicBezTo>
                    <a:pt x="123" y="110"/>
                    <a:pt x="113" y="86"/>
                    <a:pt x="113" y="86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7080" y="1474920"/>
              <a:ext cx="110880" cy="280800"/>
            </a:xfrm>
            <a:custGeom>
              <a:avLst/>
              <a:gdLst/>
              <a:ahLst/>
              <a:rect l="l" t="t" r="r" b="b"/>
              <a:pathLst>
                <a:path w="70" h="177">
                  <a:moveTo>
                    <a:pt x="70" y="0"/>
                  </a:moveTo>
                  <a:cubicBezTo>
                    <a:pt x="62" y="12"/>
                    <a:pt x="56" y="26"/>
                    <a:pt x="46" y="36"/>
                  </a:cubicBezTo>
                  <a:cubicBezTo>
                    <a:pt x="36" y="46"/>
                    <a:pt x="14" y="45"/>
                    <a:pt x="11" y="59"/>
                  </a:cubicBezTo>
                  <a:cubicBezTo>
                    <a:pt x="0" y="104"/>
                    <a:pt x="29" y="148"/>
                    <a:pt x="58" y="1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019920" y="4038480"/>
            <a:ext cx="880920" cy="471600"/>
            <a:chOff x="6019920" y="4038480"/>
            <a:chExt cx="880920" cy="471600"/>
          </a:xfrm>
        </p:grpSpPr>
        <p:sp>
          <p:nvSpPr>
            <p:cNvPr id="534" name=""/>
            <p:cNvSpPr/>
            <p:nvPr/>
          </p:nvSpPr>
          <p:spPr>
            <a:xfrm rot="16200000">
              <a:off x="6224400" y="3833640"/>
              <a:ext cx="471600" cy="880920"/>
            </a:xfrm>
            <a:custGeom>
              <a:avLst/>
              <a:gdLst/>
              <a:ahLst/>
              <a:rect l="l" t="t" r="r" b="b"/>
              <a:pathLst>
                <a:path w="297" h="555">
                  <a:moveTo>
                    <a:pt x="262" y="94"/>
                  </a:moveTo>
                  <a:cubicBezTo>
                    <a:pt x="191" y="198"/>
                    <a:pt x="287" y="73"/>
                    <a:pt x="203" y="141"/>
                  </a:cubicBezTo>
                  <a:cubicBezTo>
                    <a:pt x="130" y="200"/>
                    <a:pt x="229" y="161"/>
                    <a:pt x="144" y="188"/>
                  </a:cubicBezTo>
                  <a:cubicBezTo>
                    <a:pt x="91" y="224"/>
                    <a:pt x="115" y="235"/>
                    <a:pt x="62" y="271"/>
                  </a:cubicBezTo>
                  <a:cubicBezTo>
                    <a:pt x="36" y="348"/>
                    <a:pt x="0" y="437"/>
                    <a:pt x="62" y="518"/>
                  </a:cubicBezTo>
                  <a:cubicBezTo>
                    <a:pt x="91" y="555"/>
                    <a:pt x="156" y="510"/>
                    <a:pt x="203" y="506"/>
                  </a:cubicBezTo>
                  <a:cubicBezTo>
                    <a:pt x="279" y="480"/>
                    <a:pt x="273" y="470"/>
                    <a:pt x="297" y="400"/>
                  </a:cubicBezTo>
                  <a:cubicBezTo>
                    <a:pt x="275" y="188"/>
                    <a:pt x="285" y="322"/>
                    <a:pt x="285" y="0"/>
                  </a:cubicBez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8c3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6299640" y="3907800"/>
              <a:ext cx="223920" cy="52344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141" y="0"/>
                  </a:moveTo>
                  <a:cubicBezTo>
                    <a:pt x="124" y="72"/>
                    <a:pt x="98" y="147"/>
                    <a:pt x="35" y="189"/>
                  </a:cubicBezTo>
                  <a:cubicBezTo>
                    <a:pt x="14" y="254"/>
                    <a:pt x="32" y="193"/>
                    <a:pt x="12" y="283"/>
                  </a:cubicBezTo>
                  <a:cubicBezTo>
                    <a:pt x="8" y="299"/>
                    <a:pt x="0" y="330"/>
                    <a:pt x="0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537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548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549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8001000" y="6321600"/>
            <a:ext cx="914400" cy="533160"/>
            <a:chOff x="8001000" y="6321600"/>
            <a:chExt cx="914400" cy="533160"/>
          </a:xfrm>
        </p:grpSpPr>
        <p:grpSp>
          <p:nvGrpSpPr>
            <p:cNvPr id="566" name=""/>
            <p:cNvGrpSpPr/>
            <p:nvPr/>
          </p:nvGrpSpPr>
          <p:grpSpPr>
            <a:xfrm>
              <a:off x="8001000" y="6387840"/>
              <a:ext cx="846720" cy="333360"/>
              <a:chOff x="8001000" y="6387840"/>
              <a:chExt cx="846720" cy="33336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8001000" y="6387840"/>
                <a:ext cx="846720" cy="333360"/>
                <a:chOff x="8001000" y="6387840"/>
                <a:chExt cx="846720" cy="3333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855324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" name=""/>
                <p:cNvGrpSpPr/>
                <p:nvPr/>
              </p:nvGrpSpPr>
              <p:grpSpPr>
                <a:xfrm>
                  <a:off x="8001000" y="6387840"/>
                  <a:ext cx="693000" cy="333360"/>
                  <a:chOff x="8001000" y="6387840"/>
                  <a:chExt cx="693000" cy="3333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848124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841104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829080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822780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812520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00100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76" name=""/>
              <p:cNvSpPr/>
              <p:nvPr/>
            </p:nvSpPr>
            <p:spPr>
              <a:xfrm>
                <a:off x="871092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>
              <a:hlinkClick r:id="" action="ppaction://hlinkshowjump?jump=nextslide"/>
            </p:cNvPr>
            <p:cNvSpPr/>
            <p:nvPr/>
          </p:nvSpPr>
          <p:spPr>
            <a:xfrm>
              <a:off x="800100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29718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100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1752120" y="4145040"/>
            <a:ext cx="1394280" cy="596880"/>
            <a:chOff x="1752120" y="4145040"/>
            <a:chExt cx="1394280" cy="596880"/>
          </a:xfrm>
        </p:grpSpPr>
        <p:sp>
          <p:nvSpPr>
            <p:cNvPr id="584" name=""/>
            <p:cNvSpPr/>
            <p:nvPr/>
          </p:nvSpPr>
          <p:spPr>
            <a:xfrm flipH="1">
              <a:off x="2743200" y="440856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751760" y="414504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030400" y="4221360"/>
              <a:ext cx="34272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186640" y="423576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5280" y="4243680"/>
              <a:ext cx="39348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458800" y="4311720"/>
              <a:ext cx="32256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682720" y="435312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1904040" y="4300560"/>
              <a:ext cx="93960" cy="763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12426600">
              <a:off x="1903680" y="422424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107040" y="3833640"/>
            <a:ext cx="3537000" cy="1654200"/>
          </a:xfrm>
          <a:custGeom>
            <a:avLst/>
            <a:gdLst/>
            <a:ahLst/>
            <a:rect l="l" t="t" r="r" b="b"/>
            <a:pathLst>
              <a:path w="2228" h="1042">
                <a:moveTo>
                  <a:pt x="40" y="429"/>
                </a:moveTo>
                <a:cubicBezTo>
                  <a:pt x="145" y="393"/>
                  <a:pt x="85" y="417"/>
                  <a:pt x="204" y="358"/>
                </a:cubicBezTo>
                <a:cubicBezTo>
                  <a:pt x="220" y="350"/>
                  <a:pt x="235" y="343"/>
                  <a:pt x="251" y="335"/>
                </a:cubicBezTo>
                <a:cubicBezTo>
                  <a:pt x="267" y="327"/>
                  <a:pt x="298" y="311"/>
                  <a:pt x="298" y="311"/>
                </a:cubicBezTo>
                <a:cubicBezTo>
                  <a:pt x="315" y="245"/>
                  <a:pt x="352" y="189"/>
                  <a:pt x="369" y="123"/>
                </a:cubicBezTo>
                <a:cubicBezTo>
                  <a:pt x="365" y="178"/>
                  <a:pt x="354" y="233"/>
                  <a:pt x="357" y="288"/>
                </a:cubicBezTo>
                <a:cubicBezTo>
                  <a:pt x="358" y="306"/>
                  <a:pt x="363" y="335"/>
                  <a:pt x="381" y="335"/>
                </a:cubicBezTo>
                <a:cubicBezTo>
                  <a:pt x="398" y="335"/>
                  <a:pt x="392" y="300"/>
                  <a:pt x="404" y="288"/>
                </a:cubicBezTo>
                <a:cubicBezTo>
                  <a:pt x="416" y="275"/>
                  <a:pt x="435" y="272"/>
                  <a:pt x="451" y="264"/>
                </a:cubicBezTo>
                <a:cubicBezTo>
                  <a:pt x="459" y="248"/>
                  <a:pt x="469" y="233"/>
                  <a:pt x="475" y="217"/>
                </a:cubicBezTo>
                <a:cubicBezTo>
                  <a:pt x="494" y="167"/>
                  <a:pt x="480" y="141"/>
                  <a:pt x="498" y="217"/>
                </a:cubicBezTo>
                <a:cubicBezTo>
                  <a:pt x="493" y="266"/>
                  <a:pt x="469" y="344"/>
                  <a:pt x="510" y="358"/>
                </a:cubicBezTo>
                <a:cubicBezTo>
                  <a:pt x="525" y="363"/>
                  <a:pt x="541" y="350"/>
                  <a:pt x="557" y="346"/>
                </a:cubicBezTo>
                <a:cubicBezTo>
                  <a:pt x="565" y="330"/>
                  <a:pt x="568" y="311"/>
                  <a:pt x="581" y="299"/>
                </a:cubicBezTo>
                <a:cubicBezTo>
                  <a:pt x="652" y="229"/>
                  <a:pt x="614" y="322"/>
                  <a:pt x="639" y="240"/>
                </a:cubicBezTo>
                <a:cubicBezTo>
                  <a:pt x="650" y="303"/>
                  <a:pt x="641" y="369"/>
                  <a:pt x="663" y="429"/>
                </a:cubicBezTo>
                <a:cubicBezTo>
                  <a:pt x="667" y="440"/>
                  <a:pt x="686" y="436"/>
                  <a:pt x="698" y="440"/>
                </a:cubicBezTo>
                <a:cubicBezTo>
                  <a:pt x="777" y="431"/>
                  <a:pt x="843" y="426"/>
                  <a:pt x="910" y="382"/>
                </a:cubicBezTo>
                <a:cubicBezTo>
                  <a:pt x="914" y="370"/>
                  <a:pt x="913" y="355"/>
                  <a:pt x="922" y="346"/>
                </a:cubicBezTo>
                <a:cubicBezTo>
                  <a:pt x="985" y="283"/>
                  <a:pt x="936" y="397"/>
                  <a:pt x="969" y="299"/>
                </a:cubicBezTo>
                <a:cubicBezTo>
                  <a:pt x="973" y="327"/>
                  <a:pt x="966" y="358"/>
                  <a:pt x="981" y="382"/>
                </a:cubicBezTo>
                <a:cubicBezTo>
                  <a:pt x="1018" y="441"/>
                  <a:pt x="1040" y="367"/>
                  <a:pt x="1051" y="358"/>
                </a:cubicBezTo>
                <a:cubicBezTo>
                  <a:pt x="1064" y="347"/>
                  <a:pt x="1082" y="343"/>
                  <a:pt x="1098" y="335"/>
                </a:cubicBezTo>
                <a:cubicBezTo>
                  <a:pt x="1163" y="205"/>
                  <a:pt x="1141" y="205"/>
                  <a:pt x="1157" y="358"/>
                </a:cubicBezTo>
                <a:cubicBezTo>
                  <a:pt x="1220" y="327"/>
                  <a:pt x="1233" y="334"/>
                  <a:pt x="1251" y="264"/>
                </a:cubicBezTo>
                <a:cubicBezTo>
                  <a:pt x="1247" y="209"/>
                  <a:pt x="1256" y="152"/>
                  <a:pt x="1239" y="99"/>
                </a:cubicBezTo>
                <a:cubicBezTo>
                  <a:pt x="1234" y="82"/>
                  <a:pt x="1205" y="87"/>
                  <a:pt x="1192" y="76"/>
                </a:cubicBezTo>
                <a:cubicBezTo>
                  <a:pt x="1102" y="0"/>
                  <a:pt x="1249" y="75"/>
                  <a:pt x="1251" y="76"/>
                </a:cubicBezTo>
                <a:cubicBezTo>
                  <a:pt x="1307" y="188"/>
                  <a:pt x="1311" y="224"/>
                  <a:pt x="1334" y="358"/>
                </a:cubicBezTo>
                <a:cubicBezTo>
                  <a:pt x="1372" y="280"/>
                  <a:pt x="1341" y="319"/>
                  <a:pt x="1451" y="264"/>
                </a:cubicBezTo>
                <a:cubicBezTo>
                  <a:pt x="1465" y="257"/>
                  <a:pt x="1482" y="257"/>
                  <a:pt x="1498" y="252"/>
                </a:cubicBezTo>
                <a:cubicBezTo>
                  <a:pt x="1510" y="249"/>
                  <a:pt x="1542" y="231"/>
                  <a:pt x="1533" y="240"/>
                </a:cubicBezTo>
                <a:cubicBezTo>
                  <a:pt x="1521" y="252"/>
                  <a:pt x="1502" y="256"/>
                  <a:pt x="1486" y="264"/>
                </a:cubicBezTo>
                <a:cubicBezTo>
                  <a:pt x="1473" y="319"/>
                  <a:pt x="1456" y="369"/>
                  <a:pt x="1486" y="429"/>
                </a:cubicBezTo>
                <a:cubicBezTo>
                  <a:pt x="1492" y="442"/>
                  <a:pt x="1509" y="412"/>
                  <a:pt x="1522" y="405"/>
                </a:cubicBezTo>
                <a:cubicBezTo>
                  <a:pt x="1549" y="392"/>
                  <a:pt x="1577" y="383"/>
                  <a:pt x="1604" y="370"/>
                </a:cubicBezTo>
                <a:cubicBezTo>
                  <a:pt x="1612" y="358"/>
                  <a:pt x="1617" y="344"/>
                  <a:pt x="1628" y="335"/>
                </a:cubicBezTo>
                <a:cubicBezTo>
                  <a:pt x="1702" y="276"/>
                  <a:pt x="1667" y="427"/>
                  <a:pt x="1675" y="452"/>
                </a:cubicBezTo>
                <a:cubicBezTo>
                  <a:pt x="1679" y="466"/>
                  <a:pt x="1698" y="468"/>
                  <a:pt x="1710" y="476"/>
                </a:cubicBezTo>
                <a:cubicBezTo>
                  <a:pt x="1718" y="492"/>
                  <a:pt x="1716" y="519"/>
                  <a:pt x="1733" y="523"/>
                </a:cubicBezTo>
                <a:cubicBezTo>
                  <a:pt x="1751" y="528"/>
                  <a:pt x="1764" y="457"/>
                  <a:pt x="1769" y="452"/>
                </a:cubicBezTo>
                <a:cubicBezTo>
                  <a:pt x="1785" y="436"/>
                  <a:pt x="1875" y="393"/>
                  <a:pt x="1898" y="382"/>
                </a:cubicBezTo>
                <a:cubicBezTo>
                  <a:pt x="1906" y="398"/>
                  <a:pt x="1916" y="413"/>
                  <a:pt x="1922" y="429"/>
                </a:cubicBezTo>
                <a:cubicBezTo>
                  <a:pt x="1923" y="432"/>
                  <a:pt x="1937" y="503"/>
                  <a:pt x="1945" y="511"/>
                </a:cubicBezTo>
                <a:cubicBezTo>
                  <a:pt x="1954" y="520"/>
                  <a:pt x="1968" y="519"/>
                  <a:pt x="1980" y="523"/>
                </a:cubicBezTo>
                <a:cubicBezTo>
                  <a:pt x="2087" y="496"/>
                  <a:pt x="2044" y="509"/>
                  <a:pt x="2110" y="488"/>
                </a:cubicBezTo>
                <a:cubicBezTo>
                  <a:pt x="2149" y="500"/>
                  <a:pt x="2157" y="492"/>
                  <a:pt x="2157" y="546"/>
                </a:cubicBezTo>
                <a:cubicBezTo>
                  <a:pt x="2157" y="628"/>
                  <a:pt x="2228" y="919"/>
                  <a:pt x="2098" y="1005"/>
                </a:cubicBezTo>
                <a:cubicBezTo>
                  <a:pt x="2094" y="1017"/>
                  <a:pt x="2099" y="1042"/>
                  <a:pt x="2086" y="1041"/>
                </a:cubicBezTo>
                <a:cubicBezTo>
                  <a:pt x="2039" y="1036"/>
                  <a:pt x="2002" y="996"/>
                  <a:pt x="1957" y="982"/>
                </a:cubicBezTo>
                <a:cubicBezTo>
                  <a:pt x="1905" y="946"/>
                  <a:pt x="1850" y="945"/>
                  <a:pt x="1792" y="923"/>
                </a:cubicBezTo>
                <a:cubicBezTo>
                  <a:pt x="1776" y="917"/>
                  <a:pt x="1761" y="905"/>
                  <a:pt x="1745" y="899"/>
                </a:cubicBezTo>
                <a:cubicBezTo>
                  <a:pt x="1686" y="877"/>
                  <a:pt x="1627" y="869"/>
                  <a:pt x="1569" y="841"/>
                </a:cubicBezTo>
                <a:cubicBezTo>
                  <a:pt x="1478" y="705"/>
                  <a:pt x="1207" y="750"/>
                  <a:pt x="1098" y="746"/>
                </a:cubicBezTo>
                <a:cubicBezTo>
                  <a:pt x="1047" y="738"/>
                  <a:pt x="995" y="734"/>
                  <a:pt x="945" y="723"/>
                </a:cubicBezTo>
                <a:cubicBezTo>
                  <a:pt x="827" y="698"/>
                  <a:pt x="919" y="706"/>
                  <a:pt x="828" y="676"/>
                </a:cubicBezTo>
                <a:cubicBezTo>
                  <a:pt x="741" y="647"/>
                  <a:pt x="661" y="626"/>
                  <a:pt x="569" y="617"/>
                </a:cubicBezTo>
                <a:cubicBezTo>
                  <a:pt x="402" y="532"/>
                  <a:pt x="194" y="546"/>
                  <a:pt x="16" y="535"/>
                </a:cubicBezTo>
                <a:cubicBezTo>
                  <a:pt x="29" y="411"/>
                  <a:pt x="0" y="389"/>
                  <a:pt x="40" y="42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-228600" y="4419720"/>
            <a:ext cx="9677520" cy="266688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81600">
            <a:off x="-304560" y="396252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1676520" y="185904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47800" y="3780000"/>
            <a:ext cx="1722600" cy="54576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305920" y="6354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21497400">
            <a:off x="-228240" y="5486400"/>
            <a:ext cx="9856800" cy="167652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firstslide"/>
          </p:cNvPr>
          <p:cNvSpPr/>
          <p:nvPr/>
        </p:nvSpPr>
        <p:spPr>
          <a:xfrm>
            <a:off x="4191120" y="62784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066680" y="411120"/>
            <a:ext cx="1955880" cy="2133720"/>
            <a:chOff x="1066680" y="411120"/>
            <a:chExt cx="1955880" cy="2133720"/>
          </a:xfrm>
        </p:grpSpPr>
        <p:sp>
          <p:nvSpPr>
            <p:cNvPr id="602" name="">
              <a:hlinkClick r:id="" action="ppaction://hlinkshowjump?jump=previousslide"/>
            </p:cNvPr>
            <p:cNvSpPr/>
            <p:nvPr/>
          </p:nvSpPr>
          <p:spPr>
            <a:xfrm>
              <a:off x="1600200" y="193500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71600" y="716040"/>
              <a:ext cx="117648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48080" y="790560"/>
              <a:ext cx="47448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280" y="1401840"/>
              <a:ext cx="40176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54240" y="186840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12800" y="17366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90440" y="134460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66680" y="411120"/>
              <a:ext cx="517680" cy="53676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41480" y="412920"/>
              <a:ext cx="384120" cy="33480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1477800"/>
              <a:ext cx="457200" cy="15264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3880" y="944640"/>
              <a:ext cx="304920" cy="30456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23880" y="1058760"/>
              <a:ext cx="381240" cy="16056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0200" y="1143000"/>
              <a:ext cx="22860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65240" y="79200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81080" y="933480"/>
              <a:ext cx="401760" cy="20952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2133000" y="990360"/>
              <a:ext cx="76320" cy="228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4952880" y="38088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1650960"/>
            <a:ext cx="685800" cy="1062000"/>
          </a:xfrm>
          <a:custGeom>
            <a:avLst/>
            <a:gdLst/>
            <a:ahLst/>
            <a:rect l="l" t="t" r="r" b="b"/>
            <a:pathLst>
              <a:path w="356" h="669">
                <a:moveTo>
                  <a:pt x="285" y="643"/>
                </a:moveTo>
                <a:cubicBezTo>
                  <a:pt x="356" y="531"/>
                  <a:pt x="297" y="639"/>
                  <a:pt x="297" y="348"/>
                </a:cubicBezTo>
                <a:cubicBezTo>
                  <a:pt x="297" y="237"/>
                  <a:pt x="300" y="172"/>
                  <a:pt x="332" y="78"/>
                </a:cubicBezTo>
                <a:cubicBezTo>
                  <a:pt x="328" y="58"/>
                  <a:pt x="339" y="25"/>
                  <a:pt x="320" y="19"/>
                </a:cubicBezTo>
                <a:cubicBezTo>
                  <a:pt x="262" y="0"/>
                  <a:pt x="118" y="40"/>
                  <a:pt x="61" y="78"/>
                </a:cubicBezTo>
                <a:cubicBezTo>
                  <a:pt x="4" y="253"/>
                  <a:pt x="37" y="123"/>
                  <a:pt x="50" y="478"/>
                </a:cubicBezTo>
                <a:cubicBezTo>
                  <a:pt x="42" y="561"/>
                  <a:pt x="0" y="669"/>
                  <a:pt x="108" y="595"/>
                </a:cubicBezTo>
                <a:cubicBezTo>
                  <a:pt x="127" y="540"/>
                  <a:pt x="113" y="557"/>
                  <a:pt x="132" y="595"/>
                </a:cubicBezTo>
                <a:cubicBezTo>
                  <a:pt x="138" y="608"/>
                  <a:pt x="147" y="619"/>
                  <a:pt x="155" y="631"/>
                </a:cubicBezTo>
                <a:cubicBezTo>
                  <a:pt x="182" y="552"/>
                  <a:pt x="170" y="531"/>
                  <a:pt x="202" y="607"/>
                </a:cubicBezTo>
                <a:cubicBezTo>
                  <a:pt x="207" y="619"/>
                  <a:pt x="210" y="631"/>
                  <a:pt x="214" y="643"/>
                </a:cubicBezTo>
                <a:cubicBezTo>
                  <a:pt x="233" y="510"/>
                  <a:pt x="218" y="564"/>
                  <a:pt x="261" y="631"/>
                </a:cubicBezTo>
                <a:cubicBezTo>
                  <a:pt x="265" y="619"/>
                  <a:pt x="260" y="595"/>
                  <a:pt x="273" y="595"/>
                </a:cubicBezTo>
                <a:cubicBezTo>
                  <a:pt x="341" y="595"/>
                  <a:pt x="291" y="637"/>
                  <a:pt x="285" y="643"/>
                </a:cubicBez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72280" y="-152280"/>
            <a:ext cx="2097000" cy="5376600"/>
          </a:xfrm>
          <a:custGeom>
            <a:avLst/>
            <a:gdLst/>
            <a:ahLst/>
            <a:rect l="l" t="t" r="r" b="b"/>
            <a:pathLst>
              <a:path w="1321" h="3291">
                <a:moveTo>
                  <a:pt x="39" y="2891"/>
                </a:moveTo>
                <a:cubicBezTo>
                  <a:pt x="200" y="2836"/>
                  <a:pt x="0" y="2860"/>
                  <a:pt x="333" y="2844"/>
                </a:cubicBezTo>
                <a:cubicBezTo>
                  <a:pt x="360" y="2840"/>
                  <a:pt x="390" y="2844"/>
                  <a:pt x="415" y="2832"/>
                </a:cubicBezTo>
                <a:cubicBezTo>
                  <a:pt x="426" y="2826"/>
                  <a:pt x="418" y="2806"/>
                  <a:pt x="427" y="2797"/>
                </a:cubicBezTo>
                <a:cubicBezTo>
                  <a:pt x="436" y="2788"/>
                  <a:pt x="451" y="2789"/>
                  <a:pt x="463" y="2785"/>
                </a:cubicBezTo>
                <a:cubicBezTo>
                  <a:pt x="490" y="2702"/>
                  <a:pt x="478" y="2738"/>
                  <a:pt x="498" y="2679"/>
                </a:cubicBezTo>
                <a:cubicBezTo>
                  <a:pt x="502" y="2667"/>
                  <a:pt x="510" y="2644"/>
                  <a:pt x="510" y="2644"/>
                </a:cubicBezTo>
                <a:cubicBezTo>
                  <a:pt x="500" y="2299"/>
                  <a:pt x="487" y="2151"/>
                  <a:pt x="498" y="1808"/>
                </a:cubicBezTo>
                <a:cubicBezTo>
                  <a:pt x="489" y="1639"/>
                  <a:pt x="467" y="1458"/>
                  <a:pt x="510" y="1291"/>
                </a:cubicBezTo>
                <a:cubicBezTo>
                  <a:pt x="496" y="562"/>
                  <a:pt x="551" y="870"/>
                  <a:pt x="474" y="561"/>
                </a:cubicBezTo>
                <a:cubicBezTo>
                  <a:pt x="449" y="462"/>
                  <a:pt x="481" y="561"/>
                  <a:pt x="439" y="479"/>
                </a:cubicBezTo>
                <a:cubicBezTo>
                  <a:pt x="412" y="426"/>
                  <a:pt x="407" y="360"/>
                  <a:pt x="392" y="302"/>
                </a:cubicBezTo>
                <a:cubicBezTo>
                  <a:pt x="381" y="259"/>
                  <a:pt x="298" y="208"/>
                  <a:pt x="298" y="208"/>
                </a:cubicBezTo>
                <a:cubicBezTo>
                  <a:pt x="279" y="153"/>
                  <a:pt x="290" y="137"/>
                  <a:pt x="239" y="102"/>
                </a:cubicBezTo>
                <a:cubicBezTo>
                  <a:pt x="204" y="0"/>
                  <a:pt x="476" y="67"/>
                  <a:pt x="486" y="67"/>
                </a:cubicBezTo>
                <a:cubicBezTo>
                  <a:pt x="690" y="73"/>
                  <a:pt x="894" y="75"/>
                  <a:pt x="1098" y="79"/>
                </a:cubicBezTo>
                <a:cubicBezTo>
                  <a:pt x="1087" y="155"/>
                  <a:pt x="1068" y="227"/>
                  <a:pt x="1051" y="302"/>
                </a:cubicBezTo>
                <a:cubicBezTo>
                  <a:pt x="1043" y="659"/>
                  <a:pt x="1054" y="766"/>
                  <a:pt x="1004" y="1032"/>
                </a:cubicBezTo>
                <a:cubicBezTo>
                  <a:pt x="1011" y="1284"/>
                  <a:pt x="1013" y="1513"/>
                  <a:pt x="992" y="1761"/>
                </a:cubicBezTo>
                <a:cubicBezTo>
                  <a:pt x="986" y="1992"/>
                  <a:pt x="1010" y="2135"/>
                  <a:pt x="945" y="2326"/>
                </a:cubicBezTo>
                <a:cubicBezTo>
                  <a:pt x="941" y="2459"/>
                  <a:pt x="940" y="2593"/>
                  <a:pt x="933" y="2726"/>
                </a:cubicBezTo>
                <a:cubicBezTo>
                  <a:pt x="925" y="2891"/>
                  <a:pt x="901" y="2955"/>
                  <a:pt x="1051" y="3032"/>
                </a:cubicBezTo>
                <a:cubicBezTo>
                  <a:pt x="1116" y="3130"/>
                  <a:pt x="1029" y="3015"/>
                  <a:pt x="1110" y="3079"/>
                </a:cubicBezTo>
                <a:cubicBezTo>
                  <a:pt x="1222" y="3168"/>
                  <a:pt x="1047" y="3071"/>
                  <a:pt x="1168" y="3126"/>
                </a:cubicBezTo>
                <a:cubicBezTo>
                  <a:pt x="1200" y="3141"/>
                  <a:pt x="1262" y="3173"/>
                  <a:pt x="1262" y="3173"/>
                </a:cubicBezTo>
                <a:cubicBezTo>
                  <a:pt x="1295" y="3268"/>
                  <a:pt x="1246" y="3155"/>
                  <a:pt x="1309" y="3220"/>
                </a:cubicBezTo>
                <a:cubicBezTo>
                  <a:pt x="1318" y="3229"/>
                  <a:pt x="1317" y="3244"/>
                  <a:pt x="1321" y="3256"/>
                </a:cubicBezTo>
                <a:cubicBezTo>
                  <a:pt x="1284" y="3281"/>
                  <a:pt x="1287" y="3291"/>
                  <a:pt x="1239" y="3267"/>
                </a:cubicBezTo>
                <a:cubicBezTo>
                  <a:pt x="1198" y="3247"/>
                  <a:pt x="1149" y="3190"/>
                  <a:pt x="1098" y="3185"/>
                </a:cubicBezTo>
                <a:cubicBezTo>
                  <a:pt x="1028" y="3178"/>
                  <a:pt x="957" y="3177"/>
                  <a:pt x="886" y="3173"/>
                </a:cubicBezTo>
                <a:cubicBezTo>
                  <a:pt x="866" y="3166"/>
                  <a:pt x="817" y="3151"/>
                  <a:pt x="804" y="3138"/>
                </a:cubicBezTo>
                <a:cubicBezTo>
                  <a:pt x="730" y="3065"/>
                  <a:pt x="828" y="3107"/>
                  <a:pt x="745" y="3079"/>
                </a:cubicBezTo>
                <a:cubicBezTo>
                  <a:pt x="703" y="3017"/>
                  <a:pt x="735" y="3047"/>
                  <a:pt x="627" y="3020"/>
                </a:cubicBezTo>
                <a:lnTo>
                  <a:pt x="486" y="2973"/>
                </a:lnTo>
                <a:cubicBezTo>
                  <a:pt x="486" y="2973"/>
                  <a:pt x="486" y="2973"/>
                  <a:pt x="486" y="2973"/>
                </a:cubicBezTo>
                <a:cubicBezTo>
                  <a:pt x="361" y="2955"/>
                  <a:pt x="236" y="2938"/>
                  <a:pt x="110" y="2926"/>
                </a:cubicBezTo>
                <a:cubicBezTo>
                  <a:pt x="35" y="2902"/>
                  <a:pt x="39" y="2928"/>
                  <a:pt x="39" y="2891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5715360" y="1020600"/>
            <a:ext cx="2377800" cy="1020600"/>
            <a:chOff x="5715360" y="1020600"/>
            <a:chExt cx="2377800" cy="1020600"/>
          </a:xfrm>
        </p:grpSpPr>
        <p:sp>
          <p:nvSpPr>
            <p:cNvPr id="622" name=""/>
            <p:cNvSpPr/>
            <p:nvPr/>
          </p:nvSpPr>
          <p:spPr>
            <a:xfrm flipH="1">
              <a:off x="5715000" y="1020600"/>
              <a:ext cx="2377800" cy="690480"/>
            </a:xfrm>
            <a:custGeom>
              <a:avLst/>
              <a:gdLst/>
              <a:ahLst/>
              <a:rect l="l" t="t" r="r" b="b"/>
              <a:pathLst>
                <a:path w="1498" h="435">
                  <a:moveTo>
                    <a:pt x="28" y="282"/>
                  </a:moveTo>
                  <a:cubicBezTo>
                    <a:pt x="174" y="261"/>
                    <a:pt x="317" y="229"/>
                    <a:pt x="463" y="212"/>
                  </a:cubicBezTo>
                  <a:cubicBezTo>
                    <a:pt x="596" y="178"/>
                    <a:pt x="726" y="165"/>
                    <a:pt x="863" y="153"/>
                  </a:cubicBezTo>
                  <a:cubicBezTo>
                    <a:pt x="1005" y="117"/>
                    <a:pt x="1141" y="60"/>
                    <a:pt x="1287" y="35"/>
                  </a:cubicBezTo>
                  <a:cubicBezTo>
                    <a:pt x="1334" y="27"/>
                    <a:pt x="1381" y="19"/>
                    <a:pt x="1428" y="11"/>
                  </a:cubicBezTo>
                  <a:cubicBezTo>
                    <a:pt x="1451" y="7"/>
                    <a:pt x="1498" y="0"/>
                    <a:pt x="1498" y="0"/>
                  </a:cubicBezTo>
                  <a:cubicBezTo>
                    <a:pt x="1455" y="21"/>
                    <a:pt x="1412" y="29"/>
                    <a:pt x="1369" y="47"/>
                  </a:cubicBezTo>
                  <a:cubicBezTo>
                    <a:pt x="1293" y="80"/>
                    <a:pt x="1220" y="120"/>
                    <a:pt x="1145" y="153"/>
                  </a:cubicBezTo>
                  <a:cubicBezTo>
                    <a:pt x="1050" y="195"/>
                    <a:pt x="940" y="211"/>
                    <a:pt x="840" y="235"/>
                  </a:cubicBezTo>
                  <a:cubicBezTo>
                    <a:pt x="643" y="282"/>
                    <a:pt x="454" y="313"/>
                    <a:pt x="251" y="329"/>
                  </a:cubicBezTo>
                  <a:cubicBezTo>
                    <a:pt x="203" y="339"/>
                    <a:pt x="158" y="353"/>
                    <a:pt x="110" y="364"/>
                  </a:cubicBezTo>
                  <a:cubicBezTo>
                    <a:pt x="87" y="380"/>
                    <a:pt x="63" y="396"/>
                    <a:pt x="40" y="412"/>
                  </a:cubicBezTo>
                  <a:cubicBezTo>
                    <a:pt x="30" y="419"/>
                    <a:pt x="5" y="435"/>
                    <a:pt x="4" y="423"/>
                  </a:cubicBezTo>
                  <a:cubicBezTo>
                    <a:pt x="0" y="376"/>
                    <a:pt x="20" y="329"/>
                    <a:pt x="28" y="282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832720" y="1020600"/>
              <a:ext cx="1693800" cy="466560"/>
              <a:chOff x="5832720" y="1020600"/>
              <a:chExt cx="1693800" cy="46656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872040" y="1020600"/>
                <a:ext cx="654120" cy="353880"/>
              </a:xfrm>
              <a:custGeom>
                <a:avLst/>
                <a:gdLst/>
                <a:ahLst/>
                <a:rect l="l" t="t" r="r" b="b"/>
                <a:pathLst>
                  <a:path w="412" h="223">
                    <a:moveTo>
                      <a:pt x="0" y="223"/>
                    </a:moveTo>
                    <a:cubicBezTo>
                      <a:pt x="25" y="215"/>
                      <a:pt x="53" y="211"/>
                      <a:pt x="71" y="188"/>
                    </a:cubicBezTo>
                    <a:cubicBezTo>
                      <a:pt x="79" y="178"/>
                      <a:pt x="74" y="162"/>
                      <a:pt x="83" y="153"/>
                    </a:cubicBezTo>
                    <a:cubicBezTo>
                      <a:pt x="83" y="153"/>
                      <a:pt x="199" y="112"/>
                      <a:pt x="212" y="106"/>
                    </a:cubicBezTo>
                    <a:cubicBezTo>
                      <a:pt x="271" y="17"/>
                      <a:pt x="186" y="130"/>
                      <a:pt x="306" y="47"/>
                    </a:cubicBezTo>
                    <a:cubicBezTo>
                      <a:pt x="318" y="39"/>
                      <a:pt x="328" y="29"/>
                      <a:pt x="341" y="23"/>
                    </a:cubicBezTo>
                    <a:cubicBezTo>
                      <a:pt x="364" y="13"/>
                      <a:pt x="412" y="0"/>
                      <a:pt x="412" y="0"/>
                    </a:cubicBezTo>
                    <a:cubicBezTo>
                      <a:pt x="345" y="44"/>
                      <a:pt x="277" y="93"/>
                      <a:pt x="200" y="117"/>
                    </a:cubicBezTo>
                    <a:cubicBezTo>
                      <a:pt x="140" y="210"/>
                      <a:pt x="217" y="101"/>
                      <a:pt x="142" y="176"/>
                    </a:cubicBezTo>
                    <a:cubicBezTo>
                      <a:pt x="132" y="186"/>
                      <a:pt x="118" y="212"/>
                      <a:pt x="118" y="212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832360" y="1410840"/>
                <a:ext cx="1376280" cy="76320"/>
              </a:xfrm>
              <a:custGeom>
                <a:avLst/>
                <a:gdLst/>
                <a:ahLst/>
                <a:rect l="l" t="t" r="r" b="b"/>
                <a:pathLst>
                  <a:path w="867" h="48">
                    <a:moveTo>
                      <a:pt x="294" y="1"/>
                    </a:moveTo>
                    <a:cubicBezTo>
                      <a:pt x="867" y="19"/>
                      <a:pt x="730" y="0"/>
                      <a:pt x="541" y="48"/>
                    </a:cubicBezTo>
                    <a:cubicBezTo>
                      <a:pt x="427" y="40"/>
                      <a:pt x="312" y="1"/>
                      <a:pt x="200" y="24"/>
                    </a:cubicBezTo>
                    <a:cubicBezTo>
                      <a:pt x="120" y="40"/>
                      <a:pt x="89" y="48"/>
                      <a:pt x="0" y="48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6715440" y="1506240"/>
              <a:ext cx="1254240" cy="534960"/>
            </a:xfrm>
            <a:custGeom>
              <a:avLst/>
              <a:gdLst/>
              <a:ahLst/>
              <a:rect l="l" t="t" r="r" b="b"/>
              <a:pathLst>
                <a:path w="790" h="337">
                  <a:moveTo>
                    <a:pt x="21" y="106"/>
                  </a:moveTo>
                  <a:cubicBezTo>
                    <a:pt x="112" y="115"/>
                    <a:pt x="139" y="119"/>
                    <a:pt x="209" y="164"/>
                  </a:cubicBezTo>
                  <a:cubicBezTo>
                    <a:pt x="217" y="180"/>
                    <a:pt x="220" y="199"/>
                    <a:pt x="232" y="211"/>
                  </a:cubicBezTo>
                  <a:cubicBezTo>
                    <a:pt x="299" y="278"/>
                    <a:pt x="418" y="300"/>
                    <a:pt x="503" y="329"/>
                  </a:cubicBezTo>
                  <a:cubicBezTo>
                    <a:pt x="558" y="323"/>
                    <a:pt x="622" y="337"/>
                    <a:pt x="668" y="306"/>
                  </a:cubicBezTo>
                  <a:cubicBezTo>
                    <a:pt x="680" y="298"/>
                    <a:pt x="680" y="279"/>
                    <a:pt x="691" y="270"/>
                  </a:cubicBezTo>
                  <a:cubicBezTo>
                    <a:pt x="712" y="251"/>
                    <a:pt x="790" y="216"/>
                    <a:pt x="762" y="223"/>
                  </a:cubicBezTo>
                  <a:cubicBezTo>
                    <a:pt x="713" y="236"/>
                    <a:pt x="677" y="243"/>
                    <a:pt x="632" y="258"/>
                  </a:cubicBezTo>
                  <a:cubicBezTo>
                    <a:pt x="609" y="266"/>
                    <a:pt x="562" y="282"/>
                    <a:pt x="562" y="282"/>
                  </a:cubicBezTo>
                  <a:cubicBezTo>
                    <a:pt x="520" y="268"/>
                    <a:pt x="470" y="280"/>
                    <a:pt x="432" y="258"/>
                  </a:cubicBezTo>
                  <a:cubicBezTo>
                    <a:pt x="408" y="244"/>
                    <a:pt x="412" y="195"/>
                    <a:pt x="385" y="188"/>
                  </a:cubicBezTo>
                  <a:cubicBezTo>
                    <a:pt x="369" y="184"/>
                    <a:pt x="354" y="180"/>
                    <a:pt x="338" y="176"/>
                  </a:cubicBezTo>
                  <a:cubicBezTo>
                    <a:pt x="306" y="83"/>
                    <a:pt x="354" y="192"/>
                    <a:pt x="291" y="129"/>
                  </a:cubicBezTo>
                  <a:cubicBezTo>
                    <a:pt x="228" y="66"/>
                    <a:pt x="337" y="114"/>
                    <a:pt x="244" y="82"/>
                  </a:cubicBezTo>
                  <a:cubicBezTo>
                    <a:pt x="236" y="70"/>
                    <a:pt x="232" y="56"/>
                    <a:pt x="221" y="47"/>
                  </a:cubicBezTo>
                  <a:cubicBezTo>
                    <a:pt x="200" y="28"/>
                    <a:pt x="150" y="0"/>
                    <a:pt x="150" y="0"/>
                  </a:cubicBezTo>
                  <a:cubicBezTo>
                    <a:pt x="141" y="3"/>
                    <a:pt x="0" y="42"/>
                    <a:pt x="9" y="70"/>
                  </a:cubicBezTo>
                  <a:cubicBezTo>
                    <a:pt x="13" y="82"/>
                    <a:pt x="17" y="94"/>
                    <a:pt x="21" y="106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620120" y="1752480"/>
            <a:ext cx="279360" cy="96840"/>
          </a:xfrm>
          <a:custGeom>
            <a:avLst/>
            <a:gdLst/>
            <a:ahLst/>
            <a:rect l="l" t="t" r="r" b="b"/>
            <a:pathLst>
              <a:path w="164" h="12">
                <a:moveTo>
                  <a:pt x="0" y="0"/>
                </a:moveTo>
                <a:cubicBezTo>
                  <a:pt x="157" y="12"/>
                  <a:pt x="102" y="12"/>
                  <a:pt x="164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23200" y="1955880"/>
            <a:ext cx="509400" cy="41040"/>
          </a:xfrm>
          <a:custGeom>
            <a:avLst/>
            <a:gdLst/>
            <a:ahLst/>
            <a:rect l="l" t="t" r="r" b="b"/>
            <a:pathLst>
              <a:path w="188" h="23">
                <a:moveTo>
                  <a:pt x="0" y="0"/>
                </a:moveTo>
                <a:cubicBezTo>
                  <a:pt x="62" y="16"/>
                  <a:pt x="123" y="23"/>
                  <a:pt x="188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91520" y="2057400"/>
            <a:ext cx="533160" cy="76320"/>
          </a:xfrm>
          <a:custGeom>
            <a:avLst/>
            <a:gdLst/>
            <a:ahLst/>
            <a:rect l="l" t="t" r="r" b="b"/>
            <a:pathLst>
              <a:path w="200" h="47">
                <a:moveTo>
                  <a:pt x="0" y="0"/>
                </a:moveTo>
                <a:cubicBezTo>
                  <a:pt x="68" y="22"/>
                  <a:pt x="127" y="47"/>
                  <a:pt x="200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91520" y="2184480"/>
            <a:ext cx="533160" cy="101520"/>
          </a:xfrm>
          <a:custGeom>
            <a:avLst/>
            <a:gdLst/>
            <a:ahLst/>
            <a:rect l="l" t="t" r="r" b="b"/>
            <a:pathLst>
              <a:path w="247" h="59">
                <a:moveTo>
                  <a:pt x="0" y="0"/>
                </a:moveTo>
                <a:cubicBezTo>
                  <a:pt x="54" y="19"/>
                  <a:pt x="110" y="20"/>
                  <a:pt x="165" y="35"/>
                </a:cubicBezTo>
                <a:cubicBezTo>
                  <a:pt x="181" y="39"/>
                  <a:pt x="196" y="42"/>
                  <a:pt x="212" y="47"/>
                </a:cubicBezTo>
                <a:cubicBezTo>
                  <a:pt x="224" y="50"/>
                  <a:pt x="247" y="59"/>
                  <a:pt x="247" y="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23200" y="2290680"/>
            <a:ext cx="485640" cy="177840"/>
          </a:xfrm>
          <a:custGeom>
            <a:avLst/>
            <a:gdLst/>
            <a:ahLst/>
            <a:rect l="l" t="t" r="r" b="b"/>
            <a:pathLst>
              <a:path w="235" h="71">
                <a:moveTo>
                  <a:pt x="0" y="0"/>
                </a:moveTo>
                <a:cubicBezTo>
                  <a:pt x="87" y="22"/>
                  <a:pt x="144" y="71"/>
                  <a:pt x="235" y="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599520" y="1310040"/>
            <a:ext cx="924120" cy="907920"/>
            <a:chOff x="6599520" y="1310040"/>
            <a:chExt cx="924120" cy="907920"/>
          </a:xfrm>
        </p:grpSpPr>
        <p:sp>
          <p:nvSpPr>
            <p:cNvPr id="633" name=""/>
            <p:cNvSpPr/>
            <p:nvPr/>
          </p:nvSpPr>
          <p:spPr>
            <a:xfrm rot="2451600">
              <a:off x="6770520" y="1400400"/>
              <a:ext cx="547560" cy="726840"/>
            </a:xfrm>
            <a:custGeom>
              <a:avLst/>
              <a:gdLst/>
              <a:ahLst/>
              <a:rect l="l" t="t" r="r" b="b"/>
              <a:pathLst>
                <a:path w="345" h="458">
                  <a:moveTo>
                    <a:pt x="306" y="0"/>
                  </a:moveTo>
                  <a:cubicBezTo>
                    <a:pt x="287" y="56"/>
                    <a:pt x="268" y="45"/>
                    <a:pt x="212" y="59"/>
                  </a:cubicBezTo>
                  <a:cubicBezTo>
                    <a:pt x="200" y="67"/>
                    <a:pt x="189" y="76"/>
                    <a:pt x="176" y="82"/>
                  </a:cubicBezTo>
                  <a:cubicBezTo>
                    <a:pt x="165" y="87"/>
                    <a:pt x="151" y="86"/>
                    <a:pt x="141" y="94"/>
                  </a:cubicBezTo>
                  <a:cubicBezTo>
                    <a:pt x="130" y="103"/>
                    <a:pt x="128" y="119"/>
                    <a:pt x="118" y="129"/>
                  </a:cubicBezTo>
                  <a:cubicBezTo>
                    <a:pt x="108" y="139"/>
                    <a:pt x="94" y="145"/>
                    <a:pt x="82" y="153"/>
                  </a:cubicBezTo>
                  <a:cubicBezTo>
                    <a:pt x="51" y="246"/>
                    <a:pt x="32" y="342"/>
                    <a:pt x="0" y="435"/>
                  </a:cubicBezTo>
                  <a:cubicBezTo>
                    <a:pt x="66" y="458"/>
                    <a:pt x="145" y="417"/>
                    <a:pt x="212" y="400"/>
                  </a:cubicBezTo>
                  <a:cubicBezTo>
                    <a:pt x="345" y="309"/>
                    <a:pt x="306" y="143"/>
                    <a:pt x="306" y="0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451600">
              <a:off x="6979320" y="1445040"/>
              <a:ext cx="411120" cy="560160"/>
            </a:xfrm>
            <a:custGeom>
              <a:avLst/>
              <a:gdLst/>
              <a:ahLst/>
              <a:rect l="l" t="t" r="r" b="b"/>
              <a:pathLst>
                <a:path w="259" h="353">
                  <a:moveTo>
                    <a:pt x="259" y="0"/>
                  </a:moveTo>
                  <a:cubicBezTo>
                    <a:pt x="235" y="16"/>
                    <a:pt x="212" y="31"/>
                    <a:pt x="188" y="47"/>
                  </a:cubicBezTo>
                  <a:cubicBezTo>
                    <a:pt x="167" y="61"/>
                    <a:pt x="173" y="94"/>
                    <a:pt x="165" y="118"/>
                  </a:cubicBezTo>
                  <a:cubicBezTo>
                    <a:pt x="153" y="153"/>
                    <a:pt x="141" y="188"/>
                    <a:pt x="129" y="224"/>
                  </a:cubicBezTo>
                  <a:cubicBezTo>
                    <a:pt x="125" y="236"/>
                    <a:pt x="128" y="252"/>
                    <a:pt x="118" y="259"/>
                  </a:cubicBezTo>
                  <a:cubicBezTo>
                    <a:pt x="94" y="275"/>
                    <a:pt x="47" y="306"/>
                    <a:pt x="47" y="306"/>
                  </a:cubicBezTo>
                  <a:cubicBezTo>
                    <a:pt x="19" y="348"/>
                    <a:pt x="36" y="335"/>
                    <a:pt x="0" y="353"/>
                  </a:cubicBezTo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991200" y="573120"/>
            <a:ext cx="236520" cy="523800"/>
            <a:chOff x="6991200" y="573120"/>
            <a:chExt cx="236520" cy="523800"/>
          </a:xfrm>
        </p:grpSpPr>
        <p:sp>
          <p:nvSpPr>
            <p:cNvPr id="636" name=""/>
            <p:cNvSpPr/>
            <p:nvPr/>
          </p:nvSpPr>
          <p:spPr>
            <a:xfrm>
              <a:off x="7084800" y="573120"/>
              <a:ext cx="142920" cy="523800"/>
            </a:xfrm>
            <a:custGeom>
              <a:avLst/>
              <a:gdLst/>
              <a:ahLst/>
              <a:rect l="l" t="t" r="r" b="b"/>
              <a:pathLst>
                <a:path w="90" h="330">
                  <a:moveTo>
                    <a:pt x="0" y="330"/>
                  </a:moveTo>
                  <a:cubicBezTo>
                    <a:pt x="35" y="221"/>
                    <a:pt x="10" y="107"/>
                    <a:pt x="47" y="0"/>
                  </a:cubicBezTo>
                  <a:cubicBezTo>
                    <a:pt x="66" y="96"/>
                    <a:pt x="90" y="132"/>
                    <a:pt x="59" y="247"/>
                  </a:cubicBezTo>
                  <a:cubicBezTo>
                    <a:pt x="55" y="261"/>
                    <a:pt x="31" y="259"/>
                    <a:pt x="23" y="271"/>
                  </a:cubicBezTo>
                  <a:cubicBezTo>
                    <a:pt x="11" y="288"/>
                    <a:pt x="8" y="310"/>
                    <a:pt x="0" y="330"/>
                  </a:cubicBezTo>
                  <a:close/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91200" y="591840"/>
              <a:ext cx="168480" cy="410760"/>
            </a:xfrm>
            <a:custGeom>
              <a:avLst/>
              <a:gdLst/>
              <a:ahLst/>
              <a:rect l="l" t="t" r="r" b="b"/>
              <a:pathLst>
                <a:path w="106" h="259">
                  <a:moveTo>
                    <a:pt x="106" y="0"/>
                  </a:moveTo>
                  <a:cubicBezTo>
                    <a:pt x="78" y="84"/>
                    <a:pt x="103" y="57"/>
                    <a:pt x="47" y="94"/>
                  </a:cubicBezTo>
                  <a:cubicBezTo>
                    <a:pt x="39" y="106"/>
                    <a:pt x="30" y="116"/>
                    <a:pt x="24" y="129"/>
                  </a:cubicBezTo>
                  <a:cubicBezTo>
                    <a:pt x="14" y="152"/>
                    <a:pt x="0" y="200"/>
                    <a:pt x="0" y="200"/>
                  </a:cubicBezTo>
                  <a:cubicBezTo>
                    <a:pt x="14" y="240"/>
                    <a:pt x="26" y="259"/>
                    <a:pt x="71" y="259"/>
                  </a:cubicBezTo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775920" y="1999440"/>
            <a:ext cx="788040" cy="996480"/>
            <a:chOff x="6775920" y="1999440"/>
            <a:chExt cx="788040" cy="996480"/>
          </a:xfrm>
        </p:grpSpPr>
        <p:sp>
          <p:nvSpPr>
            <p:cNvPr id="639" name=""/>
            <p:cNvSpPr/>
            <p:nvPr/>
          </p:nvSpPr>
          <p:spPr>
            <a:xfrm rot="20164800">
              <a:off x="6933960" y="2057040"/>
              <a:ext cx="471240" cy="880920"/>
            </a:xfrm>
            <a:custGeom>
              <a:avLst/>
              <a:gdLst/>
              <a:ahLst/>
              <a:rect l="l" t="t" r="r" b="b"/>
              <a:pathLst>
                <a:path w="297" h="555">
                  <a:moveTo>
                    <a:pt x="262" y="94"/>
                  </a:moveTo>
                  <a:cubicBezTo>
                    <a:pt x="191" y="198"/>
                    <a:pt x="287" y="73"/>
                    <a:pt x="203" y="141"/>
                  </a:cubicBezTo>
                  <a:cubicBezTo>
                    <a:pt x="130" y="200"/>
                    <a:pt x="229" y="161"/>
                    <a:pt x="144" y="188"/>
                  </a:cubicBezTo>
                  <a:cubicBezTo>
                    <a:pt x="91" y="224"/>
                    <a:pt x="115" y="235"/>
                    <a:pt x="62" y="271"/>
                  </a:cubicBezTo>
                  <a:cubicBezTo>
                    <a:pt x="36" y="348"/>
                    <a:pt x="0" y="437"/>
                    <a:pt x="62" y="518"/>
                  </a:cubicBezTo>
                  <a:cubicBezTo>
                    <a:pt x="91" y="555"/>
                    <a:pt x="156" y="510"/>
                    <a:pt x="203" y="506"/>
                  </a:cubicBezTo>
                  <a:cubicBezTo>
                    <a:pt x="279" y="480"/>
                    <a:pt x="273" y="470"/>
                    <a:pt x="297" y="400"/>
                  </a:cubicBezTo>
                  <a:cubicBezTo>
                    <a:pt x="275" y="188"/>
                    <a:pt x="285" y="322"/>
                    <a:pt x="285" y="0"/>
                  </a:cubicBezTo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164800">
              <a:off x="7133760" y="2148840"/>
              <a:ext cx="223560" cy="52344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141" y="0"/>
                  </a:moveTo>
                  <a:cubicBezTo>
                    <a:pt x="124" y="72"/>
                    <a:pt x="98" y="147"/>
                    <a:pt x="35" y="189"/>
                  </a:cubicBezTo>
                  <a:cubicBezTo>
                    <a:pt x="14" y="254"/>
                    <a:pt x="32" y="193"/>
                    <a:pt x="12" y="283"/>
                  </a:cubicBezTo>
                  <a:cubicBezTo>
                    <a:pt x="8" y="299"/>
                    <a:pt x="0" y="330"/>
                    <a:pt x="0" y="330"/>
                  </a:cubicBezTo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791320" y="1219320"/>
            <a:ext cx="307800" cy="939600"/>
            <a:chOff x="5791320" y="1219320"/>
            <a:chExt cx="307800" cy="939600"/>
          </a:xfrm>
        </p:grpSpPr>
        <p:sp>
          <p:nvSpPr>
            <p:cNvPr id="642" name=""/>
            <p:cNvSpPr/>
            <p:nvPr/>
          </p:nvSpPr>
          <p:spPr>
            <a:xfrm>
              <a:off x="5791320" y="1373040"/>
              <a:ext cx="299880" cy="785880"/>
            </a:xfrm>
            <a:custGeom>
              <a:avLst/>
              <a:gdLst/>
              <a:ahLst/>
              <a:rect l="l" t="t" r="r" b="b"/>
              <a:pathLst>
                <a:path w="189" h="495">
                  <a:moveTo>
                    <a:pt x="106" y="0"/>
                  </a:moveTo>
                  <a:cubicBezTo>
                    <a:pt x="42" y="44"/>
                    <a:pt x="77" y="11"/>
                    <a:pt x="24" y="118"/>
                  </a:cubicBezTo>
                  <a:cubicBezTo>
                    <a:pt x="10" y="147"/>
                    <a:pt x="0" y="212"/>
                    <a:pt x="0" y="212"/>
                  </a:cubicBezTo>
                  <a:cubicBezTo>
                    <a:pt x="10" y="240"/>
                    <a:pt x="26" y="266"/>
                    <a:pt x="35" y="294"/>
                  </a:cubicBezTo>
                  <a:cubicBezTo>
                    <a:pt x="46" y="328"/>
                    <a:pt x="36" y="372"/>
                    <a:pt x="59" y="400"/>
                  </a:cubicBezTo>
                  <a:cubicBezTo>
                    <a:pt x="77" y="422"/>
                    <a:pt x="113" y="417"/>
                    <a:pt x="141" y="424"/>
                  </a:cubicBezTo>
                  <a:cubicBezTo>
                    <a:pt x="152" y="456"/>
                    <a:pt x="164" y="495"/>
                    <a:pt x="141" y="412"/>
                  </a:cubicBezTo>
                  <a:cubicBezTo>
                    <a:pt x="129" y="368"/>
                    <a:pt x="130" y="376"/>
                    <a:pt x="106" y="329"/>
                  </a:cubicBezTo>
                  <a:cubicBezTo>
                    <a:pt x="110" y="317"/>
                    <a:pt x="112" y="305"/>
                    <a:pt x="118" y="294"/>
                  </a:cubicBezTo>
                  <a:cubicBezTo>
                    <a:pt x="132" y="269"/>
                    <a:pt x="165" y="224"/>
                    <a:pt x="165" y="224"/>
                  </a:cubicBezTo>
                  <a:cubicBezTo>
                    <a:pt x="187" y="159"/>
                    <a:pt x="189" y="123"/>
                    <a:pt x="130" y="82"/>
                  </a:cubicBezTo>
                  <a:cubicBezTo>
                    <a:pt x="122" y="70"/>
                    <a:pt x="117" y="56"/>
                    <a:pt x="106" y="47"/>
                  </a:cubicBezTo>
                  <a:cubicBezTo>
                    <a:pt x="68" y="17"/>
                    <a:pt x="45" y="61"/>
                    <a:pt x="106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04000" y="1219320"/>
              <a:ext cx="195120" cy="509400"/>
            </a:xfrm>
            <a:custGeom>
              <a:avLst/>
              <a:gdLst/>
              <a:ahLst/>
              <a:rect l="l" t="t" r="r" b="b"/>
              <a:pathLst>
                <a:path w="200" h="342">
                  <a:moveTo>
                    <a:pt x="200" y="0"/>
                  </a:moveTo>
                  <a:cubicBezTo>
                    <a:pt x="146" y="18"/>
                    <a:pt x="95" y="15"/>
                    <a:pt x="47" y="47"/>
                  </a:cubicBezTo>
                  <a:cubicBezTo>
                    <a:pt x="39" y="59"/>
                    <a:pt x="29" y="70"/>
                    <a:pt x="23" y="83"/>
                  </a:cubicBezTo>
                  <a:cubicBezTo>
                    <a:pt x="13" y="105"/>
                    <a:pt x="0" y="153"/>
                    <a:pt x="0" y="153"/>
                  </a:cubicBezTo>
                  <a:cubicBezTo>
                    <a:pt x="19" y="228"/>
                    <a:pt x="23" y="256"/>
                    <a:pt x="23" y="342"/>
                  </a:cubicBez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289560" y="1463760"/>
            <a:ext cx="236520" cy="523800"/>
            <a:chOff x="6289560" y="1463760"/>
            <a:chExt cx="236520" cy="523800"/>
          </a:xfrm>
        </p:grpSpPr>
        <p:sp>
          <p:nvSpPr>
            <p:cNvPr id="645" name=""/>
            <p:cNvSpPr/>
            <p:nvPr/>
          </p:nvSpPr>
          <p:spPr>
            <a:xfrm>
              <a:off x="6289560" y="1463760"/>
              <a:ext cx="236520" cy="523800"/>
            </a:xfrm>
            <a:custGeom>
              <a:avLst/>
              <a:gdLst/>
              <a:ahLst/>
              <a:rect l="l" t="t" r="r" b="b"/>
              <a:pathLst>
                <a:path w="149" h="330">
                  <a:moveTo>
                    <a:pt x="136" y="16"/>
                  </a:moveTo>
                  <a:cubicBezTo>
                    <a:pt x="109" y="103"/>
                    <a:pt x="149" y="0"/>
                    <a:pt x="89" y="74"/>
                  </a:cubicBezTo>
                  <a:cubicBezTo>
                    <a:pt x="22" y="157"/>
                    <a:pt x="144" y="66"/>
                    <a:pt x="42" y="133"/>
                  </a:cubicBezTo>
                  <a:cubicBezTo>
                    <a:pt x="23" y="190"/>
                    <a:pt x="0" y="244"/>
                    <a:pt x="42" y="310"/>
                  </a:cubicBezTo>
                  <a:cubicBezTo>
                    <a:pt x="55" y="330"/>
                    <a:pt x="89" y="302"/>
                    <a:pt x="113" y="298"/>
                  </a:cubicBezTo>
                  <a:cubicBezTo>
                    <a:pt x="137" y="227"/>
                    <a:pt x="139" y="210"/>
                    <a:pt x="125" y="122"/>
                  </a:cubicBezTo>
                  <a:cubicBezTo>
                    <a:pt x="123" y="110"/>
                    <a:pt x="113" y="86"/>
                    <a:pt x="113" y="86"/>
                  </a:cubicBezTo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57960" y="1581120"/>
              <a:ext cx="110880" cy="280440"/>
            </a:xfrm>
            <a:custGeom>
              <a:avLst/>
              <a:gdLst/>
              <a:ahLst/>
              <a:rect l="l" t="t" r="r" b="b"/>
              <a:pathLst>
                <a:path w="70" h="177">
                  <a:moveTo>
                    <a:pt x="70" y="0"/>
                  </a:moveTo>
                  <a:cubicBezTo>
                    <a:pt x="62" y="12"/>
                    <a:pt x="56" y="26"/>
                    <a:pt x="46" y="36"/>
                  </a:cubicBezTo>
                  <a:cubicBezTo>
                    <a:pt x="36" y="46"/>
                    <a:pt x="14" y="45"/>
                    <a:pt x="11" y="59"/>
                  </a:cubicBezTo>
                  <a:cubicBezTo>
                    <a:pt x="0" y="104"/>
                    <a:pt x="29" y="148"/>
                    <a:pt x="58" y="177"/>
                  </a:cubicBezTo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140160" y="590400"/>
            <a:ext cx="813600" cy="765720"/>
            <a:chOff x="6140160" y="590400"/>
            <a:chExt cx="813600" cy="765720"/>
          </a:xfrm>
        </p:grpSpPr>
        <p:sp>
          <p:nvSpPr>
            <p:cNvPr id="648" name=""/>
            <p:cNvSpPr/>
            <p:nvPr/>
          </p:nvSpPr>
          <p:spPr>
            <a:xfrm rot="13185000">
              <a:off x="6403320" y="631080"/>
              <a:ext cx="374400" cy="684360"/>
            </a:xfrm>
            <a:custGeom>
              <a:avLst/>
              <a:gdLst/>
              <a:ahLst/>
              <a:rect l="l" t="t" r="r" b="b"/>
              <a:pathLst>
                <a:path w="141" h="346">
                  <a:moveTo>
                    <a:pt x="141" y="0"/>
                  </a:moveTo>
                  <a:cubicBezTo>
                    <a:pt x="133" y="12"/>
                    <a:pt x="129" y="26"/>
                    <a:pt x="118" y="35"/>
                  </a:cubicBezTo>
                  <a:cubicBezTo>
                    <a:pt x="108" y="43"/>
                    <a:pt x="91" y="38"/>
                    <a:pt x="82" y="47"/>
                  </a:cubicBezTo>
                  <a:cubicBezTo>
                    <a:pt x="62" y="67"/>
                    <a:pt x="35" y="117"/>
                    <a:pt x="35" y="117"/>
                  </a:cubicBezTo>
                  <a:cubicBezTo>
                    <a:pt x="31" y="180"/>
                    <a:pt x="30" y="243"/>
                    <a:pt x="24" y="305"/>
                  </a:cubicBezTo>
                  <a:cubicBezTo>
                    <a:pt x="23" y="318"/>
                    <a:pt x="0" y="338"/>
                    <a:pt x="12" y="341"/>
                  </a:cubicBezTo>
                  <a:cubicBezTo>
                    <a:pt x="36" y="346"/>
                    <a:pt x="82" y="317"/>
                    <a:pt x="82" y="317"/>
                  </a:cubicBezTo>
                  <a:cubicBezTo>
                    <a:pt x="117" y="214"/>
                    <a:pt x="122" y="108"/>
                    <a:pt x="141" y="0"/>
                  </a:cubicBezTo>
                  <a:close/>
                </a:path>
              </a:pathLst>
            </a:custGeom>
            <a:solidFill>
              <a:srgbClr val="007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3185000">
              <a:off x="6281640" y="736560"/>
              <a:ext cx="246240" cy="531720"/>
            </a:xfrm>
            <a:custGeom>
              <a:avLst/>
              <a:gdLst/>
              <a:ahLst/>
              <a:rect l="l" t="t" r="r" b="b"/>
              <a:pathLst>
                <a:path w="155" h="335">
                  <a:moveTo>
                    <a:pt x="141" y="17"/>
                  </a:moveTo>
                  <a:cubicBezTo>
                    <a:pt x="111" y="105"/>
                    <a:pt x="155" y="0"/>
                    <a:pt x="94" y="76"/>
                  </a:cubicBezTo>
                  <a:cubicBezTo>
                    <a:pt x="86" y="86"/>
                    <a:pt x="88" y="100"/>
                    <a:pt x="82" y="111"/>
                  </a:cubicBezTo>
                  <a:cubicBezTo>
                    <a:pt x="76" y="124"/>
                    <a:pt x="66" y="134"/>
                    <a:pt x="58" y="146"/>
                  </a:cubicBezTo>
                  <a:cubicBezTo>
                    <a:pt x="46" y="185"/>
                    <a:pt x="35" y="225"/>
                    <a:pt x="23" y="264"/>
                  </a:cubicBezTo>
                  <a:cubicBezTo>
                    <a:pt x="20" y="276"/>
                    <a:pt x="15" y="287"/>
                    <a:pt x="11" y="299"/>
                  </a:cubicBezTo>
                  <a:cubicBezTo>
                    <a:pt x="7" y="311"/>
                    <a:pt x="0" y="335"/>
                    <a:pt x="0" y="335"/>
                  </a:cubicBezTo>
                </a:path>
              </a:pathLst>
            </a:custGeom>
            <a:solidFill>
              <a:srgbClr val="007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308480" y="2286000"/>
            <a:ext cx="1393200" cy="1260360"/>
            <a:chOff x="4308480" y="2286000"/>
            <a:chExt cx="1393200" cy="1260360"/>
          </a:xfrm>
        </p:grpSpPr>
        <p:sp>
          <p:nvSpPr>
            <p:cNvPr id="651" name=""/>
            <p:cNvSpPr/>
            <p:nvPr/>
          </p:nvSpPr>
          <p:spPr>
            <a:xfrm rot="20416200">
              <a:off x="4953240" y="2703600"/>
              <a:ext cx="687240" cy="48240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rot="16246200">
              <a:off x="4773600" y="2958120"/>
              <a:ext cx="687240" cy="48276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90400">
              <a:off x="4724640" y="2322000"/>
              <a:ext cx="131760" cy="507960"/>
            </a:xfrm>
            <a:custGeom>
              <a:avLst/>
              <a:gdLst/>
              <a:ahLst/>
              <a:rect l="l" t="t" r="r" b="b"/>
              <a:pathLst>
                <a:path w="83" h="320">
                  <a:moveTo>
                    <a:pt x="83" y="320"/>
                  </a:moveTo>
                  <a:cubicBezTo>
                    <a:pt x="71" y="263"/>
                    <a:pt x="54" y="210"/>
                    <a:pt x="36" y="155"/>
                  </a:cubicBezTo>
                  <a:cubicBezTo>
                    <a:pt x="28" y="132"/>
                    <a:pt x="20" y="108"/>
                    <a:pt x="12" y="85"/>
                  </a:cubicBezTo>
                  <a:cubicBezTo>
                    <a:pt x="8" y="73"/>
                    <a:pt x="0" y="49"/>
                    <a:pt x="0" y="49"/>
                  </a:cubicBezTo>
                  <a:cubicBezTo>
                    <a:pt x="4" y="37"/>
                    <a:pt x="1" y="19"/>
                    <a:pt x="12" y="14"/>
                  </a:cubicBezTo>
                  <a:cubicBezTo>
                    <a:pt x="40" y="0"/>
                    <a:pt x="64" y="50"/>
                    <a:pt x="71" y="61"/>
                  </a:cubicBezTo>
                  <a:cubicBezTo>
                    <a:pt x="56" y="119"/>
                    <a:pt x="70" y="96"/>
                    <a:pt x="36" y="132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96040" y="2475000"/>
              <a:ext cx="393480" cy="392040"/>
            </a:xfrm>
            <a:custGeom>
              <a:avLst/>
              <a:gdLst/>
              <a:ahLst/>
              <a:rect l="l" t="t" r="r" b="b"/>
              <a:pathLst>
                <a:path w="231" h="241">
                  <a:moveTo>
                    <a:pt x="218" y="224"/>
                  </a:moveTo>
                  <a:cubicBezTo>
                    <a:pt x="191" y="137"/>
                    <a:pt x="231" y="241"/>
                    <a:pt x="171" y="165"/>
                  </a:cubicBezTo>
                  <a:cubicBezTo>
                    <a:pt x="125" y="108"/>
                    <a:pt x="204" y="145"/>
                    <a:pt x="124" y="118"/>
                  </a:cubicBezTo>
                  <a:cubicBezTo>
                    <a:pt x="104" y="59"/>
                    <a:pt x="107" y="22"/>
                    <a:pt x="42" y="0"/>
                  </a:cubicBezTo>
                  <a:cubicBezTo>
                    <a:pt x="30" y="4"/>
                    <a:pt x="11" y="0"/>
                    <a:pt x="7" y="12"/>
                  </a:cubicBezTo>
                  <a:cubicBezTo>
                    <a:pt x="1" y="31"/>
                    <a:pt x="0" y="62"/>
                    <a:pt x="18" y="71"/>
                  </a:cubicBezTo>
                  <a:cubicBezTo>
                    <a:pt x="43" y="84"/>
                    <a:pt x="101" y="59"/>
                    <a:pt x="101" y="59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43440" y="2286000"/>
              <a:ext cx="578160" cy="55404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5845200">
              <a:off x="4331520" y="2715120"/>
              <a:ext cx="577800" cy="55404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0" y="3581280"/>
            <a:ext cx="179244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3760920"/>
            <a:ext cx="7734600" cy="129528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76520" y="4800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ndo uscì, non si riconosceva più: era diventato una bellissima farfall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661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672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673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8001000" y="6321600"/>
            <a:ext cx="914400" cy="533160"/>
            <a:chOff x="8001000" y="6321600"/>
            <a:chExt cx="914400" cy="533160"/>
          </a:xfrm>
        </p:grpSpPr>
        <p:grpSp>
          <p:nvGrpSpPr>
            <p:cNvPr id="690" name=""/>
            <p:cNvGrpSpPr/>
            <p:nvPr/>
          </p:nvGrpSpPr>
          <p:grpSpPr>
            <a:xfrm>
              <a:off x="8001000" y="6387840"/>
              <a:ext cx="846720" cy="333360"/>
              <a:chOff x="8001000" y="6387840"/>
              <a:chExt cx="846720" cy="33336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8001000" y="6387840"/>
                <a:ext cx="846720" cy="333360"/>
                <a:chOff x="8001000" y="6387840"/>
                <a:chExt cx="846720" cy="3333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855324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"/>
                <p:cNvGrpSpPr/>
                <p:nvPr/>
              </p:nvGrpSpPr>
              <p:grpSpPr>
                <a:xfrm>
                  <a:off x="8001000" y="6387840"/>
                  <a:ext cx="693000" cy="333360"/>
                  <a:chOff x="8001000" y="6387840"/>
                  <a:chExt cx="693000" cy="33336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848124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841104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29080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822780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812520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800100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0" name=""/>
              <p:cNvSpPr/>
              <p:nvPr/>
            </p:nvSpPr>
            <p:spPr>
              <a:xfrm>
                <a:off x="871092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>
              <a:hlinkClick r:id="" action="ppaction://hlinkshowjump?jump=nextslide"/>
            </p:cNvPr>
            <p:cNvSpPr/>
            <p:nvPr/>
          </p:nvSpPr>
          <p:spPr>
            <a:xfrm>
              <a:off x="800100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-380880" y="76212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057040" y="4297320"/>
            <a:ext cx="1394280" cy="596880"/>
            <a:chOff x="2057040" y="4297320"/>
            <a:chExt cx="1394280" cy="596880"/>
          </a:xfrm>
        </p:grpSpPr>
        <p:sp>
          <p:nvSpPr>
            <p:cNvPr id="709" name=""/>
            <p:cNvSpPr/>
            <p:nvPr/>
          </p:nvSpPr>
          <p:spPr>
            <a:xfrm flipH="1">
              <a:off x="3048120" y="456084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056680" y="429732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335320" y="4373640"/>
              <a:ext cx="34272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491560" y="438804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590200" y="4395960"/>
              <a:ext cx="39348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763720" y="4464000"/>
              <a:ext cx="32256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987640" y="450540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2208960" y="4452840"/>
              <a:ext cx="93960" cy="763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2426600">
              <a:off x="2208600" y="437652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5943600" y="3809880"/>
            <a:ext cx="3537000" cy="1654200"/>
          </a:xfrm>
          <a:custGeom>
            <a:avLst/>
            <a:gdLst/>
            <a:ahLst/>
            <a:rect l="l" t="t" r="r" b="b"/>
            <a:pathLst>
              <a:path w="2228" h="1042">
                <a:moveTo>
                  <a:pt x="40" y="429"/>
                </a:moveTo>
                <a:cubicBezTo>
                  <a:pt x="145" y="393"/>
                  <a:pt x="85" y="417"/>
                  <a:pt x="204" y="358"/>
                </a:cubicBezTo>
                <a:cubicBezTo>
                  <a:pt x="220" y="350"/>
                  <a:pt x="235" y="343"/>
                  <a:pt x="251" y="335"/>
                </a:cubicBezTo>
                <a:cubicBezTo>
                  <a:pt x="267" y="327"/>
                  <a:pt x="298" y="311"/>
                  <a:pt x="298" y="311"/>
                </a:cubicBezTo>
                <a:cubicBezTo>
                  <a:pt x="315" y="245"/>
                  <a:pt x="352" y="189"/>
                  <a:pt x="369" y="123"/>
                </a:cubicBezTo>
                <a:cubicBezTo>
                  <a:pt x="365" y="178"/>
                  <a:pt x="354" y="233"/>
                  <a:pt x="357" y="288"/>
                </a:cubicBezTo>
                <a:cubicBezTo>
                  <a:pt x="358" y="306"/>
                  <a:pt x="363" y="335"/>
                  <a:pt x="381" y="335"/>
                </a:cubicBezTo>
                <a:cubicBezTo>
                  <a:pt x="398" y="335"/>
                  <a:pt x="392" y="300"/>
                  <a:pt x="404" y="288"/>
                </a:cubicBezTo>
                <a:cubicBezTo>
                  <a:pt x="416" y="275"/>
                  <a:pt x="435" y="272"/>
                  <a:pt x="451" y="264"/>
                </a:cubicBezTo>
                <a:cubicBezTo>
                  <a:pt x="459" y="248"/>
                  <a:pt x="469" y="233"/>
                  <a:pt x="475" y="217"/>
                </a:cubicBezTo>
                <a:cubicBezTo>
                  <a:pt x="494" y="167"/>
                  <a:pt x="480" y="141"/>
                  <a:pt x="498" y="217"/>
                </a:cubicBezTo>
                <a:cubicBezTo>
                  <a:pt x="493" y="266"/>
                  <a:pt x="469" y="344"/>
                  <a:pt x="510" y="358"/>
                </a:cubicBezTo>
                <a:cubicBezTo>
                  <a:pt x="525" y="363"/>
                  <a:pt x="541" y="350"/>
                  <a:pt x="557" y="346"/>
                </a:cubicBezTo>
                <a:cubicBezTo>
                  <a:pt x="565" y="330"/>
                  <a:pt x="568" y="311"/>
                  <a:pt x="581" y="299"/>
                </a:cubicBezTo>
                <a:cubicBezTo>
                  <a:pt x="652" y="229"/>
                  <a:pt x="614" y="322"/>
                  <a:pt x="639" y="240"/>
                </a:cubicBezTo>
                <a:cubicBezTo>
                  <a:pt x="650" y="303"/>
                  <a:pt x="641" y="369"/>
                  <a:pt x="663" y="429"/>
                </a:cubicBezTo>
                <a:cubicBezTo>
                  <a:pt x="667" y="440"/>
                  <a:pt x="686" y="436"/>
                  <a:pt x="698" y="440"/>
                </a:cubicBezTo>
                <a:cubicBezTo>
                  <a:pt x="777" y="431"/>
                  <a:pt x="843" y="426"/>
                  <a:pt x="910" y="382"/>
                </a:cubicBezTo>
                <a:cubicBezTo>
                  <a:pt x="914" y="370"/>
                  <a:pt x="913" y="355"/>
                  <a:pt x="922" y="346"/>
                </a:cubicBezTo>
                <a:cubicBezTo>
                  <a:pt x="985" y="283"/>
                  <a:pt x="936" y="397"/>
                  <a:pt x="969" y="299"/>
                </a:cubicBezTo>
                <a:cubicBezTo>
                  <a:pt x="973" y="327"/>
                  <a:pt x="966" y="358"/>
                  <a:pt x="981" y="382"/>
                </a:cubicBezTo>
                <a:cubicBezTo>
                  <a:pt x="1018" y="441"/>
                  <a:pt x="1040" y="367"/>
                  <a:pt x="1051" y="358"/>
                </a:cubicBezTo>
                <a:cubicBezTo>
                  <a:pt x="1064" y="347"/>
                  <a:pt x="1082" y="343"/>
                  <a:pt x="1098" y="335"/>
                </a:cubicBezTo>
                <a:cubicBezTo>
                  <a:pt x="1163" y="205"/>
                  <a:pt x="1141" y="205"/>
                  <a:pt x="1157" y="358"/>
                </a:cubicBezTo>
                <a:cubicBezTo>
                  <a:pt x="1220" y="327"/>
                  <a:pt x="1233" y="334"/>
                  <a:pt x="1251" y="264"/>
                </a:cubicBezTo>
                <a:cubicBezTo>
                  <a:pt x="1247" y="209"/>
                  <a:pt x="1256" y="152"/>
                  <a:pt x="1239" y="99"/>
                </a:cubicBezTo>
                <a:cubicBezTo>
                  <a:pt x="1234" y="82"/>
                  <a:pt x="1205" y="87"/>
                  <a:pt x="1192" y="76"/>
                </a:cubicBezTo>
                <a:cubicBezTo>
                  <a:pt x="1102" y="0"/>
                  <a:pt x="1249" y="75"/>
                  <a:pt x="1251" y="76"/>
                </a:cubicBezTo>
                <a:cubicBezTo>
                  <a:pt x="1307" y="188"/>
                  <a:pt x="1311" y="224"/>
                  <a:pt x="1334" y="358"/>
                </a:cubicBezTo>
                <a:cubicBezTo>
                  <a:pt x="1372" y="280"/>
                  <a:pt x="1341" y="319"/>
                  <a:pt x="1451" y="264"/>
                </a:cubicBezTo>
                <a:cubicBezTo>
                  <a:pt x="1465" y="257"/>
                  <a:pt x="1482" y="257"/>
                  <a:pt x="1498" y="252"/>
                </a:cubicBezTo>
                <a:cubicBezTo>
                  <a:pt x="1510" y="249"/>
                  <a:pt x="1542" y="231"/>
                  <a:pt x="1533" y="240"/>
                </a:cubicBezTo>
                <a:cubicBezTo>
                  <a:pt x="1521" y="252"/>
                  <a:pt x="1502" y="256"/>
                  <a:pt x="1486" y="264"/>
                </a:cubicBezTo>
                <a:cubicBezTo>
                  <a:pt x="1473" y="319"/>
                  <a:pt x="1456" y="369"/>
                  <a:pt x="1486" y="429"/>
                </a:cubicBezTo>
                <a:cubicBezTo>
                  <a:pt x="1492" y="442"/>
                  <a:pt x="1509" y="412"/>
                  <a:pt x="1522" y="405"/>
                </a:cubicBezTo>
                <a:cubicBezTo>
                  <a:pt x="1549" y="392"/>
                  <a:pt x="1577" y="383"/>
                  <a:pt x="1604" y="370"/>
                </a:cubicBezTo>
                <a:cubicBezTo>
                  <a:pt x="1612" y="358"/>
                  <a:pt x="1617" y="344"/>
                  <a:pt x="1628" y="335"/>
                </a:cubicBezTo>
                <a:cubicBezTo>
                  <a:pt x="1702" y="276"/>
                  <a:pt x="1667" y="427"/>
                  <a:pt x="1675" y="452"/>
                </a:cubicBezTo>
                <a:cubicBezTo>
                  <a:pt x="1679" y="466"/>
                  <a:pt x="1698" y="468"/>
                  <a:pt x="1710" y="476"/>
                </a:cubicBezTo>
                <a:cubicBezTo>
                  <a:pt x="1718" y="492"/>
                  <a:pt x="1716" y="519"/>
                  <a:pt x="1733" y="523"/>
                </a:cubicBezTo>
                <a:cubicBezTo>
                  <a:pt x="1751" y="528"/>
                  <a:pt x="1764" y="457"/>
                  <a:pt x="1769" y="452"/>
                </a:cubicBezTo>
                <a:cubicBezTo>
                  <a:pt x="1785" y="436"/>
                  <a:pt x="1875" y="393"/>
                  <a:pt x="1898" y="382"/>
                </a:cubicBezTo>
                <a:cubicBezTo>
                  <a:pt x="1906" y="398"/>
                  <a:pt x="1916" y="413"/>
                  <a:pt x="1922" y="429"/>
                </a:cubicBezTo>
                <a:cubicBezTo>
                  <a:pt x="1923" y="432"/>
                  <a:pt x="1937" y="503"/>
                  <a:pt x="1945" y="511"/>
                </a:cubicBezTo>
                <a:cubicBezTo>
                  <a:pt x="1954" y="520"/>
                  <a:pt x="1968" y="519"/>
                  <a:pt x="1980" y="523"/>
                </a:cubicBezTo>
                <a:cubicBezTo>
                  <a:pt x="2087" y="496"/>
                  <a:pt x="2044" y="509"/>
                  <a:pt x="2110" y="488"/>
                </a:cubicBezTo>
                <a:cubicBezTo>
                  <a:pt x="2149" y="500"/>
                  <a:pt x="2157" y="492"/>
                  <a:pt x="2157" y="546"/>
                </a:cubicBezTo>
                <a:cubicBezTo>
                  <a:pt x="2157" y="628"/>
                  <a:pt x="2228" y="919"/>
                  <a:pt x="2098" y="1005"/>
                </a:cubicBezTo>
                <a:cubicBezTo>
                  <a:pt x="2094" y="1017"/>
                  <a:pt x="2099" y="1042"/>
                  <a:pt x="2086" y="1041"/>
                </a:cubicBezTo>
                <a:cubicBezTo>
                  <a:pt x="2039" y="1036"/>
                  <a:pt x="2002" y="996"/>
                  <a:pt x="1957" y="982"/>
                </a:cubicBezTo>
                <a:cubicBezTo>
                  <a:pt x="1905" y="946"/>
                  <a:pt x="1850" y="945"/>
                  <a:pt x="1792" y="923"/>
                </a:cubicBezTo>
                <a:cubicBezTo>
                  <a:pt x="1776" y="917"/>
                  <a:pt x="1761" y="905"/>
                  <a:pt x="1745" y="899"/>
                </a:cubicBezTo>
                <a:cubicBezTo>
                  <a:pt x="1686" y="877"/>
                  <a:pt x="1627" y="869"/>
                  <a:pt x="1569" y="841"/>
                </a:cubicBezTo>
                <a:cubicBezTo>
                  <a:pt x="1478" y="705"/>
                  <a:pt x="1207" y="750"/>
                  <a:pt x="1098" y="746"/>
                </a:cubicBezTo>
                <a:cubicBezTo>
                  <a:pt x="1047" y="738"/>
                  <a:pt x="995" y="734"/>
                  <a:pt x="945" y="723"/>
                </a:cubicBezTo>
                <a:cubicBezTo>
                  <a:pt x="827" y="698"/>
                  <a:pt x="919" y="706"/>
                  <a:pt x="828" y="676"/>
                </a:cubicBezTo>
                <a:cubicBezTo>
                  <a:pt x="741" y="647"/>
                  <a:pt x="661" y="626"/>
                  <a:pt x="569" y="617"/>
                </a:cubicBezTo>
                <a:cubicBezTo>
                  <a:pt x="402" y="532"/>
                  <a:pt x="194" y="546"/>
                  <a:pt x="16" y="535"/>
                </a:cubicBezTo>
                <a:cubicBezTo>
                  <a:pt x="29" y="411"/>
                  <a:pt x="0" y="389"/>
                  <a:pt x="40" y="42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228600" y="4572000"/>
            <a:ext cx="9677520" cy="266688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81600">
            <a:off x="-228240" y="4038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" action="ppaction://hlinkshowjump?jump=previousslide"/>
          </p:cNvPr>
          <p:cNvSpPr/>
          <p:nvPr/>
        </p:nvSpPr>
        <p:spPr>
          <a:xfrm>
            <a:off x="1981080" y="20113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380988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8610480" y="650700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1497400">
            <a:off x="-304560" y="5562720"/>
            <a:ext cx="9856800" cy="167616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firstslide"/>
          </p:cNvPr>
          <p:cNvSpPr/>
          <p:nvPr/>
        </p:nvSpPr>
        <p:spPr>
          <a:xfrm>
            <a:off x="4495680" y="643104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215880" y="2209680"/>
            <a:ext cx="1392480" cy="1260360"/>
            <a:chOff x="3215880" y="2209680"/>
            <a:chExt cx="1392480" cy="1260360"/>
          </a:xfrm>
        </p:grpSpPr>
        <p:sp>
          <p:nvSpPr>
            <p:cNvPr id="727" name=""/>
            <p:cNvSpPr/>
            <p:nvPr/>
          </p:nvSpPr>
          <p:spPr>
            <a:xfrm flipH="1" rot="1183800">
              <a:off x="3277080" y="2627280"/>
              <a:ext cx="686880" cy="48240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5353800">
              <a:off x="3455280" y="2881800"/>
              <a:ext cx="687240" cy="48240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rot="909600">
              <a:off x="4061160" y="2246040"/>
              <a:ext cx="131400" cy="507600"/>
            </a:xfrm>
            <a:custGeom>
              <a:avLst/>
              <a:gdLst/>
              <a:ahLst/>
              <a:rect l="l" t="t" r="r" b="b"/>
              <a:pathLst>
                <a:path w="83" h="320">
                  <a:moveTo>
                    <a:pt x="83" y="320"/>
                  </a:moveTo>
                  <a:cubicBezTo>
                    <a:pt x="71" y="263"/>
                    <a:pt x="54" y="210"/>
                    <a:pt x="36" y="155"/>
                  </a:cubicBezTo>
                  <a:cubicBezTo>
                    <a:pt x="28" y="132"/>
                    <a:pt x="20" y="108"/>
                    <a:pt x="12" y="85"/>
                  </a:cubicBezTo>
                  <a:cubicBezTo>
                    <a:pt x="8" y="73"/>
                    <a:pt x="0" y="49"/>
                    <a:pt x="0" y="49"/>
                  </a:cubicBezTo>
                  <a:cubicBezTo>
                    <a:pt x="4" y="37"/>
                    <a:pt x="1" y="19"/>
                    <a:pt x="12" y="14"/>
                  </a:cubicBezTo>
                  <a:cubicBezTo>
                    <a:pt x="40" y="0"/>
                    <a:pt x="64" y="50"/>
                    <a:pt x="71" y="61"/>
                  </a:cubicBezTo>
                  <a:cubicBezTo>
                    <a:pt x="56" y="119"/>
                    <a:pt x="70" y="96"/>
                    <a:pt x="36" y="132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028040" y="2398680"/>
              <a:ext cx="393120" cy="392040"/>
            </a:xfrm>
            <a:custGeom>
              <a:avLst/>
              <a:gdLst/>
              <a:ahLst/>
              <a:rect l="l" t="t" r="r" b="b"/>
              <a:pathLst>
                <a:path w="231" h="241">
                  <a:moveTo>
                    <a:pt x="218" y="224"/>
                  </a:moveTo>
                  <a:cubicBezTo>
                    <a:pt x="191" y="137"/>
                    <a:pt x="231" y="241"/>
                    <a:pt x="171" y="165"/>
                  </a:cubicBezTo>
                  <a:cubicBezTo>
                    <a:pt x="125" y="108"/>
                    <a:pt x="204" y="145"/>
                    <a:pt x="124" y="118"/>
                  </a:cubicBezTo>
                  <a:cubicBezTo>
                    <a:pt x="104" y="59"/>
                    <a:pt x="107" y="22"/>
                    <a:pt x="42" y="0"/>
                  </a:cubicBezTo>
                  <a:cubicBezTo>
                    <a:pt x="30" y="4"/>
                    <a:pt x="11" y="0"/>
                    <a:pt x="7" y="12"/>
                  </a:cubicBezTo>
                  <a:cubicBezTo>
                    <a:pt x="1" y="31"/>
                    <a:pt x="0" y="62"/>
                    <a:pt x="18" y="71"/>
                  </a:cubicBezTo>
                  <a:cubicBezTo>
                    <a:pt x="43" y="84"/>
                    <a:pt x="101" y="59"/>
                    <a:pt x="101" y="59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495600" y="2209680"/>
              <a:ext cx="577800" cy="55404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 rot="15754800">
              <a:off x="4007520" y="2639160"/>
              <a:ext cx="577800" cy="55368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 rot="20836200">
            <a:off x="0" y="3657240"/>
            <a:ext cx="179244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3809880"/>
            <a:ext cx="773460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596200" y="-228600"/>
            <a:ext cx="3553920" cy="5605200"/>
            <a:chOff x="5596200" y="-228600"/>
            <a:chExt cx="3553920" cy="5605200"/>
          </a:xfrm>
        </p:grpSpPr>
        <p:sp>
          <p:nvSpPr>
            <p:cNvPr id="736" name=""/>
            <p:cNvSpPr/>
            <p:nvPr/>
          </p:nvSpPr>
          <p:spPr>
            <a:xfrm>
              <a:off x="7196040" y="1651320"/>
              <a:ext cx="685800" cy="1107000"/>
            </a:xfrm>
            <a:custGeom>
              <a:avLst/>
              <a:gdLst/>
              <a:ahLst/>
              <a:rect l="l" t="t" r="r" b="b"/>
              <a:pathLst>
                <a:path w="356" h="669">
                  <a:moveTo>
                    <a:pt x="285" y="643"/>
                  </a:moveTo>
                  <a:cubicBezTo>
                    <a:pt x="356" y="531"/>
                    <a:pt x="297" y="639"/>
                    <a:pt x="297" y="348"/>
                  </a:cubicBezTo>
                  <a:cubicBezTo>
                    <a:pt x="297" y="237"/>
                    <a:pt x="300" y="172"/>
                    <a:pt x="332" y="78"/>
                  </a:cubicBezTo>
                  <a:cubicBezTo>
                    <a:pt x="328" y="58"/>
                    <a:pt x="339" y="25"/>
                    <a:pt x="320" y="19"/>
                  </a:cubicBezTo>
                  <a:cubicBezTo>
                    <a:pt x="262" y="0"/>
                    <a:pt x="118" y="40"/>
                    <a:pt x="61" y="78"/>
                  </a:cubicBezTo>
                  <a:cubicBezTo>
                    <a:pt x="4" y="253"/>
                    <a:pt x="37" y="123"/>
                    <a:pt x="50" y="478"/>
                  </a:cubicBezTo>
                  <a:cubicBezTo>
                    <a:pt x="42" y="561"/>
                    <a:pt x="0" y="669"/>
                    <a:pt x="108" y="595"/>
                  </a:cubicBezTo>
                  <a:cubicBezTo>
                    <a:pt x="127" y="540"/>
                    <a:pt x="113" y="557"/>
                    <a:pt x="132" y="595"/>
                  </a:cubicBezTo>
                  <a:cubicBezTo>
                    <a:pt x="138" y="608"/>
                    <a:pt x="147" y="619"/>
                    <a:pt x="155" y="631"/>
                  </a:cubicBezTo>
                  <a:cubicBezTo>
                    <a:pt x="182" y="552"/>
                    <a:pt x="170" y="531"/>
                    <a:pt x="202" y="607"/>
                  </a:cubicBezTo>
                  <a:cubicBezTo>
                    <a:pt x="207" y="619"/>
                    <a:pt x="210" y="631"/>
                    <a:pt x="214" y="643"/>
                  </a:cubicBezTo>
                  <a:cubicBezTo>
                    <a:pt x="233" y="510"/>
                    <a:pt x="218" y="564"/>
                    <a:pt x="261" y="631"/>
                  </a:cubicBezTo>
                  <a:cubicBezTo>
                    <a:pt x="265" y="619"/>
                    <a:pt x="260" y="595"/>
                    <a:pt x="273" y="595"/>
                  </a:cubicBezTo>
                  <a:cubicBezTo>
                    <a:pt x="341" y="595"/>
                    <a:pt x="291" y="637"/>
                    <a:pt x="285" y="643"/>
                  </a:cubicBez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53120" y="-228600"/>
              <a:ext cx="2097000" cy="5605200"/>
            </a:xfrm>
            <a:custGeom>
              <a:avLst/>
              <a:gdLst/>
              <a:ahLst/>
              <a:rect l="l" t="t" r="r" b="b"/>
              <a:pathLst>
                <a:path w="1321" h="3291">
                  <a:moveTo>
                    <a:pt x="39" y="2891"/>
                  </a:moveTo>
                  <a:cubicBezTo>
                    <a:pt x="200" y="2836"/>
                    <a:pt x="0" y="2860"/>
                    <a:pt x="333" y="2844"/>
                  </a:cubicBezTo>
                  <a:cubicBezTo>
                    <a:pt x="360" y="2840"/>
                    <a:pt x="390" y="2844"/>
                    <a:pt x="415" y="2832"/>
                  </a:cubicBezTo>
                  <a:cubicBezTo>
                    <a:pt x="426" y="2826"/>
                    <a:pt x="418" y="2806"/>
                    <a:pt x="427" y="2797"/>
                  </a:cubicBezTo>
                  <a:cubicBezTo>
                    <a:pt x="436" y="2788"/>
                    <a:pt x="451" y="2789"/>
                    <a:pt x="463" y="2785"/>
                  </a:cubicBezTo>
                  <a:cubicBezTo>
                    <a:pt x="490" y="2702"/>
                    <a:pt x="478" y="2738"/>
                    <a:pt x="498" y="2679"/>
                  </a:cubicBezTo>
                  <a:cubicBezTo>
                    <a:pt x="502" y="2667"/>
                    <a:pt x="510" y="2644"/>
                    <a:pt x="510" y="2644"/>
                  </a:cubicBezTo>
                  <a:cubicBezTo>
                    <a:pt x="500" y="2299"/>
                    <a:pt x="487" y="2151"/>
                    <a:pt x="498" y="1808"/>
                  </a:cubicBezTo>
                  <a:cubicBezTo>
                    <a:pt x="489" y="1639"/>
                    <a:pt x="467" y="1458"/>
                    <a:pt x="510" y="1291"/>
                  </a:cubicBezTo>
                  <a:cubicBezTo>
                    <a:pt x="496" y="562"/>
                    <a:pt x="551" y="870"/>
                    <a:pt x="474" y="561"/>
                  </a:cubicBezTo>
                  <a:cubicBezTo>
                    <a:pt x="449" y="462"/>
                    <a:pt x="481" y="561"/>
                    <a:pt x="439" y="479"/>
                  </a:cubicBezTo>
                  <a:cubicBezTo>
                    <a:pt x="412" y="426"/>
                    <a:pt x="407" y="360"/>
                    <a:pt x="392" y="302"/>
                  </a:cubicBezTo>
                  <a:cubicBezTo>
                    <a:pt x="381" y="259"/>
                    <a:pt x="298" y="208"/>
                    <a:pt x="298" y="208"/>
                  </a:cubicBezTo>
                  <a:cubicBezTo>
                    <a:pt x="279" y="153"/>
                    <a:pt x="290" y="137"/>
                    <a:pt x="239" y="102"/>
                  </a:cubicBezTo>
                  <a:cubicBezTo>
                    <a:pt x="204" y="0"/>
                    <a:pt x="476" y="67"/>
                    <a:pt x="486" y="67"/>
                  </a:cubicBezTo>
                  <a:cubicBezTo>
                    <a:pt x="690" y="73"/>
                    <a:pt x="894" y="75"/>
                    <a:pt x="1098" y="79"/>
                  </a:cubicBezTo>
                  <a:cubicBezTo>
                    <a:pt x="1087" y="155"/>
                    <a:pt x="1068" y="227"/>
                    <a:pt x="1051" y="302"/>
                  </a:cubicBezTo>
                  <a:cubicBezTo>
                    <a:pt x="1043" y="659"/>
                    <a:pt x="1054" y="766"/>
                    <a:pt x="1004" y="1032"/>
                  </a:cubicBezTo>
                  <a:cubicBezTo>
                    <a:pt x="1011" y="1284"/>
                    <a:pt x="1013" y="1513"/>
                    <a:pt x="992" y="1761"/>
                  </a:cubicBezTo>
                  <a:cubicBezTo>
                    <a:pt x="986" y="1992"/>
                    <a:pt x="1010" y="2135"/>
                    <a:pt x="945" y="2326"/>
                  </a:cubicBezTo>
                  <a:cubicBezTo>
                    <a:pt x="941" y="2459"/>
                    <a:pt x="940" y="2593"/>
                    <a:pt x="933" y="2726"/>
                  </a:cubicBezTo>
                  <a:cubicBezTo>
                    <a:pt x="925" y="2891"/>
                    <a:pt x="901" y="2955"/>
                    <a:pt x="1051" y="3032"/>
                  </a:cubicBezTo>
                  <a:cubicBezTo>
                    <a:pt x="1116" y="3130"/>
                    <a:pt x="1029" y="3015"/>
                    <a:pt x="1110" y="3079"/>
                  </a:cubicBezTo>
                  <a:cubicBezTo>
                    <a:pt x="1222" y="3168"/>
                    <a:pt x="1047" y="3071"/>
                    <a:pt x="1168" y="3126"/>
                  </a:cubicBezTo>
                  <a:cubicBezTo>
                    <a:pt x="1200" y="3141"/>
                    <a:pt x="1262" y="3173"/>
                    <a:pt x="1262" y="3173"/>
                  </a:cubicBezTo>
                  <a:cubicBezTo>
                    <a:pt x="1295" y="3268"/>
                    <a:pt x="1246" y="3155"/>
                    <a:pt x="1309" y="3220"/>
                  </a:cubicBezTo>
                  <a:cubicBezTo>
                    <a:pt x="1318" y="3229"/>
                    <a:pt x="1317" y="3244"/>
                    <a:pt x="1321" y="3256"/>
                  </a:cubicBezTo>
                  <a:cubicBezTo>
                    <a:pt x="1284" y="3281"/>
                    <a:pt x="1287" y="3291"/>
                    <a:pt x="1239" y="3267"/>
                  </a:cubicBezTo>
                  <a:cubicBezTo>
                    <a:pt x="1198" y="3247"/>
                    <a:pt x="1149" y="3190"/>
                    <a:pt x="1098" y="3185"/>
                  </a:cubicBezTo>
                  <a:cubicBezTo>
                    <a:pt x="1028" y="3178"/>
                    <a:pt x="957" y="3177"/>
                    <a:pt x="886" y="3173"/>
                  </a:cubicBezTo>
                  <a:cubicBezTo>
                    <a:pt x="866" y="3166"/>
                    <a:pt x="817" y="3151"/>
                    <a:pt x="804" y="3138"/>
                  </a:cubicBezTo>
                  <a:cubicBezTo>
                    <a:pt x="730" y="3065"/>
                    <a:pt x="828" y="3107"/>
                    <a:pt x="745" y="3079"/>
                  </a:cubicBezTo>
                  <a:cubicBezTo>
                    <a:pt x="703" y="3017"/>
                    <a:pt x="735" y="3047"/>
                    <a:pt x="627" y="3020"/>
                  </a:cubicBezTo>
                  <a:lnTo>
                    <a:pt x="486" y="2973"/>
                  </a:lnTo>
                  <a:cubicBezTo>
                    <a:pt x="486" y="2973"/>
                    <a:pt x="486" y="2973"/>
                    <a:pt x="486" y="2973"/>
                  </a:cubicBezTo>
                  <a:cubicBezTo>
                    <a:pt x="361" y="2955"/>
                    <a:pt x="236" y="2938"/>
                    <a:pt x="110" y="2926"/>
                  </a:cubicBezTo>
                  <a:cubicBezTo>
                    <a:pt x="35" y="2902"/>
                    <a:pt x="39" y="2928"/>
                    <a:pt x="39" y="2891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596200" y="993960"/>
              <a:ext cx="2377800" cy="1063800"/>
              <a:chOff x="5596200" y="993960"/>
              <a:chExt cx="2377800" cy="10638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5595840" y="993960"/>
                <a:ext cx="2377800" cy="719640"/>
              </a:xfrm>
              <a:custGeom>
                <a:avLst/>
                <a:gdLst/>
                <a:ahLst/>
                <a:rect l="l" t="t" r="r" b="b"/>
                <a:pathLst>
                  <a:path w="1498" h="435">
                    <a:moveTo>
                      <a:pt x="28" y="282"/>
                    </a:moveTo>
                    <a:cubicBezTo>
                      <a:pt x="174" y="261"/>
                      <a:pt x="317" y="229"/>
                      <a:pt x="463" y="212"/>
                    </a:cubicBezTo>
                    <a:cubicBezTo>
                      <a:pt x="596" y="178"/>
                      <a:pt x="726" y="165"/>
                      <a:pt x="863" y="153"/>
                    </a:cubicBezTo>
                    <a:cubicBezTo>
                      <a:pt x="1005" y="117"/>
                      <a:pt x="1141" y="60"/>
                      <a:pt x="1287" y="35"/>
                    </a:cubicBezTo>
                    <a:cubicBezTo>
                      <a:pt x="1334" y="27"/>
                      <a:pt x="1381" y="19"/>
                      <a:pt x="1428" y="11"/>
                    </a:cubicBezTo>
                    <a:cubicBezTo>
                      <a:pt x="1451" y="7"/>
                      <a:pt x="1498" y="0"/>
                      <a:pt x="1498" y="0"/>
                    </a:cubicBezTo>
                    <a:cubicBezTo>
                      <a:pt x="1455" y="21"/>
                      <a:pt x="1412" y="29"/>
                      <a:pt x="1369" y="47"/>
                    </a:cubicBezTo>
                    <a:cubicBezTo>
                      <a:pt x="1293" y="80"/>
                      <a:pt x="1220" y="120"/>
                      <a:pt x="1145" y="153"/>
                    </a:cubicBezTo>
                    <a:cubicBezTo>
                      <a:pt x="1050" y="195"/>
                      <a:pt x="940" y="211"/>
                      <a:pt x="840" y="235"/>
                    </a:cubicBezTo>
                    <a:cubicBezTo>
                      <a:pt x="643" y="282"/>
                      <a:pt x="454" y="313"/>
                      <a:pt x="251" y="329"/>
                    </a:cubicBezTo>
                    <a:cubicBezTo>
                      <a:pt x="203" y="339"/>
                      <a:pt x="158" y="353"/>
                      <a:pt x="110" y="364"/>
                    </a:cubicBezTo>
                    <a:cubicBezTo>
                      <a:pt x="87" y="380"/>
                      <a:pt x="63" y="396"/>
                      <a:pt x="40" y="412"/>
                    </a:cubicBezTo>
                    <a:cubicBezTo>
                      <a:pt x="30" y="419"/>
                      <a:pt x="5" y="435"/>
                      <a:pt x="4" y="423"/>
                    </a:cubicBezTo>
                    <a:cubicBezTo>
                      <a:pt x="0" y="376"/>
                      <a:pt x="20" y="329"/>
                      <a:pt x="28" y="282"/>
                    </a:cubicBez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5713560" y="993960"/>
                <a:ext cx="1693800" cy="485640"/>
                <a:chOff x="5713560" y="993960"/>
                <a:chExt cx="1693800" cy="485640"/>
              </a:xfrm>
            </p:grpSpPr>
            <p:sp>
              <p:nvSpPr>
                <p:cNvPr id="741" name=""/>
                <p:cNvSpPr/>
                <p:nvPr/>
              </p:nvSpPr>
              <p:spPr>
                <a:xfrm flipH="1">
                  <a:off x="6752880" y="993960"/>
                  <a:ext cx="654120" cy="368640"/>
                </a:xfrm>
                <a:custGeom>
                  <a:avLst/>
                  <a:gdLst/>
                  <a:ahLst/>
                  <a:rect l="l" t="t" r="r" b="b"/>
                  <a:pathLst>
                    <a:path w="412" h="223">
                      <a:moveTo>
                        <a:pt x="0" y="223"/>
                      </a:moveTo>
                      <a:cubicBezTo>
                        <a:pt x="25" y="215"/>
                        <a:pt x="53" y="211"/>
                        <a:pt x="71" y="188"/>
                      </a:cubicBezTo>
                      <a:cubicBezTo>
                        <a:pt x="79" y="178"/>
                        <a:pt x="74" y="162"/>
                        <a:pt x="83" y="153"/>
                      </a:cubicBezTo>
                      <a:cubicBezTo>
                        <a:pt x="83" y="153"/>
                        <a:pt x="199" y="112"/>
                        <a:pt x="212" y="106"/>
                      </a:cubicBezTo>
                      <a:cubicBezTo>
                        <a:pt x="271" y="17"/>
                        <a:pt x="186" y="130"/>
                        <a:pt x="306" y="47"/>
                      </a:cubicBezTo>
                      <a:cubicBezTo>
                        <a:pt x="318" y="39"/>
                        <a:pt x="328" y="29"/>
                        <a:pt x="341" y="23"/>
                      </a:cubicBezTo>
                      <a:cubicBezTo>
                        <a:pt x="364" y="13"/>
                        <a:pt x="412" y="0"/>
                        <a:pt x="412" y="0"/>
                      </a:cubicBezTo>
                      <a:cubicBezTo>
                        <a:pt x="345" y="44"/>
                        <a:pt x="277" y="93"/>
                        <a:pt x="200" y="117"/>
                      </a:cubicBezTo>
                      <a:cubicBezTo>
                        <a:pt x="140" y="210"/>
                        <a:pt x="217" y="101"/>
                        <a:pt x="142" y="176"/>
                      </a:cubicBezTo>
                      <a:cubicBezTo>
                        <a:pt x="132" y="186"/>
                        <a:pt x="118" y="212"/>
                        <a:pt x="118" y="212"/>
                      </a:cubicBezTo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5713200" y="1400400"/>
                  <a:ext cx="1376280" cy="79200"/>
                </a:xfrm>
                <a:custGeom>
                  <a:avLst/>
                  <a:gdLst/>
                  <a:ahLst/>
                  <a:rect l="l" t="t" r="r" b="b"/>
                  <a:pathLst>
                    <a:path w="867" h="48">
                      <a:moveTo>
                        <a:pt x="294" y="1"/>
                      </a:moveTo>
                      <a:cubicBezTo>
                        <a:pt x="867" y="19"/>
                        <a:pt x="730" y="0"/>
                        <a:pt x="541" y="48"/>
                      </a:cubicBezTo>
                      <a:cubicBezTo>
                        <a:pt x="427" y="40"/>
                        <a:pt x="312" y="1"/>
                        <a:pt x="200" y="24"/>
                      </a:cubicBezTo>
                      <a:cubicBezTo>
                        <a:pt x="120" y="40"/>
                        <a:pt x="89" y="48"/>
                        <a:pt x="0" y="48"/>
                      </a:cubicBezTo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 flipH="1">
                <a:off x="6596280" y="1500120"/>
                <a:ext cx="1254240" cy="557640"/>
              </a:xfrm>
              <a:custGeom>
                <a:avLst/>
                <a:gdLst/>
                <a:ahLst/>
                <a:rect l="l" t="t" r="r" b="b"/>
                <a:pathLst>
                  <a:path w="790" h="337">
                    <a:moveTo>
                      <a:pt x="21" y="106"/>
                    </a:moveTo>
                    <a:cubicBezTo>
                      <a:pt x="112" y="115"/>
                      <a:pt x="139" y="119"/>
                      <a:pt x="209" y="164"/>
                    </a:cubicBezTo>
                    <a:cubicBezTo>
                      <a:pt x="217" y="180"/>
                      <a:pt x="220" y="199"/>
                      <a:pt x="232" y="211"/>
                    </a:cubicBezTo>
                    <a:cubicBezTo>
                      <a:pt x="299" y="278"/>
                      <a:pt x="418" y="300"/>
                      <a:pt x="503" y="329"/>
                    </a:cubicBezTo>
                    <a:cubicBezTo>
                      <a:pt x="558" y="323"/>
                      <a:pt x="622" y="337"/>
                      <a:pt x="668" y="306"/>
                    </a:cubicBezTo>
                    <a:cubicBezTo>
                      <a:pt x="680" y="298"/>
                      <a:pt x="680" y="279"/>
                      <a:pt x="691" y="270"/>
                    </a:cubicBezTo>
                    <a:cubicBezTo>
                      <a:pt x="712" y="251"/>
                      <a:pt x="790" y="216"/>
                      <a:pt x="762" y="223"/>
                    </a:cubicBezTo>
                    <a:cubicBezTo>
                      <a:pt x="713" y="236"/>
                      <a:pt x="677" y="243"/>
                      <a:pt x="632" y="258"/>
                    </a:cubicBezTo>
                    <a:cubicBezTo>
                      <a:pt x="609" y="266"/>
                      <a:pt x="562" y="282"/>
                      <a:pt x="562" y="282"/>
                    </a:cubicBezTo>
                    <a:cubicBezTo>
                      <a:pt x="520" y="268"/>
                      <a:pt x="470" y="280"/>
                      <a:pt x="432" y="258"/>
                    </a:cubicBezTo>
                    <a:cubicBezTo>
                      <a:pt x="408" y="244"/>
                      <a:pt x="412" y="195"/>
                      <a:pt x="385" y="188"/>
                    </a:cubicBezTo>
                    <a:cubicBezTo>
                      <a:pt x="369" y="184"/>
                      <a:pt x="354" y="180"/>
                      <a:pt x="338" y="176"/>
                    </a:cubicBezTo>
                    <a:cubicBezTo>
                      <a:pt x="306" y="83"/>
                      <a:pt x="354" y="192"/>
                      <a:pt x="291" y="129"/>
                    </a:cubicBezTo>
                    <a:cubicBezTo>
                      <a:pt x="228" y="66"/>
                      <a:pt x="337" y="114"/>
                      <a:pt x="244" y="82"/>
                    </a:cubicBezTo>
                    <a:cubicBezTo>
                      <a:pt x="236" y="70"/>
                      <a:pt x="232" y="56"/>
                      <a:pt x="221" y="47"/>
                    </a:cubicBezTo>
                    <a:cubicBezTo>
                      <a:pt x="200" y="28"/>
                      <a:pt x="150" y="0"/>
                      <a:pt x="150" y="0"/>
                    </a:cubicBezTo>
                    <a:cubicBezTo>
                      <a:pt x="141" y="3"/>
                      <a:pt x="0" y="42"/>
                      <a:pt x="9" y="70"/>
                    </a:cubicBezTo>
                    <a:cubicBezTo>
                      <a:pt x="13" y="82"/>
                      <a:pt x="17" y="94"/>
                      <a:pt x="21" y="106"/>
                    </a:cubicBez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7500960" y="1757160"/>
              <a:ext cx="279360" cy="100800"/>
            </a:xfrm>
            <a:custGeom>
              <a:avLst/>
              <a:gdLst/>
              <a:ahLst/>
              <a:rect l="l" t="t" r="r" b="b"/>
              <a:pathLst>
                <a:path w="164" h="12">
                  <a:moveTo>
                    <a:pt x="0" y="0"/>
                  </a:moveTo>
                  <a:cubicBezTo>
                    <a:pt x="157" y="12"/>
                    <a:pt x="102" y="12"/>
                    <a:pt x="164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4040" y="1969200"/>
              <a:ext cx="509400" cy="42480"/>
            </a:xfrm>
            <a:custGeom>
              <a:avLst/>
              <a:gdLst/>
              <a:ahLst/>
              <a:rect l="l" t="t" r="r" b="b"/>
              <a:pathLst>
                <a:path w="188" h="23">
                  <a:moveTo>
                    <a:pt x="0" y="0"/>
                  </a:moveTo>
                  <a:cubicBezTo>
                    <a:pt x="62" y="16"/>
                    <a:pt x="123" y="23"/>
                    <a:pt x="188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72360" y="2075040"/>
              <a:ext cx="533160" cy="79560"/>
            </a:xfrm>
            <a:custGeom>
              <a:avLst/>
              <a:gdLst/>
              <a:ahLst/>
              <a:rect l="l" t="t" r="r" b="b"/>
              <a:pathLst>
                <a:path w="200" h="47">
                  <a:moveTo>
                    <a:pt x="0" y="0"/>
                  </a:moveTo>
                  <a:cubicBezTo>
                    <a:pt x="68" y="22"/>
                    <a:pt x="127" y="47"/>
                    <a:pt x="200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72360" y="2207520"/>
              <a:ext cx="533160" cy="105840"/>
            </a:xfrm>
            <a:custGeom>
              <a:avLst/>
              <a:gdLst/>
              <a:ahLst/>
              <a:rect l="l" t="t" r="r" b="b"/>
              <a:pathLst>
                <a:path w="247" h="59">
                  <a:moveTo>
                    <a:pt x="0" y="0"/>
                  </a:moveTo>
                  <a:cubicBezTo>
                    <a:pt x="54" y="19"/>
                    <a:pt x="110" y="20"/>
                    <a:pt x="165" y="35"/>
                  </a:cubicBezTo>
                  <a:cubicBezTo>
                    <a:pt x="181" y="39"/>
                    <a:pt x="196" y="42"/>
                    <a:pt x="212" y="47"/>
                  </a:cubicBezTo>
                  <a:cubicBezTo>
                    <a:pt x="224" y="50"/>
                    <a:pt x="247" y="59"/>
                    <a:pt x="247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04040" y="2318040"/>
              <a:ext cx="485640" cy="185400"/>
            </a:xfrm>
            <a:custGeom>
              <a:avLst/>
              <a:gdLst/>
              <a:ahLst/>
              <a:rect l="l" t="t" r="r" b="b"/>
              <a:pathLst>
                <a:path w="235" h="71">
                  <a:moveTo>
                    <a:pt x="0" y="0"/>
                  </a:moveTo>
                  <a:cubicBezTo>
                    <a:pt x="87" y="22"/>
                    <a:pt x="144" y="71"/>
                    <a:pt x="235" y="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470280" y="1303920"/>
              <a:ext cx="945000" cy="930960"/>
              <a:chOff x="6470280" y="1303920"/>
              <a:chExt cx="945000" cy="930960"/>
            </a:xfrm>
          </p:grpSpPr>
          <p:sp>
            <p:nvSpPr>
              <p:cNvPr id="750" name=""/>
              <p:cNvSpPr/>
              <p:nvPr/>
            </p:nvSpPr>
            <p:spPr>
              <a:xfrm rot="2451600">
                <a:off x="6651000" y="1390680"/>
                <a:ext cx="547560" cy="757440"/>
              </a:xfrm>
              <a:custGeom>
                <a:avLst/>
                <a:gdLst/>
                <a:ahLst/>
                <a:rect l="l" t="t" r="r" b="b"/>
                <a:pathLst>
                  <a:path w="345" h="458">
                    <a:moveTo>
                      <a:pt x="306" y="0"/>
                    </a:moveTo>
                    <a:cubicBezTo>
                      <a:pt x="287" y="56"/>
                      <a:pt x="268" y="45"/>
                      <a:pt x="212" y="59"/>
                    </a:cubicBezTo>
                    <a:cubicBezTo>
                      <a:pt x="200" y="67"/>
                      <a:pt x="189" y="76"/>
                      <a:pt x="176" y="82"/>
                    </a:cubicBezTo>
                    <a:cubicBezTo>
                      <a:pt x="165" y="87"/>
                      <a:pt x="151" y="86"/>
                      <a:pt x="141" y="94"/>
                    </a:cubicBezTo>
                    <a:cubicBezTo>
                      <a:pt x="130" y="103"/>
                      <a:pt x="128" y="119"/>
                      <a:pt x="118" y="129"/>
                    </a:cubicBezTo>
                    <a:cubicBezTo>
                      <a:pt x="108" y="139"/>
                      <a:pt x="94" y="145"/>
                      <a:pt x="82" y="153"/>
                    </a:cubicBezTo>
                    <a:cubicBezTo>
                      <a:pt x="51" y="246"/>
                      <a:pt x="32" y="342"/>
                      <a:pt x="0" y="435"/>
                    </a:cubicBezTo>
                    <a:cubicBezTo>
                      <a:pt x="66" y="458"/>
                      <a:pt x="145" y="417"/>
                      <a:pt x="212" y="400"/>
                    </a:cubicBezTo>
                    <a:cubicBezTo>
                      <a:pt x="345" y="309"/>
                      <a:pt x="306" y="143"/>
                      <a:pt x="306" y="0"/>
                    </a:cubicBez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451600">
                <a:off x="6863040" y="1434600"/>
                <a:ext cx="411120" cy="583920"/>
              </a:xfrm>
              <a:custGeom>
                <a:avLst/>
                <a:gdLst/>
                <a:ahLst/>
                <a:rect l="l" t="t" r="r" b="b"/>
                <a:pathLst>
                  <a:path w="259" h="353">
                    <a:moveTo>
                      <a:pt x="259" y="0"/>
                    </a:moveTo>
                    <a:cubicBezTo>
                      <a:pt x="235" y="16"/>
                      <a:pt x="212" y="31"/>
                      <a:pt x="188" y="47"/>
                    </a:cubicBezTo>
                    <a:cubicBezTo>
                      <a:pt x="167" y="61"/>
                      <a:pt x="173" y="94"/>
                      <a:pt x="165" y="118"/>
                    </a:cubicBezTo>
                    <a:cubicBezTo>
                      <a:pt x="153" y="153"/>
                      <a:pt x="141" y="188"/>
                      <a:pt x="129" y="224"/>
                    </a:cubicBezTo>
                    <a:cubicBezTo>
                      <a:pt x="125" y="236"/>
                      <a:pt x="128" y="252"/>
                      <a:pt x="118" y="259"/>
                    </a:cubicBezTo>
                    <a:cubicBezTo>
                      <a:pt x="94" y="275"/>
                      <a:pt x="47" y="306"/>
                      <a:pt x="47" y="306"/>
                    </a:cubicBezTo>
                    <a:cubicBezTo>
                      <a:pt x="19" y="348"/>
                      <a:pt x="36" y="335"/>
                      <a:pt x="0" y="353"/>
                    </a:cubicBezTo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872040" y="527400"/>
              <a:ext cx="236520" cy="545400"/>
              <a:chOff x="6872040" y="527400"/>
              <a:chExt cx="236520" cy="545400"/>
            </a:xfrm>
          </p:grpSpPr>
          <p:sp>
            <p:nvSpPr>
              <p:cNvPr id="753" name=""/>
              <p:cNvSpPr/>
              <p:nvPr/>
            </p:nvSpPr>
            <p:spPr>
              <a:xfrm>
                <a:off x="6965640" y="527400"/>
                <a:ext cx="142920" cy="545400"/>
              </a:xfrm>
              <a:custGeom>
                <a:avLst/>
                <a:gdLst/>
                <a:ahLst/>
                <a:rect l="l" t="t" r="r" b="b"/>
                <a:pathLst>
                  <a:path w="90" h="330">
                    <a:moveTo>
                      <a:pt x="0" y="330"/>
                    </a:moveTo>
                    <a:cubicBezTo>
                      <a:pt x="35" y="221"/>
                      <a:pt x="10" y="107"/>
                      <a:pt x="47" y="0"/>
                    </a:cubicBezTo>
                    <a:cubicBezTo>
                      <a:pt x="66" y="96"/>
                      <a:pt x="90" y="132"/>
                      <a:pt x="59" y="247"/>
                    </a:cubicBezTo>
                    <a:cubicBezTo>
                      <a:pt x="55" y="261"/>
                      <a:pt x="31" y="259"/>
                      <a:pt x="23" y="271"/>
                    </a:cubicBezTo>
                    <a:cubicBezTo>
                      <a:pt x="11" y="288"/>
                      <a:pt x="8" y="310"/>
                      <a:pt x="0" y="330"/>
                    </a:cubicBezTo>
                    <a:close/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872040" y="547200"/>
                <a:ext cx="168480" cy="428040"/>
              </a:xfrm>
              <a:custGeom>
                <a:avLst/>
                <a:gdLst/>
                <a:ahLst/>
                <a:rect l="l" t="t" r="r" b="b"/>
                <a:pathLst>
                  <a:path w="106" h="259">
                    <a:moveTo>
                      <a:pt x="106" y="0"/>
                    </a:moveTo>
                    <a:cubicBezTo>
                      <a:pt x="78" y="84"/>
                      <a:pt x="103" y="57"/>
                      <a:pt x="47" y="94"/>
                    </a:cubicBezTo>
                    <a:cubicBezTo>
                      <a:pt x="39" y="106"/>
                      <a:pt x="30" y="116"/>
                      <a:pt x="24" y="129"/>
                    </a:cubicBezTo>
                    <a:cubicBezTo>
                      <a:pt x="14" y="152"/>
                      <a:pt x="0" y="200"/>
                      <a:pt x="0" y="200"/>
                    </a:cubicBezTo>
                    <a:cubicBezTo>
                      <a:pt x="14" y="240"/>
                      <a:pt x="26" y="259"/>
                      <a:pt x="71" y="259"/>
                    </a:cubicBezTo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649200" y="2018880"/>
              <a:ext cx="802800" cy="1030320"/>
              <a:chOff x="6649200" y="2018880"/>
              <a:chExt cx="802800" cy="1030320"/>
            </a:xfrm>
          </p:grpSpPr>
          <p:sp>
            <p:nvSpPr>
              <p:cNvPr id="756" name=""/>
              <p:cNvSpPr/>
              <p:nvPr/>
            </p:nvSpPr>
            <p:spPr>
              <a:xfrm rot="20164800">
                <a:off x="6814800" y="2075040"/>
                <a:ext cx="471240" cy="918000"/>
              </a:xfrm>
              <a:custGeom>
                <a:avLst/>
                <a:gdLst/>
                <a:ahLst/>
                <a:rect l="l" t="t" r="r" b="b"/>
                <a:pathLst>
                  <a:path w="297" h="555">
                    <a:moveTo>
                      <a:pt x="262" y="94"/>
                    </a:moveTo>
                    <a:cubicBezTo>
                      <a:pt x="191" y="198"/>
                      <a:pt x="287" y="73"/>
                      <a:pt x="203" y="141"/>
                    </a:cubicBezTo>
                    <a:cubicBezTo>
                      <a:pt x="130" y="200"/>
                      <a:pt x="229" y="161"/>
                      <a:pt x="144" y="188"/>
                    </a:cubicBezTo>
                    <a:cubicBezTo>
                      <a:pt x="91" y="224"/>
                      <a:pt x="115" y="235"/>
                      <a:pt x="62" y="271"/>
                    </a:cubicBezTo>
                    <a:cubicBezTo>
                      <a:pt x="36" y="348"/>
                      <a:pt x="0" y="437"/>
                      <a:pt x="62" y="518"/>
                    </a:cubicBezTo>
                    <a:cubicBezTo>
                      <a:pt x="91" y="555"/>
                      <a:pt x="156" y="510"/>
                      <a:pt x="203" y="506"/>
                    </a:cubicBezTo>
                    <a:cubicBezTo>
                      <a:pt x="279" y="480"/>
                      <a:pt x="273" y="470"/>
                      <a:pt x="297" y="400"/>
                    </a:cubicBezTo>
                    <a:cubicBezTo>
                      <a:pt x="275" y="188"/>
                      <a:pt x="285" y="322"/>
                      <a:pt x="285" y="0"/>
                    </a:cubicBezTo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0164800">
                <a:off x="7013880" y="2172600"/>
                <a:ext cx="223560" cy="545760"/>
              </a:xfrm>
              <a:custGeom>
                <a:avLst/>
                <a:gdLst/>
                <a:ahLst/>
                <a:rect l="l" t="t" r="r" b="b"/>
                <a:pathLst>
                  <a:path w="141" h="330">
                    <a:moveTo>
                      <a:pt x="141" y="0"/>
                    </a:moveTo>
                    <a:cubicBezTo>
                      <a:pt x="124" y="72"/>
                      <a:pt x="98" y="147"/>
                      <a:pt x="35" y="189"/>
                    </a:cubicBezTo>
                    <a:cubicBezTo>
                      <a:pt x="14" y="254"/>
                      <a:pt x="32" y="193"/>
                      <a:pt x="12" y="283"/>
                    </a:cubicBezTo>
                    <a:cubicBezTo>
                      <a:pt x="8" y="299"/>
                      <a:pt x="0" y="330"/>
                      <a:pt x="0" y="330"/>
                    </a:cubicBezTo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672160" y="1201320"/>
              <a:ext cx="307800" cy="979200"/>
              <a:chOff x="5672160" y="1201320"/>
              <a:chExt cx="307800" cy="979200"/>
            </a:xfrm>
          </p:grpSpPr>
          <p:sp>
            <p:nvSpPr>
              <p:cNvPr id="759" name=""/>
              <p:cNvSpPr/>
              <p:nvPr/>
            </p:nvSpPr>
            <p:spPr>
              <a:xfrm>
                <a:off x="5672160" y="1361520"/>
                <a:ext cx="299880" cy="819000"/>
              </a:xfrm>
              <a:custGeom>
                <a:avLst/>
                <a:gdLst/>
                <a:ahLst/>
                <a:rect l="l" t="t" r="r" b="b"/>
                <a:pathLst>
                  <a:path w="189" h="495">
                    <a:moveTo>
                      <a:pt x="106" y="0"/>
                    </a:moveTo>
                    <a:cubicBezTo>
                      <a:pt x="42" y="44"/>
                      <a:pt x="77" y="11"/>
                      <a:pt x="24" y="118"/>
                    </a:cubicBezTo>
                    <a:cubicBezTo>
                      <a:pt x="10" y="147"/>
                      <a:pt x="0" y="212"/>
                      <a:pt x="0" y="212"/>
                    </a:cubicBezTo>
                    <a:cubicBezTo>
                      <a:pt x="10" y="240"/>
                      <a:pt x="26" y="266"/>
                      <a:pt x="35" y="294"/>
                    </a:cubicBezTo>
                    <a:cubicBezTo>
                      <a:pt x="46" y="328"/>
                      <a:pt x="36" y="372"/>
                      <a:pt x="59" y="400"/>
                    </a:cubicBezTo>
                    <a:cubicBezTo>
                      <a:pt x="77" y="422"/>
                      <a:pt x="113" y="417"/>
                      <a:pt x="141" y="424"/>
                    </a:cubicBezTo>
                    <a:cubicBezTo>
                      <a:pt x="152" y="456"/>
                      <a:pt x="164" y="495"/>
                      <a:pt x="141" y="412"/>
                    </a:cubicBezTo>
                    <a:cubicBezTo>
                      <a:pt x="129" y="368"/>
                      <a:pt x="130" y="376"/>
                      <a:pt x="106" y="329"/>
                    </a:cubicBezTo>
                    <a:cubicBezTo>
                      <a:pt x="110" y="317"/>
                      <a:pt x="112" y="305"/>
                      <a:pt x="118" y="294"/>
                    </a:cubicBezTo>
                    <a:cubicBezTo>
                      <a:pt x="132" y="269"/>
                      <a:pt x="165" y="224"/>
                      <a:pt x="165" y="224"/>
                    </a:cubicBezTo>
                    <a:cubicBezTo>
                      <a:pt x="187" y="159"/>
                      <a:pt x="189" y="123"/>
                      <a:pt x="130" y="82"/>
                    </a:cubicBezTo>
                    <a:cubicBezTo>
                      <a:pt x="122" y="70"/>
                      <a:pt x="117" y="56"/>
                      <a:pt x="106" y="47"/>
                    </a:cubicBezTo>
                    <a:cubicBezTo>
                      <a:pt x="68" y="17"/>
                      <a:pt x="45" y="61"/>
                      <a:pt x="106" y="0"/>
                    </a:cubicBez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84840" y="1201320"/>
                <a:ext cx="195120" cy="531000"/>
              </a:xfrm>
              <a:custGeom>
                <a:avLst/>
                <a:gdLst/>
                <a:ahLst/>
                <a:rect l="l" t="t" r="r" b="b"/>
                <a:pathLst>
                  <a:path w="200" h="342">
                    <a:moveTo>
                      <a:pt x="200" y="0"/>
                    </a:moveTo>
                    <a:cubicBezTo>
                      <a:pt x="146" y="18"/>
                      <a:pt x="95" y="15"/>
                      <a:pt x="47" y="47"/>
                    </a:cubicBezTo>
                    <a:cubicBezTo>
                      <a:pt x="39" y="59"/>
                      <a:pt x="29" y="70"/>
                      <a:pt x="23" y="83"/>
                    </a:cubicBezTo>
                    <a:cubicBezTo>
                      <a:pt x="13" y="105"/>
                      <a:pt x="0" y="153"/>
                      <a:pt x="0" y="153"/>
                    </a:cubicBezTo>
                    <a:cubicBezTo>
                      <a:pt x="19" y="228"/>
                      <a:pt x="23" y="256"/>
                      <a:pt x="23" y="342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6170400" y="1456200"/>
              <a:ext cx="236520" cy="545400"/>
              <a:chOff x="6170400" y="1456200"/>
              <a:chExt cx="236520" cy="545400"/>
            </a:xfrm>
          </p:grpSpPr>
          <p:sp>
            <p:nvSpPr>
              <p:cNvPr id="762" name=""/>
              <p:cNvSpPr/>
              <p:nvPr/>
            </p:nvSpPr>
            <p:spPr>
              <a:xfrm>
                <a:off x="6170400" y="1456200"/>
                <a:ext cx="236520" cy="545400"/>
              </a:xfrm>
              <a:custGeom>
                <a:avLst/>
                <a:gdLst/>
                <a:ahLst/>
                <a:rect l="l" t="t" r="r" b="b"/>
                <a:pathLst>
                  <a:path w="149" h="330">
                    <a:moveTo>
                      <a:pt x="136" y="16"/>
                    </a:moveTo>
                    <a:cubicBezTo>
                      <a:pt x="109" y="103"/>
                      <a:pt x="149" y="0"/>
                      <a:pt x="89" y="74"/>
                    </a:cubicBezTo>
                    <a:cubicBezTo>
                      <a:pt x="22" y="157"/>
                      <a:pt x="144" y="66"/>
                      <a:pt x="42" y="133"/>
                    </a:cubicBezTo>
                    <a:cubicBezTo>
                      <a:pt x="23" y="190"/>
                      <a:pt x="0" y="244"/>
                      <a:pt x="42" y="310"/>
                    </a:cubicBezTo>
                    <a:cubicBezTo>
                      <a:pt x="55" y="330"/>
                      <a:pt x="89" y="302"/>
                      <a:pt x="113" y="298"/>
                    </a:cubicBezTo>
                    <a:cubicBezTo>
                      <a:pt x="137" y="227"/>
                      <a:pt x="139" y="210"/>
                      <a:pt x="125" y="122"/>
                    </a:cubicBezTo>
                    <a:cubicBezTo>
                      <a:pt x="123" y="110"/>
                      <a:pt x="113" y="86"/>
                      <a:pt x="113" y="86"/>
                    </a:cubicBezTo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238800" y="1578600"/>
                <a:ext cx="110880" cy="292320"/>
              </a:xfrm>
              <a:custGeom>
                <a:avLst/>
                <a:gdLst/>
                <a:ahLst/>
                <a:rect l="l" t="t" r="r" b="b"/>
                <a:pathLst>
                  <a:path w="70" h="177">
                    <a:moveTo>
                      <a:pt x="70" y="0"/>
                    </a:moveTo>
                    <a:cubicBezTo>
                      <a:pt x="62" y="12"/>
                      <a:pt x="56" y="26"/>
                      <a:pt x="46" y="36"/>
                    </a:cubicBezTo>
                    <a:cubicBezTo>
                      <a:pt x="36" y="46"/>
                      <a:pt x="14" y="45"/>
                      <a:pt x="11" y="59"/>
                    </a:cubicBezTo>
                    <a:cubicBezTo>
                      <a:pt x="0" y="104"/>
                      <a:pt x="29" y="148"/>
                      <a:pt x="58" y="177"/>
                    </a:cubicBezTo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010920" y="550440"/>
              <a:ext cx="833760" cy="787680"/>
              <a:chOff x="6010920" y="550440"/>
              <a:chExt cx="833760" cy="787680"/>
            </a:xfrm>
          </p:grpSpPr>
          <p:sp>
            <p:nvSpPr>
              <p:cNvPr id="765" name=""/>
              <p:cNvSpPr/>
              <p:nvPr/>
            </p:nvSpPr>
            <p:spPr>
              <a:xfrm rot="13185000">
                <a:off x="6285240" y="587520"/>
                <a:ext cx="374400" cy="713160"/>
              </a:xfrm>
              <a:custGeom>
                <a:avLst/>
                <a:gdLst/>
                <a:ahLst/>
                <a:rect l="l" t="t" r="r" b="b"/>
                <a:pathLst>
                  <a:path w="141" h="346">
                    <a:moveTo>
                      <a:pt x="141" y="0"/>
                    </a:moveTo>
                    <a:cubicBezTo>
                      <a:pt x="133" y="12"/>
                      <a:pt x="129" y="26"/>
                      <a:pt x="118" y="35"/>
                    </a:cubicBezTo>
                    <a:cubicBezTo>
                      <a:pt x="108" y="43"/>
                      <a:pt x="91" y="38"/>
                      <a:pt x="82" y="47"/>
                    </a:cubicBezTo>
                    <a:cubicBezTo>
                      <a:pt x="62" y="67"/>
                      <a:pt x="35" y="117"/>
                      <a:pt x="35" y="117"/>
                    </a:cubicBezTo>
                    <a:cubicBezTo>
                      <a:pt x="31" y="180"/>
                      <a:pt x="30" y="243"/>
                      <a:pt x="24" y="305"/>
                    </a:cubicBezTo>
                    <a:cubicBezTo>
                      <a:pt x="23" y="318"/>
                      <a:pt x="0" y="338"/>
                      <a:pt x="12" y="341"/>
                    </a:cubicBezTo>
                    <a:cubicBezTo>
                      <a:pt x="36" y="346"/>
                      <a:pt x="82" y="317"/>
                      <a:pt x="82" y="317"/>
                    </a:cubicBezTo>
                    <a:cubicBezTo>
                      <a:pt x="117" y="214"/>
                      <a:pt x="122" y="108"/>
                      <a:pt x="141" y="0"/>
                    </a:cubicBezTo>
                    <a:close/>
                  </a:path>
                </a:pathLst>
              </a:custGeom>
              <a:solidFill>
                <a:srgbClr val="007a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3185000">
                <a:off x="6159600" y="700560"/>
                <a:ext cx="246240" cy="554040"/>
              </a:xfrm>
              <a:custGeom>
                <a:avLst/>
                <a:gdLst/>
                <a:ahLst/>
                <a:rect l="l" t="t" r="r" b="b"/>
                <a:pathLst>
                  <a:path w="155" h="335">
                    <a:moveTo>
                      <a:pt x="141" y="17"/>
                    </a:moveTo>
                    <a:cubicBezTo>
                      <a:pt x="111" y="105"/>
                      <a:pt x="155" y="0"/>
                      <a:pt x="94" y="76"/>
                    </a:cubicBezTo>
                    <a:cubicBezTo>
                      <a:pt x="86" y="86"/>
                      <a:pt x="88" y="100"/>
                      <a:pt x="82" y="111"/>
                    </a:cubicBezTo>
                    <a:cubicBezTo>
                      <a:pt x="76" y="124"/>
                      <a:pt x="66" y="134"/>
                      <a:pt x="58" y="146"/>
                    </a:cubicBezTo>
                    <a:cubicBezTo>
                      <a:pt x="46" y="185"/>
                      <a:pt x="35" y="225"/>
                      <a:pt x="23" y="264"/>
                    </a:cubicBezTo>
                    <a:cubicBezTo>
                      <a:pt x="20" y="276"/>
                      <a:pt x="15" y="287"/>
                      <a:pt x="11" y="299"/>
                    </a:cubicBezTo>
                    <a:cubicBezTo>
                      <a:pt x="7" y="311"/>
                      <a:pt x="0" y="335"/>
                      <a:pt x="0" y="335"/>
                    </a:cubicBezTo>
                  </a:path>
                </a:pathLst>
              </a:custGeom>
              <a:solidFill>
                <a:srgbClr val="007a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1981080" y="49528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e due farfalle si incontrarono e decisero di volare sempre insi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724280" y="2209680"/>
            <a:ext cx="1568520" cy="1192320"/>
            <a:chOff x="4724280" y="2209680"/>
            <a:chExt cx="1568520" cy="1192320"/>
          </a:xfrm>
        </p:grpSpPr>
        <p:sp>
          <p:nvSpPr>
            <p:cNvPr id="769" name=""/>
            <p:cNvSpPr/>
            <p:nvPr/>
          </p:nvSpPr>
          <p:spPr>
            <a:xfrm>
              <a:off x="5226120" y="262404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24280" y="220968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26120" y="235584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0600" y="241452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89520" y="273204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27560" y="301140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7080" y="252252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75320" y="265428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51360" y="229536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10800000">
              <a:off x="4910040" y="297972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371600" y="563400"/>
            <a:ext cx="1955880" cy="2133720"/>
            <a:chOff x="1371600" y="563400"/>
            <a:chExt cx="1955880" cy="2133720"/>
          </a:xfrm>
        </p:grpSpPr>
        <p:sp>
          <p:nvSpPr>
            <p:cNvPr id="780" name="">
              <a:hlinkClick r:id="" action="ppaction://hlinkshowjump?jump=previousslide"/>
            </p:cNvPr>
            <p:cNvSpPr/>
            <p:nvPr/>
          </p:nvSpPr>
          <p:spPr>
            <a:xfrm>
              <a:off x="1905120" y="208728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676520" y="868320"/>
              <a:ext cx="117648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53000" y="942840"/>
              <a:ext cx="47448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43200" y="1554120"/>
              <a:ext cx="40176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59160" y="202068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17720" y="188892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95360" y="149688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71600" y="563400"/>
              <a:ext cx="517680" cy="53676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6400" y="565200"/>
              <a:ext cx="384120" cy="33480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1630080"/>
              <a:ext cx="457200" cy="15264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28800" y="1096920"/>
              <a:ext cx="304920" cy="30456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28800" y="1211040"/>
              <a:ext cx="381240" cy="16056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905120" y="1295280"/>
              <a:ext cx="22860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70160" y="94428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085760"/>
              <a:ext cx="401760" cy="20952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5400000">
              <a:off x="2437920" y="1142640"/>
              <a:ext cx="76320" cy="228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>
            <a:off x="3351960" y="990720"/>
            <a:ext cx="1295640" cy="1066680"/>
          </a:xfrm>
          <a:prstGeom prst="wedgeRoundRectCallout">
            <a:avLst>
              <a:gd name="adj1" fmla="val -4046"/>
              <a:gd name="adj2" fmla="val 88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ia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i ricordi di 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3047400"/>
            <a:ext cx="1600200" cy="990360"/>
          </a:xfrm>
          <a:prstGeom prst="wedgeRoundRectCallout">
            <a:avLst>
              <a:gd name="adj1" fmla="val -58337"/>
              <a:gd name="adj2" fmla="val 65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rto! Sei diventata bellissima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799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810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811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8001000" y="6321600"/>
            <a:ext cx="914400" cy="533160"/>
            <a:chOff x="8001000" y="6321600"/>
            <a:chExt cx="914400" cy="533160"/>
          </a:xfrm>
        </p:grpSpPr>
        <p:grpSp>
          <p:nvGrpSpPr>
            <p:cNvPr id="828" name=""/>
            <p:cNvGrpSpPr/>
            <p:nvPr/>
          </p:nvGrpSpPr>
          <p:grpSpPr>
            <a:xfrm>
              <a:off x="8001000" y="6387840"/>
              <a:ext cx="846720" cy="333360"/>
              <a:chOff x="8001000" y="6387840"/>
              <a:chExt cx="846720" cy="3333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8001000" y="6387840"/>
                <a:ext cx="846720" cy="333360"/>
                <a:chOff x="8001000" y="6387840"/>
                <a:chExt cx="846720" cy="3333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855324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8001000" y="6387840"/>
                  <a:ext cx="693000" cy="333360"/>
                  <a:chOff x="8001000" y="6387840"/>
                  <a:chExt cx="693000" cy="3333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848124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841104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829080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822780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812520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800100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>
                <a:off x="871092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>
              <a:hlinkClick r:id="" action="ppaction://hlinkshowjump?jump=nextslide"/>
            </p:cNvPr>
            <p:cNvSpPr/>
            <p:nvPr/>
          </p:nvSpPr>
          <p:spPr>
            <a:xfrm>
              <a:off x="800100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100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zione Fiume Veneto</cp:lastModifiedBy>
  <dcterms:modified xsi:type="dcterms:W3CDTF">2001-03-14T14:50:25Z</dcterms:modified>
  <cp:revision>36</cp:revision>
  <dc:subject/>
  <dc:title>Nessun titolo diapositiva</dc:title>
</cp:coreProperties>
</file>