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2C20-2ED9-49C8-A7DE-44674089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6D99-BE3A-47A8-BCAC-7D0A32E5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56FD-CC39-4B24-8CE1-11A75A65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EBF9-3C9A-4A1D-864B-AED01749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EAFC-9E99-4238-9307-7CC5C9D2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C71-479A-474F-8135-37D30BF0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D0E9-43A7-4FEA-AE90-72372AC8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B54F-64F9-46CE-89DA-D1AA9570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F939-D6DF-4327-B7AE-B4A224E2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F7A-4C54-439A-8440-B0BFBAFF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595F-0C5D-4F9F-8C60-DC5DC320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2B8C-C55C-41D3-BE22-77C83450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4829-94B1-4618-A248-B8E496489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Il%20bruchino%20e%20la%20farfalla%20.ppt#Slide 1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hyperlink" Target="file:///L&apos;ape%20e%20la%20coccinella%20.ppt" TargetMode="External"/><Relationship Id="rId6" Type="http://schemas.openxmlformats.org/officeDocument/2006/relationships/hyperlink" Target="file:///tmp/home/.config/libreoffice/4/user/gallery/RIMBALZO.WAV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00400" y="2209680"/>
          <a:ext cx="220968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209680"/>
                    <a:ext cx="220968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28600" y="0"/>
            <a:ext cx="4038480" cy="3771720"/>
          </a:xfrm>
          <a:prstGeom prst="wedgeEllipseCallout">
            <a:avLst>
              <a:gd name="adj1" fmla="val 43037"/>
              <a:gd name="adj2" fmla="val 647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iao! Sono lo gnomo Lele. L’anno scorso vivevo nel giardino della scuola e  facevo spesso degli scherzi ai bambini più picco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5029200" y="209520"/>
            <a:ext cx="3886200" cy="4291560"/>
          </a:xfrm>
          <a:prstGeom prst="wedgeEllipseCallout">
            <a:avLst>
              <a:gd name="adj1" fmla="val -51592"/>
              <a:gd name="adj2" fmla="val -619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giorno ho letto queste due belle storie inventate dai bambini di 1 A e B: mi sono piaciute così tanto che ho deciso di disegnarle con il comput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52280" y="0"/>
            <a:ext cx="9448560" cy="5715000"/>
          </a:xfrm>
          <a:prstGeom prst="rect">
            <a:avLst/>
          </a:prstGeom>
          <a:solidFill>
            <a:srgbClr val="f8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76040" y="5380200"/>
            <a:ext cx="9437400" cy="1639800"/>
          </a:xfrm>
          <a:custGeom>
            <a:avLst/>
            <a:gdLst/>
            <a:ahLst/>
            <a:rect l="l" t="t" r="r" b="b"/>
            <a:pathLst>
              <a:path w="5945" h="1033">
                <a:moveTo>
                  <a:pt x="100" y="111"/>
                </a:moveTo>
                <a:cubicBezTo>
                  <a:pt x="169" y="88"/>
                  <a:pt x="241" y="95"/>
                  <a:pt x="311" y="77"/>
                </a:cubicBezTo>
                <a:cubicBezTo>
                  <a:pt x="336" y="28"/>
                  <a:pt x="349" y="17"/>
                  <a:pt x="400" y="0"/>
                </a:cubicBezTo>
                <a:cubicBezTo>
                  <a:pt x="467" y="4"/>
                  <a:pt x="534" y="3"/>
                  <a:pt x="600" y="11"/>
                </a:cubicBezTo>
                <a:cubicBezTo>
                  <a:pt x="623" y="14"/>
                  <a:pt x="645" y="26"/>
                  <a:pt x="667" y="33"/>
                </a:cubicBezTo>
                <a:cubicBezTo>
                  <a:pt x="678" y="37"/>
                  <a:pt x="700" y="44"/>
                  <a:pt x="700" y="44"/>
                </a:cubicBezTo>
                <a:cubicBezTo>
                  <a:pt x="811" y="36"/>
                  <a:pt x="844" y="33"/>
                  <a:pt x="933" y="11"/>
                </a:cubicBezTo>
                <a:cubicBezTo>
                  <a:pt x="992" y="15"/>
                  <a:pt x="1052" y="16"/>
                  <a:pt x="1111" y="22"/>
                </a:cubicBezTo>
                <a:cubicBezTo>
                  <a:pt x="1155" y="27"/>
                  <a:pt x="1189" y="73"/>
                  <a:pt x="1233" y="88"/>
                </a:cubicBezTo>
                <a:cubicBezTo>
                  <a:pt x="1541" y="64"/>
                  <a:pt x="1419" y="55"/>
                  <a:pt x="1600" y="77"/>
                </a:cubicBezTo>
                <a:cubicBezTo>
                  <a:pt x="1658" y="117"/>
                  <a:pt x="1669" y="111"/>
                  <a:pt x="1745" y="100"/>
                </a:cubicBezTo>
                <a:cubicBezTo>
                  <a:pt x="1849" y="64"/>
                  <a:pt x="1775" y="89"/>
                  <a:pt x="1845" y="66"/>
                </a:cubicBezTo>
                <a:cubicBezTo>
                  <a:pt x="1856" y="62"/>
                  <a:pt x="1878" y="55"/>
                  <a:pt x="1878" y="55"/>
                </a:cubicBezTo>
                <a:cubicBezTo>
                  <a:pt x="1996" y="59"/>
                  <a:pt x="2115" y="57"/>
                  <a:pt x="2233" y="66"/>
                </a:cubicBezTo>
                <a:cubicBezTo>
                  <a:pt x="2256" y="68"/>
                  <a:pt x="2300" y="88"/>
                  <a:pt x="2300" y="88"/>
                </a:cubicBezTo>
                <a:cubicBezTo>
                  <a:pt x="2311" y="99"/>
                  <a:pt x="2320" y="114"/>
                  <a:pt x="2334" y="122"/>
                </a:cubicBezTo>
                <a:cubicBezTo>
                  <a:pt x="2354" y="133"/>
                  <a:pt x="2400" y="144"/>
                  <a:pt x="2400" y="144"/>
                </a:cubicBezTo>
                <a:cubicBezTo>
                  <a:pt x="2457" y="140"/>
                  <a:pt x="2598" y="133"/>
                  <a:pt x="2667" y="122"/>
                </a:cubicBezTo>
                <a:cubicBezTo>
                  <a:pt x="2709" y="115"/>
                  <a:pt x="2748" y="96"/>
                  <a:pt x="2789" y="88"/>
                </a:cubicBezTo>
                <a:cubicBezTo>
                  <a:pt x="2823" y="82"/>
                  <a:pt x="2963" y="69"/>
                  <a:pt x="2989" y="66"/>
                </a:cubicBezTo>
                <a:cubicBezTo>
                  <a:pt x="3092" y="81"/>
                  <a:pt x="3187" y="116"/>
                  <a:pt x="3289" y="133"/>
                </a:cubicBezTo>
                <a:cubicBezTo>
                  <a:pt x="3402" y="122"/>
                  <a:pt x="3511" y="107"/>
                  <a:pt x="3623" y="88"/>
                </a:cubicBezTo>
                <a:cubicBezTo>
                  <a:pt x="3674" y="79"/>
                  <a:pt x="3778" y="66"/>
                  <a:pt x="3778" y="66"/>
                </a:cubicBezTo>
                <a:cubicBezTo>
                  <a:pt x="3790" y="67"/>
                  <a:pt x="3949" y="84"/>
                  <a:pt x="3967" y="88"/>
                </a:cubicBezTo>
                <a:cubicBezTo>
                  <a:pt x="4032" y="101"/>
                  <a:pt x="4090" y="122"/>
                  <a:pt x="4156" y="133"/>
                </a:cubicBezTo>
                <a:cubicBezTo>
                  <a:pt x="4266" y="170"/>
                  <a:pt x="4210" y="155"/>
                  <a:pt x="4445" y="133"/>
                </a:cubicBezTo>
                <a:cubicBezTo>
                  <a:pt x="4475" y="130"/>
                  <a:pt x="4504" y="115"/>
                  <a:pt x="4534" y="111"/>
                </a:cubicBezTo>
                <a:cubicBezTo>
                  <a:pt x="4664" y="93"/>
                  <a:pt x="4794" y="76"/>
                  <a:pt x="4923" y="55"/>
                </a:cubicBezTo>
                <a:cubicBezTo>
                  <a:pt x="4960" y="59"/>
                  <a:pt x="4998" y="58"/>
                  <a:pt x="5034" y="66"/>
                </a:cubicBezTo>
                <a:cubicBezTo>
                  <a:pt x="5050" y="69"/>
                  <a:pt x="5063" y="82"/>
                  <a:pt x="5078" y="88"/>
                </a:cubicBezTo>
                <a:cubicBezTo>
                  <a:pt x="5135" y="112"/>
                  <a:pt x="5196" y="140"/>
                  <a:pt x="5256" y="155"/>
                </a:cubicBezTo>
                <a:cubicBezTo>
                  <a:pt x="5335" y="146"/>
                  <a:pt x="5410" y="132"/>
                  <a:pt x="5489" y="122"/>
                </a:cubicBezTo>
                <a:cubicBezTo>
                  <a:pt x="5575" y="67"/>
                  <a:pt x="5722" y="85"/>
                  <a:pt x="5823" y="77"/>
                </a:cubicBezTo>
                <a:cubicBezTo>
                  <a:pt x="5853" y="81"/>
                  <a:pt x="5903" y="59"/>
                  <a:pt x="5912" y="88"/>
                </a:cubicBezTo>
                <a:cubicBezTo>
                  <a:pt x="5943" y="191"/>
                  <a:pt x="5917" y="303"/>
                  <a:pt x="5923" y="411"/>
                </a:cubicBezTo>
                <a:cubicBezTo>
                  <a:pt x="5926" y="456"/>
                  <a:pt x="5939" y="500"/>
                  <a:pt x="5945" y="544"/>
                </a:cubicBezTo>
                <a:cubicBezTo>
                  <a:pt x="5938" y="655"/>
                  <a:pt x="5937" y="767"/>
                  <a:pt x="5923" y="877"/>
                </a:cubicBezTo>
                <a:cubicBezTo>
                  <a:pt x="5922" y="888"/>
                  <a:pt x="5906" y="891"/>
                  <a:pt x="5901" y="900"/>
                </a:cubicBezTo>
                <a:cubicBezTo>
                  <a:pt x="5881" y="933"/>
                  <a:pt x="5883" y="961"/>
                  <a:pt x="5834" y="966"/>
                </a:cubicBezTo>
                <a:cubicBezTo>
                  <a:pt x="5775" y="972"/>
                  <a:pt x="5715" y="973"/>
                  <a:pt x="5656" y="977"/>
                </a:cubicBezTo>
                <a:cubicBezTo>
                  <a:pt x="5499" y="967"/>
                  <a:pt x="5368" y="978"/>
                  <a:pt x="5212" y="988"/>
                </a:cubicBezTo>
                <a:cubicBezTo>
                  <a:pt x="5053" y="1016"/>
                  <a:pt x="4884" y="1023"/>
                  <a:pt x="4723" y="1033"/>
                </a:cubicBezTo>
                <a:cubicBezTo>
                  <a:pt x="4433" y="1017"/>
                  <a:pt x="4145" y="980"/>
                  <a:pt x="3856" y="944"/>
                </a:cubicBezTo>
                <a:cubicBezTo>
                  <a:pt x="3443" y="950"/>
                  <a:pt x="3092" y="961"/>
                  <a:pt x="2700" y="988"/>
                </a:cubicBezTo>
                <a:cubicBezTo>
                  <a:pt x="2611" y="994"/>
                  <a:pt x="2523" y="996"/>
                  <a:pt x="2434" y="1000"/>
                </a:cubicBezTo>
                <a:cubicBezTo>
                  <a:pt x="2289" y="1007"/>
                  <a:pt x="2000" y="1022"/>
                  <a:pt x="2000" y="1022"/>
                </a:cubicBezTo>
                <a:cubicBezTo>
                  <a:pt x="1640" y="1015"/>
                  <a:pt x="1291" y="992"/>
                  <a:pt x="933" y="977"/>
                </a:cubicBezTo>
                <a:cubicBezTo>
                  <a:pt x="903" y="973"/>
                  <a:pt x="874" y="969"/>
                  <a:pt x="844" y="966"/>
                </a:cubicBezTo>
                <a:cubicBezTo>
                  <a:pt x="752" y="958"/>
                  <a:pt x="567" y="944"/>
                  <a:pt x="567" y="944"/>
                </a:cubicBezTo>
                <a:cubicBezTo>
                  <a:pt x="564" y="944"/>
                  <a:pt x="113" y="988"/>
                  <a:pt x="44" y="922"/>
                </a:cubicBezTo>
                <a:cubicBezTo>
                  <a:pt x="22" y="855"/>
                  <a:pt x="10" y="791"/>
                  <a:pt x="0" y="722"/>
                </a:cubicBezTo>
                <a:cubicBezTo>
                  <a:pt x="4" y="666"/>
                  <a:pt x="3" y="610"/>
                  <a:pt x="11" y="555"/>
                </a:cubicBezTo>
                <a:cubicBezTo>
                  <a:pt x="18" y="509"/>
                  <a:pt x="44" y="457"/>
                  <a:pt x="55" y="411"/>
                </a:cubicBezTo>
                <a:cubicBezTo>
                  <a:pt x="79" y="309"/>
                  <a:pt x="100" y="216"/>
                  <a:pt x="100" y="111"/>
                </a:cubicBezTo>
                <a:close/>
              </a:path>
            </a:pathLst>
          </a:custGeom>
          <a:solidFill>
            <a:srgbClr val="ffcc99"/>
          </a:solidFill>
          <a:ln w="3168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590920" y="5638680"/>
            <a:ext cx="609480" cy="609840"/>
            <a:chOff x="2590920" y="5638680"/>
            <a:chExt cx="609480" cy="609840"/>
          </a:xfrm>
        </p:grpSpPr>
        <p:grpSp>
          <p:nvGrpSpPr>
            <p:cNvPr id="48" name=""/>
            <p:cNvGrpSpPr/>
            <p:nvPr/>
          </p:nvGrpSpPr>
          <p:grpSpPr>
            <a:xfrm>
              <a:off x="2590920" y="5638680"/>
              <a:ext cx="554040" cy="548640"/>
              <a:chOff x="2590920" y="5638680"/>
              <a:chExt cx="554040" cy="548640"/>
            </a:xfrm>
          </p:grpSpPr>
          <p:sp>
            <p:nvSpPr>
              <p:cNvPr id="49" name=""/>
              <p:cNvSpPr/>
              <p:nvPr/>
            </p:nvSpPr>
            <p:spPr>
              <a:xfrm>
                <a:off x="2768040" y="5829120"/>
                <a:ext cx="212040" cy="229320"/>
              </a:xfrm>
              <a:custGeom>
                <a:avLst/>
                <a:gdLst/>
                <a:ahLst/>
                <a:rect l="l" t="t" r="r" b="b"/>
                <a:pathLst>
                  <a:path w="378" h="314">
                    <a:moveTo>
                      <a:pt x="237" y="161"/>
                    </a:moveTo>
                    <a:cubicBezTo>
                      <a:pt x="214" y="91"/>
                      <a:pt x="243" y="155"/>
                      <a:pt x="190" y="102"/>
                    </a:cubicBezTo>
                    <a:cubicBezTo>
                      <a:pt x="123" y="35"/>
                      <a:pt x="219" y="92"/>
                      <a:pt x="119" y="43"/>
                    </a:cubicBezTo>
                    <a:cubicBezTo>
                      <a:pt x="115" y="31"/>
                      <a:pt x="119" y="11"/>
                      <a:pt x="107" y="8"/>
                    </a:cubicBezTo>
                    <a:cubicBezTo>
                      <a:pt x="80" y="0"/>
                      <a:pt x="0" y="7"/>
                      <a:pt x="48" y="55"/>
                    </a:cubicBezTo>
                    <a:cubicBezTo>
                      <a:pt x="57" y="64"/>
                      <a:pt x="72" y="62"/>
                      <a:pt x="84" y="66"/>
                    </a:cubicBezTo>
                    <a:cubicBezTo>
                      <a:pt x="111" y="108"/>
                      <a:pt x="131" y="121"/>
                      <a:pt x="178" y="137"/>
                    </a:cubicBezTo>
                    <a:cubicBezTo>
                      <a:pt x="264" y="268"/>
                      <a:pt x="132" y="78"/>
                      <a:pt x="237" y="196"/>
                    </a:cubicBezTo>
                    <a:cubicBezTo>
                      <a:pt x="309" y="277"/>
                      <a:pt x="267" y="264"/>
                      <a:pt x="366" y="314"/>
                    </a:cubicBezTo>
                    <a:cubicBezTo>
                      <a:pt x="370" y="302"/>
                      <a:pt x="378" y="291"/>
                      <a:pt x="378" y="278"/>
                    </a:cubicBezTo>
                    <a:cubicBezTo>
                      <a:pt x="378" y="204"/>
                      <a:pt x="348" y="210"/>
                      <a:pt x="296" y="184"/>
                    </a:cubicBezTo>
                    <a:cubicBezTo>
                      <a:pt x="241" y="157"/>
                      <a:pt x="281" y="161"/>
                      <a:pt x="237" y="16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590920" y="5638680"/>
                <a:ext cx="554040" cy="548640"/>
              </a:xfrm>
              <a:custGeom>
                <a:avLst/>
                <a:gdLst/>
                <a:ahLst/>
                <a:rect l="l" t="t" r="r" b="b"/>
                <a:pathLst>
                  <a:path w="988" h="751">
                    <a:moveTo>
                      <a:pt x="506" y="433"/>
                    </a:moveTo>
                    <a:cubicBezTo>
                      <a:pt x="510" y="319"/>
                      <a:pt x="493" y="203"/>
                      <a:pt x="517" y="92"/>
                    </a:cubicBezTo>
                    <a:cubicBezTo>
                      <a:pt x="526" y="52"/>
                      <a:pt x="676" y="20"/>
                      <a:pt x="706" y="10"/>
                    </a:cubicBezTo>
                    <a:cubicBezTo>
                      <a:pt x="765" y="15"/>
                      <a:pt x="833" y="0"/>
                      <a:pt x="882" y="33"/>
                    </a:cubicBezTo>
                    <a:cubicBezTo>
                      <a:pt x="987" y="102"/>
                      <a:pt x="829" y="45"/>
                      <a:pt x="941" y="80"/>
                    </a:cubicBezTo>
                    <a:cubicBezTo>
                      <a:pt x="956" y="125"/>
                      <a:pt x="976" y="164"/>
                      <a:pt x="988" y="210"/>
                    </a:cubicBezTo>
                    <a:cubicBezTo>
                      <a:pt x="984" y="245"/>
                      <a:pt x="988" y="283"/>
                      <a:pt x="976" y="316"/>
                    </a:cubicBezTo>
                    <a:cubicBezTo>
                      <a:pt x="970" y="331"/>
                      <a:pt x="919" y="347"/>
                      <a:pt x="906" y="351"/>
                    </a:cubicBezTo>
                    <a:cubicBezTo>
                      <a:pt x="778" y="386"/>
                      <a:pt x="649" y="421"/>
                      <a:pt x="517" y="433"/>
                    </a:cubicBezTo>
                    <a:cubicBezTo>
                      <a:pt x="500" y="426"/>
                      <a:pt x="429" y="400"/>
                      <a:pt x="412" y="386"/>
                    </a:cubicBezTo>
                    <a:cubicBezTo>
                      <a:pt x="335" y="322"/>
                      <a:pt x="454" y="375"/>
                      <a:pt x="341" y="327"/>
                    </a:cubicBezTo>
                    <a:cubicBezTo>
                      <a:pt x="293" y="307"/>
                      <a:pt x="237" y="309"/>
                      <a:pt x="188" y="304"/>
                    </a:cubicBezTo>
                    <a:cubicBezTo>
                      <a:pt x="99" y="313"/>
                      <a:pt x="65" y="306"/>
                      <a:pt x="0" y="351"/>
                    </a:cubicBezTo>
                    <a:cubicBezTo>
                      <a:pt x="0" y="354"/>
                      <a:pt x="6" y="595"/>
                      <a:pt x="47" y="645"/>
                    </a:cubicBezTo>
                    <a:cubicBezTo>
                      <a:pt x="58" y="659"/>
                      <a:pt x="78" y="661"/>
                      <a:pt x="94" y="669"/>
                    </a:cubicBezTo>
                    <a:cubicBezTo>
                      <a:pt x="125" y="732"/>
                      <a:pt x="136" y="729"/>
                      <a:pt x="200" y="751"/>
                    </a:cubicBezTo>
                    <a:cubicBezTo>
                      <a:pt x="278" y="747"/>
                      <a:pt x="357" y="746"/>
                      <a:pt x="435" y="739"/>
                    </a:cubicBezTo>
                    <a:cubicBezTo>
                      <a:pt x="474" y="736"/>
                      <a:pt x="517" y="657"/>
                      <a:pt x="517" y="657"/>
                    </a:cubicBezTo>
                    <a:cubicBezTo>
                      <a:pt x="530" y="605"/>
                      <a:pt x="641" y="391"/>
                      <a:pt x="506" y="433"/>
                    </a:cubicBezTo>
                    <a:close/>
                  </a:path>
                </a:pathLst>
              </a:custGeom>
              <a:solidFill>
                <a:srgbClr val="ff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768040" y="5705640"/>
                <a:ext cx="102960" cy="278280"/>
              </a:xfrm>
              <a:custGeom>
                <a:avLst/>
                <a:gdLst/>
                <a:ahLst/>
                <a:rect l="l" t="t" r="r" b="b"/>
                <a:pathLst>
                  <a:path w="184" h="381">
                    <a:moveTo>
                      <a:pt x="178" y="330"/>
                    </a:moveTo>
                    <a:cubicBezTo>
                      <a:pt x="149" y="158"/>
                      <a:pt x="184" y="381"/>
                      <a:pt x="154" y="59"/>
                    </a:cubicBezTo>
                    <a:cubicBezTo>
                      <a:pt x="153" y="43"/>
                      <a:pt x="153" y="25"/>
                      <a:pt x="143" y="12"/>
                    </a:cubicBezTo>
                    <a:cubicBezTo>
                      <a:pt x="135" y="2"/>
                      <a:pt x="119" y="4"/>
                      <a:pt x="107" y="0"/>
                    </a:cubicBezTo>
                    <a:cubicBezTo>
                      <a:pt x="65" y="14"/>
                      <a:pt x="0" y="11"/>
                      <a:pt x="60" y="59"/>
                    </a:cubicBezTo>
                    <a:cubicBezTo>
                      <a:pt x="70" y="67"/>
                      <a:pt x="84" y="67"/>
                      <a:pt x="96" y="71"/>
                    </a:cubicBezTo>
                    <a:cubicBezTo>
                      <a:pt x="139" y="56"/>
                      <a:pt x="125" y="70"/>
                      <a:pt x="143" y="35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712960" y="5732640"/>
                <a:ext cx="154800" cy="187560"/>
              </a:xfrm>
              <a:custGeom>
                <a:avLst/>
                <a:gdLst/>
                <a:ahLst/>
                <a:rect l="l" t="t" r="r" b="b"/>
                <a:pathLst>
                  <a:path w="276" h="257">
                    <a:moveTo>
                      <a:pt x="276" y="257"/>
                    </a:moveTo>
                    <a:cubicBezTo>
                      <a:pt x="249" y="153"/>
                      <a:pt x="206" y="79"/>
                      <a:pt x="99" y="46"/>
                    </a:cubicBezTo>
                    <a:cubicBezTo>
                      <a:pt x="87" y="38"/>
                      <a:pt x="77" y="28"/>
                      <a:pt x="64" y="22"/>
                    </a:cubicBezTo>
                    <a:cubicBezTo>
                      <a:pt x="53" y="16"/>
                      <a:pt x="36" y="0"/>
                      <a:pt x="29" y="10"/>
                    </a:cubicBezTo>
                    <a:cubicBezTo>
                      <a:pt x="0" y="54"/>
                      <a:pt x="59" y="63"/>
                      <a:pt x="76" y="69"/>
                    </a:cubicBezTo>
                    <a:cubicBezTo>
                      <a:pt x="84" y="81"/>
                      <a:pt x="86" y="99"/>
                      <a:pt x="99" y="104"/>
                    </a:cubicBezTo>
                    <a:cubicBezTo>
                      <a:pt x="116" y="111"/>
                      <a:pt x="170" y="81"/>
                      <a:pt x="182" y="69"/>
                    </a:cubicBezTo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649240" y="5878800"/>
                <a:ext cx="81000" cy="84600"/>
              </a:xfrm>
              <a:custGeom>
                <a:avLst/>
                <a:gdLst/>
                <a:ahLst/>
                <a:rect l="l" t="t" r="r" b="b"/>
                <a:pathLst>
                  <a:path w="145" h="116">
                    <a:moveTo>
                      <a:pt x="143" y="69"/>
                    </a:moveTo>
                    <a:cubicBezTo>
                      <a:pt x="119" y="0"/>
                      <a:pt x="93" y="22"/>
                      <a:pt x="25" y="34"/>
                    </a:cubicBezTo>
                    <a:cubicBezTo>
                      <a:pt x="11" y="75"/>
                      <a:pt x="0" y="71"/>
                      <a:pt x="49" y="93"/>
                    </a:cubicBezTo>
                    <a:cubicBezTo>
                      <a:pt x="71" y="103"/>
                      <a:pt x="119" y="116"/>
                      <a:pt x="119" y="116"/>
                    </a:cubicBezTo>
                    <a:cubicBezTo>
                      <a:pt x="145" y="78"/>
                      <a:pt x="143" y="95"/>
                      <a:pt x="143" y="69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768760" y="6007680"/>
                <a:ext cx="59400" cy="115920"/>
              </a:xfrm>
              <a:custGeom>
                <a:avLst/>
                <a:gdLst/>
                <a:ahLst/>
                <a:rect l="l" t="t" r="r" b="b"/>
                <a:pathLst>
                  <a:path w="106" h="159">
                    <a:moveTo>
                      <a:pt x="0" y="46"/>
                    </a:moveTo>
                    <a:cubicBezTo>
                      <a:pt x="52" y="11"/>
                      <a:pt x="84" y="0"/>
                      <a:pt x="106" y="70"/>
                    </a:cubicBezTo>
                    <a:cubicBezTo>
                      <a:pt x="102" y="89"/>
                      <a:pt x="105" y="111"/>
                      <a:pt x="95" y="128"/>
                    </a:cubicBezTo>
                    <a:cubicBezTo>
                      <a:pt x="88" y="141"/>
                      <a:pt x="72" y="159"/>
                      <a:pt x="59" y="152"/>
                    </a:cubicBezTo>
                    <a:cubicBezTo>
                      <a:pt x="34" y="138"/>
                      <a:pt x="28" y="105"/>
                      <a:pt x="12" y="81"/>
                    </a:cubicBezTo>
                    <a:cubicBezTo>
                      <a:pt x="5" y="71"/>
                      <a:pt x="0" y="46"/>
                      <a:pt x="0" y="46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033360" y="5782680"/>
                <a:ext cx="75960" cy="77040"/>
              </a:xfrm>
              <a:custGeom>
                <a:avLst/>
                <a:gdLst/>
                <a:ahLst/>
                <a:rect l="l" t="t" r="r" b="b"/>
                <a:pathLst>
                  <a:path w="136" h="106">
                    <a:moveTo>
                      <a:pt x="43" y="82"/>
                    </a:moveTo>
                    <a:cubicBezTo>
                      <a:pt x="39" y="76"/>
                      <a:pt x="0" y="26"/>
                      <a:pt x="7" y="11"/>
                    </a:cubicBezTo>
                    <a:cubicBezTo>
                      <a:pt x="13" y="0"/>
                      <a:pt x="31" y="4"/>
                      <a:pt x="43" y="0"/>
                    </a:cubicBezTo>
                    <a:cubicBezTo>
                      <a:pt x="134" y="17"/>
                      <a:pt x="136" y="20"/>
                      <a:pt x="101" y="106"/>
                    </a:cubicBezTo>
                    <a:cubicBezTo>
                      <a:pt x="49" y="93"/>
                      <a:pt x="65" y="106"/>
                      <a:pt x="43" y="82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891520" y="5843160"/>
                <a:ext cx="88920" cy="78120"/>
              </a:xfrm>
              <a:custGeom>
                <a:avLst/>
                <a:gdLst/>
                <a:ahLst/>
                <a:rect l="l" t="t" r="r" b="b"/>
                <a:pathLst>
                  <a:path w="159" h="107">
                    <a:moveTo>
                      <a:pt x="76" y="71"/>
                    </a:moveTo>
                    <a:cubicBezTo>
                      <a:pt x="61" y="67"/>
                      <a:pt x="0" y="66"/>
                      <a:pt x="17" y="24"/>
                    </a:cubicBezTo>
                    <a:cubicBezTo>
                      <a:pt x="22" y="11"/>
                      <a:pt x="40" y="8"/>
                      <a:pt x="52" y="0"/>
                    </a:cubicBezTo>
                    <a:cubicBezTo>
                      <a:pt x="81" y="10"/>
                      <a:pt x="100" y="13"/>
                      <a:pt x="123" y="36"/>
                    </a:cubicBezTo>
                    <a:cubicBezTo>
                      <a:pt x="133" y="46"/>
                      <a:pt x="159" y="65"/>
                      <a:pt x="146" y="71"/>
                    </a:cubicBezTo>
                    <a:cubicBezTo>
                      <a:pt x="72" y="107"/>
                      <a:pt x="76" y="27"/>
                      <a:pt x="76" y="71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953800" y="5677920"/>
                <a:ext cx="81720" cy="96120"/>
              </a:xfrm>
              <a:custGeom>
                <a:avLst/>
                <a:gdLst/>
                <a:ahLst/>
                <a:rect l="l" t="t" r="r" b="b"/>
                <a:pathLst>
                  <a:path w="146" h="132">
                    <a:moveTo>
                      <a:pt x="70" y="62"/>
                    </a:moveTo>
                    <a:cubicBezTo>
                      <a:pt x="63" y="51"/>
                      <a:pt x="41" y="0"/>
                      <a:pt x="12" y="15"/>
                    </a:cubicBezTo>
                    <a:cubicBezTo>
                      <a:pt x="1" y="21"/>
                      <a:pt x="4" y="38"/>
                      <a:pt x="0" y="50"/>
                    </a:cubicBezTo>
                    <a:cubicBezTo>
                      <a:pt x="80" y="104"/>
                      <a:pt x="61" y="70"/>
                      <a:pt x="82" y="132"/>
                    </a:cubicBezTo>
                    <a:cubicBezTo>
                      <a:pt x="139" y="94"/>
                      <a:pt x="146" y="94"/>
                      <a:pt x="129" y="26"/>
                    </a:cubicBezTo>
                    <a:cubicBezTo>
                      <a:pt x="73" y="40"/>
                      <a:pt x="89" y="24"/>
                      <a:pt x="70" y="62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 rot="10800000">
                <a:off x="2656080" y="5991840"/>
                <a:ext cx="81720" cy="96120"/>
              </a:xfrm>
              <a:custGeom>
                <a:avLst/>
                <a:gdLst/>
                <a:ahLst/>
                <a:rect l="l" t="t" r="r" b="b"/>
                <a:pathLst>
                  <a:path w="146" h="132">
                    <a:moveTo>
                      <a:pt x="70" y="62"/>
                    </a:moveTo>
                    <a:cubicBezTo>
                      <a:pt x="63" y="51"/>
                      <a:pt x="41" y="0"/>
                      <a:pt x="12" y="15"/>
                    </a:cubicBezTo>
                    <a:cubicBezTo>
                      <a:pt x="1" y="21"/>
                      <a:pt x="4" y="38"/>
                      <a:pt x="0" y="50"/>
                    </a:cubicBezTo>
                    <a:cubicBezTo>
                      <a:pt x="80" y="104"/>
                      <a:pt x="61" y="70"/>
                      <a:pt x="82" y="132"/>
                    </a:cubicBezTo>
                    <a:cubicBezTo>
                      <a:pt x="139" y="94"/>
                      <a:pt x="146" y="94"/>
                      <a:pt x="129" y="26"/>
                    </a:cubicBezTo>
                    <a:cubicBezTo>
                      <a:pt x="73" y="40"/>
                      <a:pt x="89" y="24"/>
                      <a:pt x="70" y="62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>
              <a:hlinkClick r:id="" action="ppaction://hlinkshowjump?jump=previousslide"/>
            </p:cNvPr>
            <p:cNvSpPr/>
            <p:nvPr/>
          </p:nvSpPr>
          <p:spPr>
            <a:xfrm>
              <a:off x="2590920" y="5638680"/>
              <a:ext cx="609480" cy="609840"/>
            </a:xfrm>
            <a:custGeom>
              <a:avLst/>
              <a:gdLst>
                <a:gd name="textAreaLeft" fmla="*/ 39240 w 609480"/>
                <a:gd name="textAreaRight" fmla="*/ 570240 w 609480"/>
                <a:gd name="textAreaTop" fmla="*/ 39240 h 609840"/>
                <a:gd name="textAreaBottom" fmla="*/ 570600 h 609840"/>
              </a:gdLst>
              <a:ahLst/>
              <a:rect l="textAreaLeft" t="textAreaTop" r="textAreaRight" b="textAreaBottom"/>
              <a:pathLst>
                <a:path w="21600" h="21613">
                  <a:moveTo>
                    <a:pt x="0" y="0"/>
                  </a:moveTo>
                  <a:lnTo>
                    <a:pt x="21600" y="0"/>
                  </a:lnTo>
                  <a:lnTo>
                    <a:pt x="21600" y="21613"/>
                  </a:lnTo>
                  <a:lnTo>
                    <a:pt x="0" y="21613"/>
                  </a:lnTo>
                  <a:close/>
                </a:path>
                <a:path fill="lightenLess" w="21600" h="21613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3">
                  <a:moveTo>
                    <a:pt x="21600" y="0"/>
                  </a:moveTo>
                  <a:lnTo>
                    <a:pt x="21600" y="21613"/>
                  </a:lnTo>
                  <a:lnTo>
                    <a:pt x="20200" y="20213"/>
                  </a:lnTo>
                  <a:lnTo>
                    <a:pt x="20200" y="1400"/>
                  </a:lnTo>
                  <a:close/>
                </a:path>
                <a:path fill="darkenLess" w="21600" h="21613">
                  <a:moveTo>
                    <a:pt x="21600" y="21613"/>
                  </a:moveTo>
                  <a:lnTo>
                    <a:pt x="0" y="21613"/>
                  </a:lnTo>
                  <a:lnTo>
                    <a:pt x="1400" y="20213"/>
                  </a:lnTo>
                  <a:lnTo>
                    <a:pt x="20200" y="20213"/>
                  </a:lnTo>
                  <a:close/>
                </a:path>
                <a:path fill="lighten" w="21600" h="21613">
                  <a:moveTo>
                    <a:pt x="0" y="21613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04920" y="6172200"/>
            <a:ext cx="38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Il bruchino e la far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066680" y="5715000"/>
            <a:ext cx="914400" cy="533520"/>
            <a:chOff x="1066680" y="5715000"/>
            <a:chExt cx="914400" cy="533520"/>
          </a:xfrm>
        </p:grpSpPr>
        <p:grpSp>
          <p:nvGrpSpPr>
            <p:cNvPr id="62" name=""/>
            <p:cNvGrpSpPr/>
            <p:nvPr/>
          </p:nvGrpSpPr>
          <p:grpSpPr>
            <a:xfrm>
              <a:off x="1066680" y="5781240"/>
              <a:ext cx="846720" cy="333360"/>
              <a:chOff x="1066680" y="5781240"/>
              <a:chExt cx="846720" cy="33336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1066680" y="5781240"/>
                <a:ext cx="846720" cy="333360"/>
                <a:chOff x="1066680" y="5781240"/>
                <a:chExt cx="846720" cy="3333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1618920" y="5798520"/>
                  <a:ext cx="294480" cy="198000"/>
                </a:xfrm>
                <a:custGeom>
                  <a:avLst/>
                  <a:gdLst/>
                  <a:ahLst/>
                  <a:rect l="l" t="t" r="r" b="b"/>
                  <a:pathLst>
                    <a:path w="299" h="195">
                      <a:moveTo>
                        <a:pt x="162" y="195"/>
                      </a:moveTo>
                      <a:cubicBezTo>
                        <a:pt x="101" y="185"/>
                        <a:pt x="70" y="182"/>
                        <a:pt x="21" y="148"/>
                      </a:cubicBezTo>
                      <a:cubicBezTo>
                        <a:pt x="0" y="87"/>
                        <a:pt x="2" y="67"/>
                        <a:pt x="56" y="31"/>
                      </a:cubicBezTo>
                      <a:cubicBezTo>
                        <a:pt x="299" y="47"/>
                        <a:pt x="176" y="0"/>
                        <a:pt x="256" y="125"/>
                      </a:cubicBezTo>
                      <a:cubicBezTo>
                        <a:pt x="248" y="150"/>
                        <a:pt x="247" y="181"/>
                        <a:pt x="209" y="184"/>
                      </a:cubicBezTo>
                      <a:cubicBezTo>
                        <a:pt x="135" y="190"/>
                        <a:pt x="41" y="147"/>
                        <a:pt x="162" y="195"/>
                      </a:cubicBezTo>
                      <a:close/>
                    </a:path>
                  </a:pathLst>
                </a:custGeom>
                <a:solidFill>
                  <a:srgbClr val="99ff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"/>
                <p:cNvGrpSpPr/>
                <p:nvPr/>
              </p:nvGrpSpPr>
              <p:grpSpPr>
                <a:xfrm>
                  <a:off x="1066680" y="5781240"/>
                  <a:ext cx="693000" cy="333360"/>
                  <a:chOff x="1066680" y="5781240"/>
                  <a:chExt cx="693000" cy="33336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1546920" y="5781240"/>
                    <a:ext cx="21276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36">
                        <a:moveTo>
                          <a:pt x="188" y="106"/>
                        </a:moveTo>
                        <a:cubicBezTo>
                          <a:pt x="175" y="49"/>
                          <a:pt x="187" y="31"/>
                          <a:pt x="129" y="12"/>
                        </a:cubicBezTo>
                        <a:cubicBezTo>
                          <a:pt x="119" y="13"/>
                          <a:pt x="0" y="0"/>
                          <a:pt x="0" y="59"/>
                        </a:cubicBezTo>
                        <a:cubicBezTo>
                          <a:pt x="0" y="136"/>
                          <a:pt x="64" y="176"/>
                          <a:pt x="118" y="212"/>
                        </a:cubicBezTo>
                        <a:cubicBezTo>
                          <a:pt x="130" y="220"/>
                          <a:pt x="153" y="236"/>
                          <a:pt x="153" y="236"/>
                        </a:cubicBezTo>
                        <a:cubicBezTo>
                          <a:pt x="165" y="232"/>
                          <a:pt x="179" y="233"/>
                          <a:pt x="188" y="224"/>
                        </a:cubicBezTo>
                        <a:cubicBezTo>
                          <a:pt x="216" y="196"/>
                          <a:pt x="188" y="140"/>
                          <a:pt x="188" y="106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476720" y="5790240"/>
                    <a:ext cx="18504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30">
                        <a:moveTo>
                          <a:pt x="130" y="74"/>
                        </a:moveTo>
                        <a:cubicBezTo>
                          <a:pt x="126" y="58"/>
                          <a:pt x="133" y="32"/>
                          <a:pt x="118" y="27"/>
                        </a:cubicBezTo>
                        <a:cubicBezTo>
                          <a:pt x="38" y="0"/>
                          <a:pt x="29" y="31"/>
                          <a:pt x="0" y="74"/>
                        </a:cubicBezTo>
                        <a:cubicBezTo>
                          <a:pt x="13" y="137"/>
                          <a:pt x="19" y="156"/>
                          <a:pt x="71" y="192"/>
                        </a:cubicBezTo>
                        <a:cubicBezTo>
                          <a:pt x="79" y="204"/>
                          <a:pt x="82" y="223"/>
                          <a:pt x="95" y="227"/>
                        </a:cubicBezTo>
                        <a:cubicBezTo>
                          <a:pt x="103" y="230"/>
                          <a:pt x="166" y="207"/>
                          <a:pt x="177" y="203"/>
                        </a:cubicBezTo>
                        <a:cubicBezTo>
                          <a:pt x="151" y="78"/>
                          <a:pt x="188" y="104"/>
                          <a:pt x="130" y="74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1356480" y="5795280"/>
                    <a:ext cx="24408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210">
                        <a:moveTo>
                          <a:pt x="193" y="92"/>
                        </a:moveTo>
                        <a:cubicBezTo>
                          <a:pt x="139" y="12"/>
                          <a:pt x="173" y="31"/>
                          <a:pt x="111" y="10"/>
                        </a:cubicBezTo>
                        <a:cubicBezTo>
                          <a:pt x="80" y="14"/>
                          <a:pt x="39" y="0"/>
                          <a:pt x="17" y="22"/>
                        </a:cubicBezTo>
                        <a:cubicBezTo>
                          <a:pt x="0" y="39"/>
                          <a:pt x="23" y="69"/>
                          <a:pt x="28" y="92"/>
                        </a:cubicBezTo>
                        <a:cubicBezTo>
                          <a:pt x="44" y="167"/>
                          <a:pt x="113" y="193"/>
                          <a:pt x="181" y="210"/>
                        </a:cubicBezTo>
                        <a:cubicBezTo>
                          <a:pt x="193" y="206"/>
                          <a:pt x="207" y="206"/>
                          <a:pt x="217" y="198"/>
                        </a:cubicBezTo>
                        <a:cubicBezTo>
                          <a:pt x="248" y="174"/>
                          <a:pt x="248" y="152"/>
                          <a:pt x="217" y="128"/>
                        </a:cubicBezTo>
                        <a:cubicBezTo>
                          <a:pt x="207" y="120"/>
                          <a:pt x="188" y="127"/>
                          <a:pt x="181" y="116"/>
                        </a:cubicBezTo>
                        <a:cubicBezTo>
                          <a:pt x="176" y="109"/>
                          <a:pt x="189" y="100"/>
                          <a:pt x="193" y="92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1293480" y="5838840"/>
                    <a:ext cx="199800" cy="20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02">
                        <a:moveTo>
                          <a:pt x="139" y="38"/>
                        </a:moveTo>
                        <a:cubicBezTo>
                          <a:pt x="56" y="9"/>
                          <a:pt x="89" y="0"/>
                          <a:pt x="34" y="38"/>
                        </a:cubicBezTo>
                        <a:cubicBezTo>
                          <a:pt x="26" y="50"/>
                          <a:pt x="11" y="59"/>
                          <a:pt x="10" y="73"/>
                        </a:cubicBezTo>
                        <a:cubicBezTo>
                          <a:pt x="0" y="172"/>
                          <a:pt x="55" y="180"/>
                          <a:pt x="128" y="202"/>
                        </a:cubicBezTo>
                        <a:cubicBezTo>
                          <a:pt x="147" y="198"/>
                          <a:pt x="170" y="202"/>
                          <a:pt x="186" y="191"/>
                        </a:cubicBezTo>
                        <a:cubicBezTo>
                          <a:pt x="197" y="184"/>
                          <a:pt x="198" y="168"/>
                          <a:pt x="198" y="155"/>
                        </a:cubicBezTo>
                        <a:cubicBezTo>
                          <a:pt x="198" y="107"/>
                          <a:pt x="203" y="38"/>
                          <a:pt x="139" y="38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1190880" y="5865480"/>
                    <a:ext cx="16344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76">
                        <a:moveTo>
                          <a:pt x="185" y="70"/>
                        </a:moveTo>
                        <a:cubicBezTo>
                          <a:pt x="169" y="62"/>
                          <a:pt x="153" y="56"/>
                          <a:pt x="138" y="47"/>
                        </a:cubicBezTo>
                        <a:cubicBezTo>
                          <a:pt x="114" y="33"/>
                          <a:pt x="67" y="0"/>
                          <a:pt x="67" y="0"/>
                        </a:cubicBezTo>
                        <a:cubicBezTo>
                          <a:pt x="0" y="44"/>
                          <a:pt x="18" y="80"/>
                          <a:pt x="32" y="165"/>
                        </a:cubicBezTo>
                        <a:cubicBezTo>
                          <a:pt x="34" y="177"/>
                          <a:pt x="34" y="191"/>
                          <a:pt x="43" y="200"/>
                        </a:cubicBezTo>
                        <a:cubicBezTo>
                          <a:pt x="56" y="212"/>
                          <a:pt x="75" y="215"/>
                          <a:pt x="91" y="223"/>
                        </a:cubicBezTo>
                        <a:cubicBezTo>
                          <a:pt x="121" y="269"/>
                          <a:pt x="133" y="276"/>
                          <a:pt x="185" y="259"/>
                        </a:cubicBezTo>
                        <a:cubicBezTo>
                          <a:pt x="192" y="235"/>
                          <a:pt x="208" y="213"/>
                          <a:pt x="208" y="188"/>
                        </a:cubicBezTo>
                        <a:cubicBezTo>
                          <a:pt x="208" y="145"/>
                          <a:pt x="185" y="111"/>
                          <a:pt x="185" y="70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066680" y="5901120"/>
                    <a:ext cx="25020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210">
                        <a:moveTo>
                          <a:pt x="193" y="47"/>
                        </a:moveTo>
                        <a:cubicBezTo>
                          <a:pt x="181" y="39"/>
                          <a:pt x="171" y="30"/>
                          <a:pt x="158" y="24"/>
                        </a:cubicBezTo>
                        <a:cubicBezTo>
                          <a:pt x="135" y="14"/>
                          <a:pt x="87" y="0"/>
                          <a:pt x="87" y="0"/>
                        </a:cubicBezTo>
                        <a:cubicBezTo>
                          <a:pt x="0" y="30"/>
                          <a:pt x="41" y="119"/>
                          <a:pt x="87" y="165"/>
                        </a:cubicBezTo>
                        <a:cubicBezTo>
                          <a:pt x="109" y="187"/>
                          <a:pt x="130" y="191"/>
                          <a:pt x="158" y="200"/>
                        </a:cubicBezTo>
                        <a:cubicBezTo>
                          <a:pt x="185" y="196"/>
                          <a:pt x="224" y="210"/>
                          <a:pt x="240" y="188"/>
                        </a:cubicBezTo>
                        <a:cubicBezTo>
                          <a:pt x="254" y="168"/>
                          <a:pt x="222" y="142"/>
                          <a:pt x="217" y="118"/>
                        </a:cubicBezTo>
                        <a:cubicBezTo>
                          <a:pt x="213" y="98"/>
                          <a:pt x="211" y="78"/>
                          <a:pt x="205" y="59"/>
                        </a:cubicBezTo>
                        <a:cubicBezTo>
                          <a:pt x="203" y="54"/>
                          <a:pt x="197" y="51"/>
                          <a:pt x="193" y="47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2" name=""/>
              <p:cNvSpPr/>
              <p:nvPr/>
            </p:nvSpPr>
            <p:spPr>
              <a:xfrm>
                <a:off x="1776600" y="5878800"/>
                <a:ext cx="47160" cy="4860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>
              <a:hlinkClick r:id="" action="ppaction://hlinkshowjump?jump=nextslide"/>
            </p:cNvPr>
            <p:cNvSpPr/>
            <p:nvPr/>
          </p:nvSpPr>
          <p:spPr>
            <a:xfrm>
              <a:off x="1066680" y="5715000"/>
              <a:ext cx="914400" cy="533520"/>
            </a:xfrm>
            <a:custGeom>
              <a:avLst/>
              <a:gdLst>
                <a:gd name="textAreaLeft" fmla="*/ 34560 w 914400"/>
                <a:gd name="textAreaRight" fmla="*/ 879840 w 914400"/>
                <a:gd name="textAreaTop" fmla="*/ 34560 h 533520"/>
                <a:gd name="textAreaBottom" fmla="*/ 498960 h 533520"/>
              </a:gdLst>
              <a:ahLst/>
              <a:rect l="textAreaLeft" t="textAreaTop" r="textAreaRight" b="textAreaBottom"/>
              <a:pathLst>
                <a:path w="37010" h="21600">
                  <a:moveTo>
                    <a:pt x="0" y="0"/>
                  </a:moveTo>
                  <a:lnTo>
                    <a:pt x="37010" y="0"/>
                  </a:lnTo>
                  <a:lnTo>
                    <a:pt x="37010" y="21600"/>
                  </a:lnTo>
                  <a:lnTo>
                    <a:pt x="0" y="21600"/>
                  </a:lnTo>
                  <a:close/>
                </a:path>
                <a:path fill="lightenLess" w="37010" h="21600">
                  <a:moveTo>
                    <a:pt x="0" y="0"/>
                  </a:moveTo>
                  <a:lnTo>
                    <a:pt x="37010" y="0"/>
                  </a:lnTo>
                  <a:lnTo>
                    <a:pt x="35610" y="1400"/>
                  </a:lnTo>
                  <a:lnTo>
                    <a:pt x="1400" y="1400"/>
                  </a:lnTo>
                  <a:close/>
                </a:path>
                <a:path fill="darken" w="37010" h="21600">
                  <a:moveTo>
                    <a:pt x="37010" y="0"/>
                  </a:moveTo>
                  <a:lnTo>
                    <a:pt x="37010" y="21600"/>
                  </a:lnTo>
                  <a:lnTo>
                    <a:pt x="35610" y="20200"/>
                  </a:lnTo>
                  <a:lnTo>
                    <a:pt x="35610" y="1400"/>
                  </a:lnTo>
                  <a:close/>
                </a:path>
                <a:path fill="darkenLess" w="37010" h="21600">
                  <a:moveTo>
                    <a:pt x="3701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5610" y="20200"/>
                  </a:lnTo>
                  <a:close/>
                </a:path>
                <a:path fill="lighten" w="3701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4" name=""/>
          <p:cNvGraphicFramePr/>
          <p:nvPr/>
        </p:nvGraphicFramePr>
        <p:xfrm>
          <a:off x="-533520" y="-228600"/>
          <a:ext cx="10058400" cy="438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33520" y="-228600"/>
                    <a:ext cx="1005840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 flipV="1">
            <a:off x="609480" y="3969360"/>
            <a:ext cx="8229600" cy="1286280"/>
          </a:xfrm>
          <a:prstGeom prst="wedgeRoundRectCallout">
            <a:avLst>
              <a:gd name="adj1" fmla="val -1106"/>
              <a:gd name="adj2" fmla="val 106097"/>
              <a:gd name="adj3" fmla="val 16667"/>
            </a:avLst>
          </a:prstGeom>
          <a:solidFill>
            <a:srgbClr val="ff9900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Poi noi abbiamo registrato le nostre vo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e sei curioso di vedere il risultato clicca sui titoli delle storie.  Quando vuoi uscire clicca su F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467480" y="5638680"/>
            <a:ext cx="755640" cy="69228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5949720" y="5598360"/>
            <a:ext cx="752400" cy="667800"/>
            <a:chOff x="5949720" y="5598360"/>
            <a:chExt cx="752400" cy="667800"/>
          </a:xfrm>
        </p:grpSpPr>
        <p:sp>
          <p:nvSpPr>
            <p:cNvPr id="79" name=""/>
            <p:cNvSpPr/>
            <p:nvPr/>
          </p:nvSpPr>
          <p:spPr>
            <a:xfrm rot="12748200">
              <a:off x="6172560" y="5793480"/>
              <a:ext cx="464400" cy="37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2748200">
              <a:off x="5965920" y="5900400"/>
              <a:ext cx="49716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2748200">
              <a:off x="6125760" y="5706720"/>
              <a:ext cx="46404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2748200">
              <a:off x="6447600" y="584028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2748200">
              <a:off x="6318000" y="579780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rot="12748200">
              <a:off x="6234120" y="574452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2748200">
              <a:off x="6300360" y="607176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2748200">
              <a:off x="6160680" y="598284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2748200">
              <a:off x="6095160" y="590040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638680" y="6172200"/>
            <a:ext cx="312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5"/>
              </a:rPr>
              <a:t>L’ape e la coccin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5791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endshow"/>
            <a:hlinkClick r:id="rId6"/>
          </p:cNvPr>
          <p:cNvSpPr/>
          <p:nvPr/>
        </p:nvSpPr>
        <p:spPr>
          <a:xfrm>
            <a:off x="4038480" y="579132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15:59:06Z</dcterms:created>
  <dc:creator>Direzione Fiume Veneto</dc:creator>
  <dc:description/>
  <dc:language>en-US</dc:language>
  <cp:lastModifiedBy>Direzione Fiume Veneto</cp:lastModifiedBy>
  <dcterms:modified xsi:type="dcterms:W3CDTF">2001-03-14T15:23:01Z</dcterms:modified>
  <cp:revision>19</cp:revision>
  <dc:subject/>
  <dc:title>Nessun titolo diapositiva</dc:title>
</cp:coreProperties>
</file>